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367-C4D0-4AE3-A0CC-8252F8C0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B78-4DA9-42A9-AE4B-8AB21A47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20D-655D-4B15-B801-AC9C1AC0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377-2A81-46B9-8EA2-5F7302EC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311-CB3C-49CF-B34A-B782578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51D-8AFF-4751-BCDF-4F48298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091-4079-4133-90B4-E37D4BF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106-8D7E-4105-AF5B-90EC2D5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E09-8A42-4E6D-80A3-3609D37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10C-1699-4F2C-A008-4BD3DF1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6C2-C435-42E4-90D6-8552D81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EA2-9BD9-4DA8-AE34-F2DFBC2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928-CC99-439C-901E-A6D4B81CA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bamboo" descr=""/>
          <p:cNvPicPr/>
          <p:nvPr/>
        </p:nvPicPr>
        <p:blipFill>
          <a:blip r:embed="rId2">
            <a:lum bright="66000"/>
          </a:blip>
          <a:srcRect l="0" t="0" r="13799" b="0"/>
          <a:stretch/>
        </p:blipFill>
        <p:spPr>
          <a:xfrm>
            <a:off x="7315200" y="0"/>
            <a:ext cx="18288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quil"/>
              </a:rPr>
              <a:t>Manajemen Kritik</a:t>
            </a:r>
            <a:endParaRPr b="0" lang="en-US" sz="44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Nasihat Menasihatilah Kamu Dalam Kebaikan dan Kesabaran”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49" name="men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4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449" descr=""/>
          <p:cNvPicPr/>
          <p:nvPr/>
        </p:nvPicPr>
        <p:blipFill>
          <a:blip r:embed="rId1"/>
          <a:stretch/>
        </p:blipFill>
        <p:spPr>
          <a:xfrm>
            <a:off x="0" y="1455840"/>
            <a:ext cx="2243160" cy="441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Bukan Ancaman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penghin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ikut campur urusan pribad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motong pembicar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mbanding-banding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mbela musuhnya dan mencaci kaw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rusak kebahagia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gungkit masa lalu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gambil hak milik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ga diri dari nafsu dan amar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tertawak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ga penampilan (bau badan,mulut,kebersihan dll.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nhand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Menyenangkan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ajah yang selalu ceri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nyum tulus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ata-kata yang santun dan lembut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nang menyapa, penuh keramah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jadi teladan dengan kesopan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aling menghorm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lalu menyenangkan dan mententramkan perasaan, menjaga h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penampilan menar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emaaf  akan kesalahan dan memberikan solusi bagi kesulit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an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43864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Bermanfaat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ajin silaturahm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aling mengirimkan hadiah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olong menolong kepada kebaik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umbangan ilmu dan pengalam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80060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Khairunnas anfauhum linn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Manusia terbaik adalah mereka yang bermanfaat bagi orang 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anfaat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ik akan membuat kita 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perbaiki kinerja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etahui kelemahan dir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hu cara pandang orang lain tentang kita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hu sesuatu yang perlu diperbaik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ar akan keterbatasan yang kita milik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ikap kita terhadap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ngarkan dengan dengan penuh perhati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hami isi pembicara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gan membalas dengan maksud membela dir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gap kritikan sebagai proses dalam menjalankan pekerjaan sehari-har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hami bahwa kritik dikarenakan perbedaan persepsi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4 Tips Lapang Dada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angkan diri Anda ketika berada dalam posisi mengkritik orang lai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angkan sikap Anda saat mengkritik orang,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pan apa yang Anda inginkan saat melakukannya ?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arkan tanggapan ideal terhadap kritik yang mungkin Anda ajukan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ukan pertanyaan untuk menjelaskan posisi Anda saat dikritik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gan berasumsi Anda tahu persis apa yang dikritik orang lai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talah penjelasan, alasan yang dibutuhkan, hal ini mengindikasikan bahwa Anda ingin mengerti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lawan bicara Anda memahami pemahaman And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ilah apapun kebenaran yang ada dalam kritik tersebu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anya kebenaran selalu ada dalam setiap kriti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rkan, paham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Solus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 tahulah bagaimana merubah nilai negatif yang muncul menjadi positif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terima kasih kepada orang yang telah mengkritik Anda karena dia telah memberi Anda peluang untuk memperbaiki diri secara gratis!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kah ini mengkonfirmasika kemampuan Anda untuk bersikap obyektif dan profesional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njukkan Anda jujur dan terbuk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ignpost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209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abda Rasulullah Saw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uslim yang terbaik adalah muslim yang dengan muslim lainnya merasa aman dari gangguan lisan dan tangannya. (HR. Bukhari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idak akan masuk surga orang yang didalam hatinya ada kesombongan, meski sebesar biji sawi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asihat dan kritikan itu sedekah teramat berharga bagi setiap musli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What is …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anajemen berarti …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gelola, mengatur,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k berarti …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ecaman, tanggapan, pendapat, kadang disertai uraian kebaikan dan keburukan suatu hasil karya,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anajemen Kritik berarti …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uatu cara, pola, untuk mengemukakan pendapat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oses pengaturan kata, kalimat dalam menanggapi suatu pembicar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Tujuan Kritik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perbaiki kesalahan seseorang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ubah keadaan menjadi lebih ba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engkritik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gemukakan kritik, mengecam, berpendapat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Pengkritik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rang yang mengemukakan krit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ku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rang yang ahli dalam memberikan pertimbangan tentang baik – buruknya sesuatu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ifat selalu berusaha menemukan kesalahan atau kekeliruan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ajam dalam menganalisa/penganalisisan suatu ma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wl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276360" cy="3581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Kesalahan Dalam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asa teranca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upakan penghin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urunkan harga dir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permalukan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cemarkan nama ba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asa terte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akit h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endam denda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57" name="Angryfce" descr=""/>
          <p:cNvPicPr/>
          <p:nvPr/>
        </p:nvPicPr>
        <p:blipFill>
          <a:blip r:embed="rId2"/>
          <a:stretch/>
        </p:blipFill>
        <p:spPr>
          <a:xfrm>
            <a:off x="228600" y="316080"/>
            <a:ext cx="12193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76320" y="15228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Kritik bernilai positif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itu penting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kunci kesuksesan dan kemajua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membuka prestasi dan pengangkat derajat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adalah jalan untuk menjadi lebih ba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Cari dan Tany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lajar dari bertanya dengan orang lai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entukan orang yang tepat untuk menasihati  And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oreksi diri dari kejujuran mereka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Nikmati 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Persiapkan diri Anda untuk menerima koreksi (tidak selalu sesuai dengan keinginan Anda)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pernah berkomentar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memotong pembicaraan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membantah, tahan diri untuk diam dan tenang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lajarlah menjadi pendengar yang aktif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091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Syuku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ampakkan raut wajah yang tulus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Sungguh-sungguh menerima 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Penuh perhatia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terima kasih atas kritikanny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Sertakan namanya dalam doa-doa kit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Evaluasi 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ujurlah pada diri sen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ulislah kritik dan komentar yang diterim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cari kesalahan peng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doa kepada Allah agar kesalahan yang terjadi tak terulang,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terimakasihlah kepada mereka yang menyatakan apa yang salah dan menunjukkan mana yang benar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Perbaikan 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uat program perbaikan dengan komitmen dan niat yang ikhlas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doa kepada Allah agar diri kita Sabar, Ikhlas dan tetap Istiqam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Balas Bud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Dengan kritik, kita tahu kemampuan dan kesalahan kita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ikanlah rasa terima kasih kepada mereka yang telah memberikan kritik dan saran kepada kit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ebaikan datangnya dari Allah dan hanya milik All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esalahan dari manusia maka beristigfarl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ekanisme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dakalanya Kritik itu …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Isinya benar dan caranya benar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yukurlah dan berterimakasih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Isinya benar caranya 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yukurlah dan bersabarlah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3. Isinya salah namun caranya benar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afkanlah dan berterimakasih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4. Isinya salah caranya 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aafkan dan hadapi dengan kesabar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Doakan diri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Teknik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382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5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1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967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29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64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0680" y="20574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pa masalahny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30680" y="2652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napa harus di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2360" y="33386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pada siapa ? Bersediakah di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73520" y="410040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apan kondisi dan situasi yang tep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62360" y="47862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imana harus bicara/ meng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1960" y="5472000"/>
            <a:ext cx="648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agaimana susunan kata, kalimat yang tep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ikap kita terjaga dari  emosi, hawa nafsu, dan amar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38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N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1542960"/>
            <a:ext cx="958320" cy="4405320"/>
            <a:chOff x="1708200" y="1542960"/>
            <a:chExt cx="958320" cy="4405320"/>
          </a:xfrm>
        </p:grpSpPr>
        <p:sp>
          <p:nvSpPr>
            <p:cNvPr id="81" name=""/>
            <p:cNvSpPr/>
            <p:nvPr/>
          </p:nvSpPr>
          <p:spPr>
            <a:xfrm>
              <a:off x="1736640" y="222876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36640" y="282420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36640" y="351000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427212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6640" y="495792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0120" y="594828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08200" y="154296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30680" y="13716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khlas pada Al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0:01:48Z</dcterms:created>
  <dc:creator>Litbang</dc:creator>
  <dc:description/>
  <dc:language>en-US</dc:language>
  <cp:lastModifiedBy>User</cp:lastModifiedBy>
  <dcterms:modified xsi:type="dcterms:W3CDTF">2001-12-01T18:08:20Z</dcterms:modified>
  <cp:revision>9</cp:revision>
  <dc:subject/>
  <dc:title>Manajemen Kritik</dc:title>
</cp:coreProperties>
</file>