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670675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6494-32E8-460C-A5B0-C83F829E1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Harqui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8833-55DA-4F2C-9AB6-691E98034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Harqui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A900-9CC1-4914-A94F-4FD8193E9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Harqui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5CF0-6472-4142-802C-9D4F78046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Harqui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84EF-1C64-4166-B903-1832C6873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Harqui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10AD-8E92-4940-81D2-36EE3961D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Harqui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28DF-7E45-4902-82D1-1F8B52AA3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Harqui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C3F7-B08C-426B-BCB8-C9A41FF08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D702-183B-4D6D-9489-0A81733A2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Harqui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3C78-5AF2-4C98-8150-0ACC8F12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Harqui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15E4-FBEA-4290-B1A4-89A5A6DD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Harqui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C986-44A3-4F40-AB49-C90DA544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arqui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Harqui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empus Sans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empus Sans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empus Sans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5FF6B-A319-41F2-92FA-B1B461FCE0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fefe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fefe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fefe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fefe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" name="bamboo" descr=""/>
          <p:cNvPicPr/>
          <p:nvPr/>
        </p:nvPicPr>
        <p:blipFill>
          <a:blip r:embed="rId2">
            <a:lum bright="66000"/>
          </a:blip>
          <a:srcRect l="0" t="0" r="13799" b="0"/>
          <a:stretch/>
        </p:blipFill>
        <p:spPr>
          <a:xfrm>
            <a:off x="7315200" y="0"/>
            <a:ext cx="1828800" cy="6869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rquil"/>
              </a:rPr>
              <a:t>Manajemen Kritik</a:t>
            </a:r>
            <a:endParaRPr b="0" lang="en-US" sz="4400" spc="-1" strike="noStrike">
              <a:solidFill>
                <a:srgbClr val="000000"/>
              </a:solidFill>
              <a:latin typeface="Harqui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ittsburg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Pittsburg"/>
              </a:rPr>
              <a:t>Nasihat Menasihatilah Kamu Dalam Kebaikan dan Kesabaran”</a:t>
            </a:r>
            <a:endParaRPr b="0" lang="en-US" sz="40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49" name="men" descr=""/>
          <p:cNvPicPr/>
          <p:nvPr/>
        </p:nvPicPr>
        <p:blipFill>
          <a:blip r:embed="rId1"/>
          <a:stretch/>
        </p:blipFill>
        <p:spPr>
          <a:xfrm>
            <a:off x="2666880" y="1752480"/>
            <a:ext cx="37497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0449" descr=""/>
          <p:cNvPicPr/>
          <p:nvPr/>
        </p:nvPicPr>
        <p:blipFill>
          <a:blip r:embed="rId1"/>
          <a:stretch/>
        </p:blipFill>
        <p:spPr>
          <a:xfrm>
            <a:off x="0" y="1455840"/>
            <a:ext cx="2243160" cy="44114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320" y="-5335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arquil"/>
              </a:rPr>
              <a:t>Indahnya Persahabatan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Harquil"/>
              </a:rPr>
              <a:t>“Aku Bukan Ancaman Bagimu”</a:t>
            </a:r>
            <a:endParaRPr b="0" lang="en-US" sz="3200" spc="-1" strike="noStrike">
              <a:solidFill>
                <a:srgbClr val="000000"/>
              </a:solidFill>
              <a:latin typeface="Harqui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Hindari penghinaan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marL="322200" indent="-322200" algn="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Hindari ikut campur urusan pribadi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marL="322200" indent="-322200" algn="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Hindari memotong pembicaraan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marL="322200" indent="-322200" algn="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Hindari membanding-bandingkan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marL="322200" indent="-322200" algn="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Jangan membela musuhnya dan mencaci kawannya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marL="322200" indent="-322200" algn="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Hindari merusak kebahagiaannya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marL="322200" indent="-322200" algn="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Jangan mengungkit masa lalu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marL="322200" indent="-322200" algn="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Jangan mengambil hak miliknya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marL="322200" indent="-322200" algn="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Jaga diri dari nafsu dan amarah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marL="322200" indent="-322200" algn="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Jangan mentertawakannya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marL="322200" indent="-322200" algn="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Jaga penampilan (bau badan,mulut,kebersihan dll.)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Manhand" descr=""/>
          <p:cNvPicPr/>
          <p:nvPr/>
        </p:nvPicPr>
        <p:blipFill>
          <a:blip r:embed="rId1"/>
          <a:stretch/>
        </p:blipFill>
        <p:spPr>
          <a:xfrm>
            <a:off x="5715000" y="1600200"/>
            <a:ext cx="2895480" cy="33526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arquil"/>
              </a:rPr>
              <a:t>Indahnya Persahabatan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Harquil"/>
              </a:rPr>
              <a:t>“Aku Menyenangkan Bagimu”</a:t>
            </a:r>
            <a:endParaRPr b="0" lang="en-US" sz="3200" spc="-1" strike="noStrike">
              <a:solidFill>
                <a:srgbClr val="000000"/>
              </a:solidFill>
              <a:latin typeface="Harqui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Wajah yang selalu ceria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Senyum tulus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Kata-kata yang santun dan lembut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Senang menyapa, penuh keramahan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Menjadi teladan dengan kesopanan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Saling menghormati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Selalu menyenangkan dan mententramkan perasaan, menjaga hati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Berpenampilan menarik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Pemaaf  akan kesalahan dan memberikan solusi bagi kesulitan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Man2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2438640" cy="35812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arquil"/>
              </a:rPr>
              <a:t>Indahnya Persahabatan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Harquil"/>
              </a:rPr>
              <a:t>“Aku Bermanfaat Bagimu”</a:t>
            </a:r>
            <a:endParaRPr b="0" lang="en-US" sz="3200" spc="-1" strike="noStrike">
              <a:solidFill>
                <a:srgbClr val="000000"/>
              </a:solidFill>
              <a:latin typeface="Harqui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Rajin silaturahmi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Saling mengirimkan hadiah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Tolong menolong kepada kebaikan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Sumbangan ilmu dan pengalaman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98" name=""/>
          <p:cNvSpPr/>
          <p:nvPr/>
        </p:nvSpPr>
        <p:spPr>
          <a:xfrm>
            <a:off x="990720" y="4800600"/>
            <a:ext cx="73152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ittsburg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Pittsburg"/>
              </a:rPr>
              <a:t>Khairunnas anfauhum linnas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ittsburg"/>
              </a:rPr>
              <a:t>Manusia terbaik adalah mereka yang bermanfaat bagi orang l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arquil"/>
              </a:rPr>
              <a:t>Manfaat Kritik</a:t>
            </a:r>
            <a:endParaRPr b="0" lang="en-US" sz="4000" spc="-1" strike="noStrike">
              <a:solidFill>
                <a:srgbClr val="000000"/>
              </a:solidFill>
              <a:latin typeface="Harqui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itik akan membuat kita …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perbaiki kinerja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getahui kelemahan diri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hu cara pandang orang lain tentang kita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hu sesuatu yang perlu diperbaiki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dar akan keterbatasan yang kita miliki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arquil"/>
              </a:rPr>
              <a:t>Sikap kita terhadap Kritik</a:t>
            </a:r>
            <a:endParaRPr b="0" lang="en-US" sz="4000" spc="-1" strike="noStrike">
              <a:solidFill>
                <a:srgbClr val="000000"/>
              </a:solidFill>
              <a:latin typeface="Harqui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dengarkan dengan dengan penuh perhatian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ahami isi pembicaraan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ngan membalas dengan maksud membela diri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ggap kritikan sebagai proses dalam menjalankan pekerjaan sehari-hari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hami bahwa kritik dikarenakan perbedaan persepsi 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arquil"/>
              </a:rPr>
              <a:t>4 Tips Lapang Dada</a:t>
            </a:r>
            <a:endParaRPr b="0" lang="en-US" sz="4000" spc="-1" strike="noStrike">
              <a:solidFill>
                <a:srgbClr val="000000"/>
              </a:solidFill>
              <a:latin typeface="Harqui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yangkan diri Anda ketika berada dalam posisi mengkritik orang lain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yangkan sikap Anda saat mengkritik orang,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apan apa yang Anda inginkan saat melakukannya ?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mbarkan tanggapan ideal terhadap kritik yang mungkin Anda ajukan.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Harqui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ukan pertanyaan untuk menjelaskan posisi Anda saat dikritik.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ngan berasumsi Anda tahu persis apa yang dikritik orang lain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talah penjelasan, alasan yang dibutuhkan, hal ini mengindikasikan bahwa Anda ingin mengerti.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hatikan lawan bicara Anda memahami pemahaman Anda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Harqui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kuilah apapun kebenaran yang ada dalam kritik tersebut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asanya kebenaran selalu ada dalam setiap kritikan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ngarkan, pahami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Harqui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ilah Solusi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i tahulah bagaimana merubah nilai negatif yang muncul menjadi positif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lvl="1" marL="60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marL="277560" indent="-2775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rterima kasih kepada orang yang telah mengkritik Anda karena dia telah memberi Anda peluang untuk memperbaiki diri secara gratis!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gkah ini mengkonfirmasika kemampuan Anda untuk bersikap obyektif dan profesional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njukkan Anda jujur dan terbuka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lvl="1" marL="60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signpost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2209680" cy="5715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524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arquil"/>
              </a:rPr>
              <a:t>Sabda Rasulullah Saw</a:t>
            </a:r>
            <a:endParaRPr b="0" lang="en-US" sz="4000" spc="-1" strike="noStrike">
              <a:solidFill>
                <a:srgbClr val="000000"/>
              </a:solidFill>
              <a:latin typeface="Harqui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716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Muslim yang terbaik adalah muslim yang dengan muslim lainnya merasa aman dari gangguan lisan dan tangannya. (HR. Bukhari)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Tidak akan masuk surga orang yang didalam hatinya ada kesombongan, meski sebesar biji sawi.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Nasihat dan kritikan itu sedekah teramat berharga bagi setiap muslim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arquil"/>
              </a:rPr>
              <a:t>What is …</a:t>
            </a:r>
            <a:endParaRPr b="0" lang="en-US" sz="4000" spc="-1" strike="noStrike">
              <a:solidFill>
                <a:srgbClr val="000000"/>
              </a:solidFill>
              <a:latin typeface="Harqui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380520"/>
            <a:ext cx="861048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arqui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arquil"/>
              </a:rPr>
              <a:t>Manajemen berarti …</a:t>
            </a: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Mengelola, mengatur, 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arqui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arquil"/>
              </a:rPr>
              <a:t>Kritik berarti …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Kecaman, tanggapan, pendapat, kadang disertai uraian kebaikan dan keburukan suatu hasil karya,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arqui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arquil"/>
              </a:rPr>
              <a:t>Manajemen Kritik berarti …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Suatu cara, pola, untuk mengemukakan pendapat 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Proses pengaturan kata, kalimat dalam menanggapi suatu pembicaraan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arqui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arquil"/>
              </a:rPr>
              <a:t>Tujuan Kritik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Memperbaiki kesalahan seseorang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Merubah keadaan menjadi lebih baik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arquil"/>
              </a:rPr>
              <a:t>Mengkritik</a:t>
            </a:r>
            <a:endParaRPr b="0" lang="en-US" sz="4000" spc="-1" strike="noStrike">
              <a:solidFill>
                <a:srgbClr val="000000"/>
              </a:solidFill>
              <a:latin typeface="Harqui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066320"/>
            <a:ext cx="8610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arqui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arquil"/>
              </a:rPr>
              <a:t>Mengkritik 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Mengemukakan kritik, mengecam, berpendapat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arqui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arquil"/>
              </a:rPr>
              <a:t>Pengkritik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Orang yang mengemukakan kritik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arqui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arquil"/>
              </a:rPr>
              <a:t>Kritikus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Orang yang ahli dalam memberikan pertimbangan tentang baik – buruknya sesuatu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arqui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arquil"/>
              </a:rPr>
              <a:t>Kritis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Bersifat selalu berusaha menemukan kesalahan atau kekeliruan 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Tajam dalam menganalisa/penganalisisan suatu masalah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Bawl" descr=""/>
          <p:cNvPicPr/>
          <p:nvPr/>
        </p:nvPicPr>
        <p:blipFill>
          <a:blip r:embed="rId1"/>
          <a:stretch/>
        </p:blipFill>
        <p:spPr>
          <a:xfrm>
            <a:off x="5105520" y="2438280"/>
            <a:ext cx="3276360" cy="35816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52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arquil"/>
              </a:rPr>
              <a:t>Kesalahan Dalam Mengkritik</a:t>
            </a:r>
            <a:endParaRPr b="0" lang="en-US" sz="4000" spc="-1" strike="noStrike">
              <a:solidFill>
                <a:srgbClr val="000000"/>
              </a:solidFill>
              <a:latin typeface="Harqui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Merasa terancam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Merupakan penghinaan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Menurunkan harga diri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Mempermalukan 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Mencemarkan nama baik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Merasa tertekan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Sakit hati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Memendam dendam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57" name="Angryfce" descr=""/>
          <p:cNvPicPr/>
          <p:nvPr/>
        </p:nvPicPr>
        <p:blipFill>
          <a:blip r:embed="rId2"/>
          <a:stretch/>
        </p:blipFill>
        <p:spPr>
          <a:xfrm>
            <a:off x="228600" y="316080"/>
            <a:ext cx="1219320" cy="10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arquil"/>
              </a:rPr>
              <a:t>Seni Mengkritik</a:t>
            </a:r>
            <a:endParaRPr b="0" lang="en-US" sz="4000" spc="-1" strike="noStrike">
              <a:solidFill>
                <a:srgbClr val="000000"/>
              </a:solidFill>
              <a:latin typeface="Harqui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76320" y="152280"/>
            <a:ext cx="86868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arqui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Harquil"/>
              </a:rPr>
              <a:t>Kritik bernilai positif</a:t>
            </a:r>
            <a:endParaRPr b="0" lang="en-US" sz="2500" spc="-1" strike="noStrike">
              <a:solidFill>
                <a:srgbClr val="000000"/>
              </a:solidFill>
              <a:latin typeface="Tempus Sans ITC"/>
            </a:endParaRPr>
          </a:p>
          <a:p>
            <a:pPr lvl="1" marL="720720" indent="-277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empus Sans ITC"/>
              </a:rPr>
              <a:t>Kritik itu penting</a:t>
            </a:r>
            <a:endParaRPr b="0" lang="en-US" sz="2500" spc="-1" strike="noStrike">
              <a:solidFill>
                <a:srgbClr val="000000"/>
              </a:solidFill>
              <a:latin typeface="Tempus Sans ITC"/>
            </a:endParaRPr>
          </a:p>
          <a:p>
            <a:pPr lvl="1" marL="720720" indent="-277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empus Sans ITC"/>
              </a:rPr>
              <a:t>Kritik kunci kesuksesan dan kemajuan</a:t>
            </a:r>
            <a:endParaRPr b="0" lang="en-US" sz="2500" spc="-1" strike="noStrike">
              <a:solidFill>
                <a:srgbClr val="000000"/>
              </a:solidFill>
              <a:latin typeface="Tempus Sans ITC"/>
            </a:endParaRPr>
          </a:p>
          <a:p>
            <a:pPr lvl="1" marL="720720" indent="-277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empus Sans ITC"/>
              </a:rPr>
              <a:t>Kritik membuka prestasi dan pengangkat derajat</a:t>
            </a:r>
            <a:endParaRPr b="0" lang="en-US" sz="2500" spc="-1" strike="noStrike">
              <a:solidFill>
                <a:srgbClr val="000000"/>
              </a:solidFill>
              <a:latin typeface="Tempus Sans ITC"/>
            </a:endParaRPr>
          </a:p>
          <a:p>
            <a:pPr lvl="1" marL="720720" indent="-277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empus Sans ITC"/>
              </a:rPr>
              <a:t>Kritik adalah jalan untuk menjadi lebih baik</a:t>
            </a:r>
            <a:endParaRPr b="0" lang="en-US" sz="2500" spc="-1" strike="noStrike">
              <a:solidFill>
                <a:srgbClr val="000000"/>
              </a:solidFill>
              <a:latin typeface="Tempus Sans ITC"/>
            </a:endParaRPr>
          </a:p>
          <a:p>
            <a:pPr marL="332640" indent="-3326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arqui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Harquil"/>
              </a:rPr>
              <a:t>Cari dan Tanya</a:t>
            </a:r>
            <a:endParaRPr b="0" lang="en-US" sz="2500" spc="-1" strike="noStrike">
              <a:solidFill>
                <a:srgbClr val="000000"/>
              </a:solidFill>
              <a:latin typeface="Tempus Sans ITC"/>
            </a:endParaRPr>
          </a:p>
          <a:p>
            <a:pPr lvl="1" marL="720720" indent="-277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empus Sans ITC"/>
              </a:rPr>
              <a:t>Belajar dari bertanya dengan orang lain</a:t>
            </a:r>
            <a:endParaRPr b="0" lang="en-US" sz="2500" spc="-1" strike="noStrike">
              <a:solidFill>
                <a:srgbClr val="000000"/>
              </a:solidFill>
              <a:latin typeface="Tempus Sans ITC"/>
            </a:endParaRPr>
          </a:p>
          <a:p>
            <a:pPr lvl="1" marL="720720" indent="-277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empus Sans ITC"/>
              </a:rPr>
              <a:t>Tentukan orang yang tepat untuk menasihati  Anda</a:t>
            </a:r>
            <a:endParaRPr b="0" lang="en-US" sz="2500" spc="-1" strike="noStrike">
              <a:solidFill>
                <a:srgbClr val="000000"/>
              </a:solidFill>
              <a:latin typeface="Tempus Sans ITC"/>
            </a:endParaRPr>
          </a:p>
          <a:p>
            <a:pPr lvl="1" marL="720720" indent="-277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empus Sans ITC"/>
              </a:rPr>
              <a:t>Koreksi diri dari kejujuran mereka </a:t>
            </a:r>
            <a:endParaRPr b="0" lang="en-US" sz="2500" spc="-1" strike="noStrike">
              <a:solidFill>
                <a:srgbClr val="000000"/>
              </a:solidFill>
              <a:latin typeface="Tempus Sans ITC"/>
            </a:endParaRPr>
          </a:p>
          <a:p>
            <a:pPr marL="332640" indent="-3326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arqui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Harquil"/>
              </a:rPr>
              <a:t>Nikmati Kritik</a:t>
            </a:r>
            <a:endParaRPr b="0" lang="en-US" sz="2500" spc="-1" strike="noStrike">
              <a:solidFill>
                <a:srgbClr val="000000"/>
              </a:solidFill>
              <a:latin typeface="Tempus Sans ITC"/>
            </a:endParaRPr>
          </a:p>
          <a:p>
            <a:pPr lvl="1" marL="720720" indent="-277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empus Sans ITC"/>
              </a:rPr>
              <a:t>Persiapkan diri Anda untuk menerima koreksi (tidak selalu sesuai dengan keinginan Anda)</a:t>
            </a:r>
            <a:endParaRPr b="0" lang="en-US" sz="2500" spc="-1" strike="noStrike">
              <a:solidFill>
                <a:srgbClr val="000000"/>
              </a:solidFill>
              <a:latin typeface="Tempus Sans ITC"/>
            </a:endParaRPr>
          </a:p>
          <a:p>
            <a:pPr lvl="1" marL="720720" indent="-277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empus Sans ITC"/>
              </a:rPr>
              <a:t>Jangan pernah berkomentar</a:t>
            </a:r>
            <a:endParaRPr b="0" lang="en-US" sz="2500" spc="-1" strike="noStrike">
              <a:solidFill>
                <a:srgbClr val="000000"/>
              </a:solidFill>
              <a:latin typeface="Tempus Sans ITC"/>
            </a:endParaRPr>
          </a:p>
          <a:p>
            <a:pPr lvl="1" marL="720720" indent="-277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empus Sans ITC"/>
              </a:rPr>
              <a:t>Jangan memotong pembicaraan </a:t>
            </a:r>
            <a:endParaRPr b="0" lang="en-US" sz="2500" spc="-1" strike="noStrike">
              <a:solidFill>
                <a:srgbClr val="000000"/>
              </a:solidFill>
              <a:latin typeface="Tempus Sans ITC"/>
            </a:endParaRPr>
          </a:p>
          <a:p>
            <a:pPr lvl="1" marL="720720" indent="-277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empus Sans ITC"/>
              </a:rPr>
              <a:t>Jangan membantah, tahan diri untuk diam dan tenang</a:t>
            </a:r>
            <a:endParaRPr b="0" lang="en-US" sz="2500" spc="-1" strike="noStrike">
              <a:solidFill>
                <a:srgbClr val="000000"/>
              </a:solidFill>
              <a:latin typeface="Tempus Sans ITC"/>
            </a:endParaRPr>
          </a:p>
          <a:p>
            <a:pPr lvl="1" marL="720720" indent="-277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empus Sans ITC"/>
              </a:rPr>
              <a:t>Belajarlah menjadi pendengar yang aktif</a:t>
            </a:r>
            <a:endParaRPr b="0" lang="en-US" sz="2500" spc="-1" strike="noStrike">
              <a:solidFill>
                <a:srgbClr val="000000"/>
              </a:solidFill>
              <a:latin typeface="Tempus Sans ITC"/>
            </a:endParaRPr>
          </a:p>
          <a:p>
            <a:pPr lvl="1" marL="7207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arquil"/>
              </a:rPr>
              <a:t>Seni Mengkritik</a:t>
            </a:r>
            <a:endParaRPr b="0" lang="en-US" sz="4000" spc="-1" strike="noStrike">
              <a:solidFill>
                <a:srgbClr val="000000"/>
              </a:solidFill>
              <a:latin typeface="Harqui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320" y="609120"/>
            <a:ext cx="899136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Harqui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Harquil"/>
              </a:rPr>
              <a:t>Syukuri</a:t>
            </a:r>
            <a:endParaRPr b="0" lang="en-US" sz="2500" spc="-1" strike="noStrike">
              <a:solidFill>
                <a:srgbClr val="000000"/>
              </a:solidFill>
              <a:latin typeface="Tempus Sans ITC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empus Sans ITC"/>
              </a:rPr>
              <a:t>Tampakkan raut wajah yang tulus</a:t>
            </a:r>
            <a:endParaRPr b="0" lang="en-US" sz="2500" spc="-1" strike="noStrike">
              <a:solidFill>
                <a:srgbClr val="000000"/>
              </a:solidFill>
              <a:latin typeface="Tempus Sans ITC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empus Sans ITC"/>
              </a:rPr>
              <a:t>Sungguh-sungguh menerima kritik</a:t>
            </a:r>
            <a:endParaRPr b="0" lang="en-US" sz="2500" spc="-1" strike="noStrike">
              <a:solidFill>
                <a:srgbClr val="000000"/>
              </a:solidFill>
              <a:latin typeface="Tempus Sans ITC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empus Sans ITC"/>
              </a:rPr>
              <a:t>Penuh perhatian</a:t>
            </a:r>
            <a:endParaRPr b="0" lang="en-US" sz="2500" spc="-1" strike="noStrike">
              <a:solidFill>
                <a:srgbClr val="000000"/>
              </a:solidFill>
              <a:latin typeface="Tempus Sans ITC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empus Sans ITC"/>
              </a:rPr>
              <a:t>Berterima kasih atas kritikannya</a:t>
            </a:r>
            <a:endParaRPr b="0" lang="en-US" sz="2500" spc="-1" strike="noStrike">
              <a:solidFill>
                <a:srgbClr val="000000"/>
              </a:solidFill>
              <a:latin typeface="Tempus Sans ITC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empus Sans ITC"/>
              </a:rPr>
              <a:t>Sertakan namanya dalam doa-doa kita</a:t>
            </a:r>
            <a:endParaRPr b="0" lang="en-US" sz="25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Harqui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Harquil"/>
              </a:rPr>
              <a:t>Evaluasi Diri</a:t>
            </a:r>
            <a:endParaRPr b="0" lang="en-US" sz="2500" spc="-1" strike="noStrike">
              <a:solidFill>
                <a:srgbClr val="000000"/>
              </a:solidFill>
              <a:latin typeface="Tempus Sans ITC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empus Sans ITC"/>
              </a:rPr>
              <a:t>Jujurlah pada diri sendiri</a:t>
            </a:r>
            <a:endParaRPr b="0" lang="en-US" sz="2500" spc="-1" strike="noStrike">
              <a:solidFill>
                <a:srgbClr val="000000"/>
              </a:solidFill>
              <a:latin typeface="Tempus Sans ITC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empus Sans ITC"/>
              </a:rPr>
              <a:t>Tulislah kritik dan komentar yang diterima</a:t>
            </a:r>
            <a:endParaRPr b="0" lang="en-US" sz="2500" spc="-1" strike="noStrike">
              <a:solidFill>
                <a:srgbClr val="000000"/>
              </a:solidFill>
              <a:latin typeface="Tempus Sans ITC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empus Sans ITC"/>
              </a:rPr>
              <a:t>Jangan cari kesalahan pengkritik</a:t>
            </a:r>
            <a:endParaRPr b="0" lang="en-US" sz="2500" spc="-1" strike="noStrike">
              <a:solidFill>
                <a:srgbClr val="000000"/>
              </a:solidFill>
              <a:latin typeface="Tempus Sans ITC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empus Sans ITC"/>
              </a:rPr>
              <a:t>Berdoa kepada Allah agar kesalahan yang terjadi tak terulang, </a:t>
            </a:r>
            <a:endParaRPr b="0" lang="en-US" sz="2500" spc="-1" strike="noStrike">
              <a:solidFill>
                <a:srgbClr val="000000"/>
              </a:solidFill>
              <a:latin typeface="Tempus Sans ITC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empus Sans ITC"/>
              </a:rPr>
              <a:t>Berterimakasihlah kepada mereka yang menyatakan apa yang salah dan menunjukkan mana yang benar</a:t>
            </a:r>
            <a:endParaRPr b="0" lang="en-US" sz="2500" spc="-1" strike="noStrike">
              <a:solidFill>
                <a:srgbClr val="000000"/>
              </a:solidFill>
              <a:latin typeface="Tempus Sans ITC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arquil"/>
              </a:rPr>
              <a:t>Seni Mengkritik</a:t>
            </a:r>
            <a:endParaRPr b="0" lang="en-US" sz="4000" spc="-1" strike="noStrike">
              <a:solidFill>
                <a:srgbClr val="000000"/>
              </a:solidFill>
              <a:latin typeface="Harqui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arqui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Harquil"/>
              </a:rPr>
              <a:t>Perbaikan Diri</a:t>
            </a:r>
            <a:endParaRPr b="0" lang="en-US" sz="2500" spc="-1" strike="noStrike">
              <a:solidFill>
                <a:srgbClr val="000000"/>
              </a:solidFill>
              <a:latin typeface="Tempus Sans ITC"/>
            </a:endParaRPr>
          </a:p>
          <a:p>
            <a:pPr lvl="1" marL="705600" indent="-2714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empus Sans ITC"/>
              </a:rPr>
              <a:t>Buat program perbaikan dengan komitmen dan niat yang ikhlas</a:t>
            </a:r>
            <a:endParaRPr b="0" lang="en-US" sz="2500" spc="-1" strike="noStrike">
              <a:solidFill>
                <a:srgbClr val="000000"/>
              </a:solidFill>
              <a:latin typeface="Tempus Sans ITC"/>
            </a:endParaRPr>
          </a:p>
          <a:p>
            <a:pPr lvl="1" marL="705600" indent="-2714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empus Sans ITC"/>
              </a:rPr>
              <a:t>Berdoa kepada Allah agar diri kita Sabar, Ikhlas dan tetap Istiqamah</a:t>
            </a:r>
            <a:endParaRPr b="0" lang="en-US" sz="2500" spc="-1" strike="noStrike">
              <a:solidFill>
                <a:srgbClr val="000000"/>
              </a:solidFill>
              <a:latin typeface="Tempus Sans ITC"/>
            </a:endParaRPr>
          </a:p>
          <a:p>
            <a:pPr marL="325800" indent="-3258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arqui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Harquil"/>
              </a:rPr>
              <a:t>Balas Budi</a:t>
            </a:r>
            <a:endParaRPr b="0" lang="en-US" sz="2500" spc="-1" strike="noStrike">
              <a:solidFill>
                <a:srgbClr val="000000"/>
              </a:solidFill>
              <a:latin typeface="Tempus Sans ITC"/>
            </a:endParaRPr>
          </a:p>
          <a:p>
            <a:pPr lvl="1" marL="705600" indent="-2714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empus Sans ITC"/>
              </a:rPr>
              <a:t>Dengan kritik, kita tahu kemampuan dan kesalahan kita </a:t>
            </a:r>
            <a:endParaRPr b="0" lang="en-US" sz="2500" spc="-1" strike="noStrike">
              <a:solidFill>
                <a:srgbClr val="000000"/>
              </a:solidFill>
              <a:latin typeface="Tempus Sans ITC"/>
            </a:endParaRPr>
          </a:p>
          <a:p>
            <a:pPr lvl="1" marL="705600" indent="-2714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empus Sans ITC"/>
              </a:rPr>
              <a:t>Berikanlah rasa terima kasih kepada mereka yang telah memberikan kritik dan saran kepada kita</a:t>
            </a:r>
            <a:endParaRPr b="0" lang="en-US" sz="2500" spc="-1" strike="noStrike">
              <a:solidFill>
                <a:srgbClr val="000000"/>
              </a:solidFill>
              <a:latin typeface="Tempus Sans ITC"/>
            </a:endParaRPr>
          </a:p>
          <a:p>
            <a:pPr lvl="1" marL="705600" indent="-2714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empus Sans ITC"/>
              </a:rPr>
              <a:t>Kebaikan datangnya dari Allah dan hanya milik Allah</a:t>
            </a:r>
            <a:endParaRPr b="0" lang="en-US" sz="2500" spc="-1" strike="noStrike">
              <a:solidFill>
                <a:srgbClr val="000000"/>
              </a:solidFill>
              <a:latin typeface="Tempus Sans ITC"/>
            </a:endParaRPr>
          </a:p>
          <a:p>
            <a:pPr lvl="1" marL="705600" indent="-2714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empus Sans ITC"/>
              </a:rPr>
              <a:t>Kesalahan dari manusia maka beristigfarlah</a:t>
            </a:r>
            <a:endParaRPr b="0" lang="en-US" sz="2500" spc="-1" strike="noStrike">
              <a:solidFill>
                <a:srgbClr val="000000"/>
              </a:solidFill>
              <a:latin typeface="Tempus Sans ITC"/>
            </a:endParaRPr>
          </a:p>
          <a:p>
            <a:pPr marL="325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empus Sans ITC"/>
            </a:endParaRPr>
          </a:p>
          <a:p>
            <a:pPr lvl="1" marL="7056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arquil"/>
              </a:rPr>
              <a:t>Mekanisme Kritik</a:t>
            </a:r>
            <a:endParaRPr b="0" lang="en-US" sz="4000" spc="-1" strike="noStrike">
              <a:solidFill>
                <a:srgbClr val="000000"/>
              </a:solidFill>
              <a:latin typeface="Harqui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Adakalanya Kritik itu …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lvl="1" marL="905040" indent="-452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Isinya benar dan caranya benar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lvl="2" marL="1282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Bersyukurlah dan berterimakasihlah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lvl="1" marL="905040" indent="-452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Isinya benar caranya salah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lvl="1" marL="905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Bersyukurlah dan bersabarlah 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lvl="1" marL="905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3. Isinya salah namun caranya benar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lvl="2" marL="1282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Maafkanlah dan berterimakasihlah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lvl="1" marL="905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4. Isinya salah caranya salah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lvl="2" marL="1282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Memaafkan dan hadapi dengan kesabaran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lvl="2" marL="1282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Doakan dirinya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arquil"/>
              </a:rPr>
              <a:t>Teknik Mengkritik</a:t>
            </a:r>
            <a:endParaRPr b="0" lang="en-US" sz="4000" spc="-1" strike="noStrike">
              <a:solidFill>
                <a:srgbClr val="000000"/>
              </a:solidFill>
              <a:latin typeface="Harqui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93824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ormalistScript-Regular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5956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ormalistScript-Regular"/>
              </a:rPr>
              <a:t>W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2814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ormalistScript-Regular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9672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ormalistScript-Regular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472932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ormalistScript-Regular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564372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ormalistScript-Regular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0680" y="2057400"/>
            <a:ext cx="62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Apa masalahnya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30680" y="2652840"/>
            <a:ext cx="62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Kenapa harus dikritik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62360" y="3338640"/>
            <a:ext cx="62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Kepada siapa ? Bersediakah dikritik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73520" y="4100400"/>
            <a:ext cx="677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Kapan kondisi dan situasi yang tepat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62360" y="4786200"/>
            <a:ext cx="62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Dimana harus bicara/ mengkritik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901960" y="5472000"/>
            <a:ext cx="64882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Bagaimana susunan kata, kalimat yang tepat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Sikap kita terjaga dari  emosi, hawa nafsu, dan amara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2384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ormalistScript-Regular"/>
              </a:rPr>
              <a:t>Ni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708200" y="1542960"/>
            <a:ext cx="958320" cy="4405320"/>
            <a:chOff x="1708200" y="1542960"/>
            <a:chExt cx="958320" cy="4405320"/>
          </a:xfrm>
        </p:grpSpPr>
        <p:sp>
          <p:nvSpPr>
            <p:cNvPr id="81" name=""/>
            <p:cNvSpPr/>
            <p:nvPr/>
          </p:nvSpPr>
          <p:spPr>
            <a:xfrm>
              <a:off x="1736640" y="2228760"/>
              <a:ext cx="8964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736640" y="2824200"/>
              <a:ext cx="8964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736640" y="3510000"/>
              <a:ext cx="8964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736640" y="4272120"/>
              <a:ext cx="8964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736640" y="4957920"/>
              <a:ext cx="8964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770120" y="5948280"/>
              <a:ext cx="8964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708200" y="1542960"/>
              <a:ext cx="8964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2830680" y="1371600"/>
            <a:ext cx="62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Ikhlas pada Alla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4T10:01:48Z</dcterms:created>
  <dc:creator>Litbang</dc:creator>
  <dc:description/>
  <dc:language>en-US</dc:language>
  <cp:lastModifiedBy>User</cp:lastModifiedBy>
  <dcterms:modified xsi:type="dcterms:W3CDTF">2001-12-01T18:08:20Z</dcterms:modified>
  <cp:revision>9</cp:revision>
  <dc:subject/>
  <dc:title>Manajemen Kritik</dc:title>
</cp:coreProperties>
</file>