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18713" cy="7466013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784872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5760" y="4497480"/>
            <a:ext cx="784872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680" y="215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5760" y="449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680" y="449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252720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9680" y="2157480"/>
            <a:ext cx="252720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3600" y="2157480"/>
            <a:ext cx="252720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5760" y="4497480"/>
            <a:ext cx="252720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9680" y="4497480"/>
            <a:ext cx="252720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3600" y="4497480"/>
            <a:ext cx="252720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5760" y="2157480"/>
            <a:ext cx="7848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784872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383004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680" y="2157480"/>
            <a:ext cx="383004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5760" y="663120"/>
            <a:ext cx="78487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680" y="2157480"/>
            <a:ext cx="383004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5760" y="449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383004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680" y="215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680" y="449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680" y="2157480"/>
            <a:ext cx="383004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5760" y="4497480"/>
            <a:ext cx="7848720" cy="2136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2157480"/>
            <a:ext cx="784872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lvl="1" marL="297000" indent="-2970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lvl="2" marL="297000" indent="-297000">
              <a:lnSpc>
                <a:spcPct val="90000"/>
              </a:lnSpc>
              <a:spcBef>
                <a:spcPts val="1049"/>
              </a:spcBef>
              <a:buClr>
                <a:srgbClr val="063de8"/>
              </a:buClr>
              <a:buFont typeface="Arial"/>
              <a:buChar char="»"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lvl="3" marL="297000" indent="-297000">
              <a:lnSpc>
                <a:spcPct val="90000"/>
              </a:lnSpc>
              <a:spcBef>
                <a:spcPts val="1049"/>
              </a:spcBef>
              <a:buClr>
                <a:srgbClr val="00ae00"/>
              </a:buClr>
              <a:buFont typeface="Arial"/>
              <a:buChar char="•"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lvl="4" marL="297000" indent="-2970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lvl="5" marL="297000" indent="-2970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lvl="6" marL="297000" indent="-2970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38720" y="6858000"/>
            <a:ext cx="373392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mic Sans MS"/>
              </a:rPr>
              <a:t>Aménagement et Risque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mic Sans MS"/>
              </a:rPr>
              <a:t>Aléa, Vulnérabilité et gestion de Ris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985240" y="6354720"/>
          <a:ext cx="776160" cy="9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240" y="6354720"/>
                    <a:ext cx="7761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387360" y="7238880"/>
            <a:ext cx="48261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2920" y="7086600"/>
            <a:ext cx="4775040" cy="0"/>
          </a:xfrm>
          <a:prstGeom prst="line">
            <a:avLst/>
          </a:prstGeom>
          <a:ln w="1015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76320"/>
            <a:ext cx="350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Liquéfaction des sols sous sé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GB" sz="3200" spc="-1" strike="noStrike">
                <a:solidFill>
                  <a:srgbClr val="063de8"/>
                </a:solidFill>
                <a:latin typeface="Arial"/>
              </a:rPr>
              <a:t>Liquéfaction des sols sous séisme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7010640" cy="19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GB" sz="2800" spc="-1" strike="noStrike">
                <a:solidFill>
                  <a:srgbClr val="00ae00"/>
                </a:solidFill>
                <a:latin typeface="Arial"/>
              </a:rPr>
              <a:t>12 février 2001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GB" sz="2800" spc="-1" strike="noStrike">
                <a:solidFill>
                  <a:srgbClr val="00ae00"/>
                </a:solidFill>
                <a:latin typeface="Arial"/>
              </a:rPr>
              <a:t>10h à 11h30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GB" sz="2800" spc="-1" strike="noStrike">
                <a:solidFill>
                  <a:srgbClr val="00ae00"/>
                </a:solidFill>
                <a:latin typeface="Arial"/>
              </a:rPr>
              <a:t>O. Monge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4572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rmAutofit/>
          </a:bodyPr>
          <a:p>
            <a:pPr marL="297000" indent="-2970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5760" y="990720"/>
            <a:ext cx="78296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rmAutofit fontScale="98000"/>
          </a:bodyPr>
          <a:p>
            <a:pPr marL="290880" indent="-290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800" spc="-1" strike="noStrike">
                <a:solidFill>
                  <a:srgbClr val="00ae00"/>
                </a:solidFill>
                <a:latin typeface="Arial"/>
              </a:rPr>
              <a:t>Le phénomène et ses consé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329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Arial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329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880" indent="-290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800" spc="-1" strike="noStrike">
                <a:solidFill>
                  <a:srgbClr val="00ae00"/>
                </a:solidFill>
                <a:latin typeface="Arial"/>
              </a:rPr>
              <a:t>Comment l ’évalu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329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Arial"/>
              </a:rPr>
              <a:t>Le sol est-il susceptible de liquéf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329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Arial"/>
              </a:rPr>
              <a:t>La liquéfaction peut-elle être déclenché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329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Arial"/>
              </a:rPr>
              <a:t>Des dommages peuvent-ils surven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880" indent="-290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2800" spc="-1" strike="noStrike">
                <a:solidFill>
                  <a:srgbClr val="00ae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Greno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Atlas communaux (Guadeloupe &amp; Marti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Adapazari (séisme d ’Iz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Belle-Plaine (Gos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microzonage pointois et foyal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TGV Méditerra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3328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»"/>
              <a:tabLst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fr-FR" sz="1800" spc="-1" strike="noStrike">
                <a:solidFill>
                  <a:srgbClr val="063de8"/>
                </a:solidFill>
                <a:latin typeface="Arial"/>
              </a:rPr>
              <a:t>Macrozonage Marti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5760" y="663120"/>
            <a:ext cx="7848720" cy="1244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GB" sz="3200" spc="-1" strike="noStrike">
                <a:solidFill>
                  <a:srgbClr val="063de8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5760" y="2157480"/>
            <a:ext cx="7848720" cy="447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2970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3T16:45:22Z</dcterms:created>
  <dc:creator>BRGM</dc:creator>
  <dc:description/>
  <dc:language>en-US</dc:language>
  <cp:lastModifiedBy>monge</cp:lastModifiedBy>
  <cp:lastPrinted>2000-11-07T11:07:12Z</cp:lastPrinted>
  <dcterms:modified xsi:type="dcterms:W3CDTF">2001-02-02T12:47:36Z</dcterms:modified>
  <cp:revision>73</cp:revision>
  <dc:subject/>
  <dc:title>Aucun titre de diapositive</dc:title>
</cp:coreProperties>
</file>