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57.wmf" ContentType="image/x-wmf"/>
  <Override PartName="/ppt/media/image74.jpeg" ContentType="image/jpeg"/>
  <Override PartName="/ppt/media/image394.wmf" ContentType="image/x-wmf"/>
  <Override PartName="/ppt/media/image256.wmf" ContentType="image/x-wmf"/>
  <Override PartName="/ppt/media/image393.wmf" ContentType="image/x-wmf"/>
  <Override PartName="/ppt/media/image255.jpeg" ContentType="image/jpeg"/>
  <Override PartName="/ppt/media/image254.jpeg" ContentType="image/jpeg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158.jpeg" ContentType="image/jpeg"/>
  <Override PartName="/ppt/media/image249.wmf" ContentType="image/x-wmf"/>
  <Override PartName="/ppt/media/image121.wmf" ContentType="image/x-wmf"/>
  <Override PartName="/ppt/media/image386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236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6.wmf" ContentType="image/x-wmf"/>
  <Override PartName="/ppt/media/image225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155.jpeg" ContentType="image/jpeg"/>
  <Override PartName="/ppt/media/image218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137.jpeg" ContentType="image/jpeg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199.wmf" ContentType="image/x-wmf"/>
  <Override PartName="/ppt/media/image198.wmf" ContentType="image/x-wmf"/>
  <Override PartName="/ppt/media/image195.jpeg" ContentType="image/jpeg"/>
  <Override PartName="/ppt/media/image193.wmf" ContentType="image/x-wmf"/>
  <Override PartName="/ppt/media/image359.wmf" ContentType="image/x-wmf"/>
  <Override PartName="/ppt/media/image192.wmf" ContentType="image/x-wmf"/>
  <Override PartName="/ppt/media/image358.wmf" ContentType="image/x-wmf"/>
  <Override PartName="/ppt/media/image189.wmf" ContentType="image/x-wmf"/>
  <Override PartName="/ppt/media/image188.wmf" ContentType="image/x-wmf"/>
  <Override PartName="/ppt/media/image357.jpeg" ContentType="image/jpeg"/>
  <Override PartName="/ppt/media/image187.jpeg" ContentType="image/jpeg"/>
  <Override PartName="/ppt/media/image403.wmf" ContentType="image/x-wmf"/>
  <Override PartName="/ppt/media/image184.wmf" ContentType="image/x-wmf"/>
  <Override PartName="/ppt/media/image178.wmf" ContentType="image/x-wmf"/>
  <Override PartName="/ppt/media/image172.wmf" ContentType="image/x-wmf"/>
  <Override PartName="/ppt/media/image372.jpeg" ContentType="image/jpeg"/>
  <Override PartName="/ppt/media/image179.jpeg" ContentType="image/jpeg"/>
  <Override PartName="/ppt/media/image169.wmf" ContentType="image/x-wmf"/>
  <Override PartName="/ppt/media/image242.jpeg" ContentType="image/jpeg"/>
  <Override PartName="/ppt/media/image168.wmf" ContentType="image/x-wmf"/>
  <Override PartName="/ppt/media/image200.wmf" ContentType="image/x-wmf"/>
  <Override PartName="/ppt/media/image167.jpeg" ContentType="image/jpeg"/>
  <Override PartName="/ppt/media/image166.wmf" ContentType="image/x-wmf"/>
  <Override PartName="/ppt/media/image165.wmf" ContentType="image/x-wmf"/>
  <Override PartName="/ppt/media/image164.wmf" ContentType="image/x-wmf"/>
  <Override PartName="/ppt/media/image95.jpeg" ContentType="image/jpeg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59.wmf" ContentType="image/x-wmf"/>
  <Override PartName="/ppt/media/image156.wmf" ContentType="image/x-wmf"/>
  <Override PartName="/ppt/media/image154.jpeg" ContentType="image/jpeg"/>
  <Override PartName="/ppt/media/image151.jpeg" ContentType="image/jpeg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jpeg" ContentType="image/jpeg"/>
  <Override PartName="/ppt/media/image196.jpeg" ContentType="image/jpeg"/>
  <Override PartName="/ppt/media/image146.wmf" ContentType="image/x-wmf"/>
  <Override PartName="/ppt/media/image145.wmf" ContentType="image/x-wmf"/>
  <Override PartName="/ppt/media/image211.wmf" ContentType="image/x-wmf"/>
  <Override PartName="/ppt/media/image142.jpeg" ContentType="image/jpeg"/>
  <Override PartName="/ppt/media/image201.wmf" ContentType="image/x-wmf"/>
  <Override PartName="/ppt/media/image141.jpeg" ContentType="image/jpeg"/>
  <Override PartName="/ppt/media/image47.jpeg" ContentType="image/jpeg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36.jpeg" ContentType="image/jpeg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248.jpeg" ContentType="image/jpeg"/>
  <Override PartName="/ppt/media/image132.wmf" ContentType="image/x-wmf"/>
  <Override PartName="/ppt/media/image397.wmf" ContentType="image/x-wmf"/>
  <Override PartName="/ppt/media/image131.wmf" ContentType="image/x-wmf"/>
  <Override PartName="/ppt/media/image396.wmf" ContentType="image/x-wmf"/>
  <Override PartName="/ppt/media/image130.wmf" ContentType="image/x-wmf"/>
  <Override PartName="/ppt/media/image197.wmf" ContentType="image/x-wmf"/>
  <Override PartName="/ppt/media/image129.wmf" ContentType="image/x-wmf"/>
  <Override PartName="/ppt/media/image128.wmf" ContentType="image/x-wmf"/>
  <Override PartName="/ppt/media/image27.jpeg" ContentType="image/jpeg"/>
  <Override PartName="/ppt/media/image10.wmf" ContentType="image/x-wmf"/>
  <Override PartName="/ppt/media/image175.wmf" ContentType="image/x-wmf"/>
  <Override PartName="/ppt/media/image342.jpeg" ContentType="image/jpeg"/>
  <Override PartName="/ppt/media/image107.wmf" ContentType="image/x-wmf"/>
  <Override PartName="/ppt/media/image83.wmf" ContentType="image/x-wmf"/>
  <Override PartName="/ppt/media/image54.wmf" ContentType="image/x-wmf"/>
  <Override PartName="/ppt/media/image52.wmf" ContentType="image/x-wmf"/>
  <Override PartName="/ppt/media/image46.wmf" ContentType="image/x-wmf"/>
  <Override PartName="/ppt/media/image44.wmf" ContentType="image/x-wmf"/>
  <Override PartName="/ppt/media/image370.wmf" ContentType="image/x-wmf"/>
  <Override PartName="/ppt/media/image143.wmf" ContentType="image/x-wmf"/>
  <Override PartName="/ppt/media/image309.wmf" ContentType="image/x-wmf"/>
  <Override PartName="/ppt/media/image53.jpeg" ContentType="image/jpeg"/>
  <Override PartName="/ppt/media/image61.wmf" ContentType="image/x-wmf"/>
  <Override PartName="/ppt/media/image43.wmf" ContentType="image/x-wmf"/>
  <Override PartName="/ppt/media/image41.wmf" ContentType="image/x-wmf"/>
  <Override PartName="/ppt/media/image62.jpeg" ContentType="image/jpeg"/>
  <Override PartName="/ppt/media/image210.jpeg" ContentType="image/jpeg"/>
  <Override PartName="/ppt/media/image40.jpeg" ContentType="image/jpeg"/>
  <Override PartName="/ppt/media/image153.wmf" ContentType="image/x-wmf"/>
  <Override PartName="/ppt/media/image319.wmf" ContentType="image/x-wmf"/>
  <Override PartName="/ppt/media/image1.wmf" ContentType="image/x-wmf"/>
  <Override PartName="/ppt/media/image92.wmf" ContentType="image/x-wmf"/>
  <Override PartName="/ppt/media/image49.jpeg" ContentType="image/jpeg"/>
  <Override PartName="/ppt/media/image96.wmf" ContentType="image/x-wmf"/>
  <Override PartName="/ppt/media/image219.jpeg" ContentType="image/jpeg"/>
  <Override PartName="/ppt/media/image28.wmf" ContentType="image/x-wmf"/>
  <Override PartName="/ppt/media/image354.wmf" ContentType="image/x-wmf"/>
  <Override PartName="/ppt/media/image98.wmf" ContentType="image/x-wmf"/>
  <Override PartName="/ppt/media/image99.wmf" ContentType="image/x-wmf"/>
  <Override PartName="/ppt/media/image102.wmf" ContentType="image/x-wmf"/>
  <Override PartName="/ppt/media/image298.wmf" ContentType="image/x-wmf"/>
  <Override PartName="/ppt/media/image336.wmf" ContentType="image/x-wmf"/>
  <Override PartName="/ppt/media/image170.wmf" ContentType="image/x-wmf"/>
  <Override PartName="/ppt/media/image116.jpeg" ContentType="image/jpeg"/>
  <Override PartName="/ppt/media/image144.wmf" ContentType="image/x-wmf"/>
  <Override PartName="/ppt/media/image104.jpeg" ContentType="image/jpeg"/>
  <Override PartName="/ppt/media/image152.wmf" ContentType="image/x-wmf"/>
  <Override PartName="/ppt/media/image110.jpeg" ContentType="image/jpeg"/>
  <Override PartName="/ppt/media/image224.wmf" ContentType="image/x-wmf"/>
  <Override PartName="/ppt/media/image124.jpeg" ContentType="image/jpeg"/>
  <Override PartName="/ppt/media/image259.jpeg" ContentType="image/jpeg"/>
  <Override PartName="/ppt/media/image340.jpeg" ContentType="image/jpeg"/>
  <Override PartName="/ppt/media/image260.wmf" ContentType="image/x-wmf"/>
  <Override PartName="/ppt/media/image261.wmf" ContentType="image/x-wmf"/>
  <Override PartName="/ppt/media/image300.wmf" ContentType="image/x-wmf"/>
  <Override PartName="/ppt/media/image262.wmf" ContentType="image/x-wmf"/>
  <Override PartName="/ppt/media/image103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265.wmf" ContentType="image/x-wmf"/>
  <Override PartName="/ppt/media/image288.jpeg" ContentType="image/jpeg"/>
  <Override PartName="/ppt/media/image270.wmf" ContentType="image/x-wmf"/>
  <Override PartName="/ppt/media/image263.wmf" ContentType="image/x-wmf"/>
  <Override PartName="/ppt/media/image301.wmf" ContentType="image/x-wmf"/>
  <Override PartName="/ppt/media/image337.wmf" ContentType="image/x-wmf"/>
  <Override PartName="/ppt/media/image171.wmf" ContentType="image/x-wmf"/>
  <Override PartName="/ppt/media/image299.wmf" ContentType="image/x-wmf"/>
  <Override PartName="/ppt/media/image75.jpeg" ContentType="image/jpeg"/>
  <Override PartName="/ppt/media/image267.wmf" ContentType="image/x-wmf"/>
  <Override PartName="/ppt/media/image305.wmf" ContentType="image/x-wmf"/>
  <Override PartName="/ppt/media/image373.wmf" ContentType="image/x-wmf"/>
  <Override PartName="/ppt/media/image112.wmf" ContentType="image/x-wmf"/>
  <Override PartName="/ppt/media/image246.jpeg" ContentType="image/jpeg"/>
  <Override PartName="/ppt/media/image276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247.jpeg" ContentType="image/jpeg"/>
  <Override PartName="/ppt/media/image387.wmf" ContentType="image/x-wmf"/>
  <Override PartName="/ppt/media/image122.wmf" ContentType="image/x-wmf"/>
  <Override PartName="/ppt/media/image356.wmf" ContentType="image/x-wmf"/>
  <Override PartName="/ppt/media/image190.wmf" ContentType="image/x-wmf"/>
  <Override PartName="/ppt/media/image408.wmf" ContentType="image/x-wmf"/>
  <Override PartName="/ppt/media/image275.wmf" ContentType="image/x-wmf"/>
  <Override PartName="/ppt/media/image313.wmf" ContentType="image/x-wmf"/>
  <Override PartName="/ppt/media/image70.jpeg" ContentType="image/jpeg"/>
  <Override PartName="/ppt/media/image284.wmf" ContentType="image/x-wmf"/>
  <Override PartName="/ppt/media/image258.jpeg" ContentType="image/jpeg"/>
  <Override PartName="/ppt/media/image32.wmf" ContentType="image/x-wmf"/>
  <Override PartName="/ppt/media/image339.jpeg" ContentType="image/jpeg"/>
  <Override PartName="/ppt/media/image343.wmf" ContentType="image/x-wmf"/>
  <Override PartName="/ppt/media/image344.wmf" ContentType="image/x-wmf"/>
  <Override PartName="/ppt/media/image125.jpeg" ContentType="image/jpeg"/>
  <Override PartName="/ppt/media/image271.wmf" ContentType="image/x-wmf"/>
  <Override PartName="/ppt/media/image405.wmf" ContentType="image/x-wmf"/>
  <Override PartName="/ppt/media/image353.wmf" ContentType="image/x-wmf"/>
  <Override PartName="/ppt/media/image368.wmf" ContentType="image/x-wmf"/>
  <Override PartName="/ppt/media/image318.jpeg" ContentType="image/jpeg"/>
  <Override PartName="/ppt/media/image392.wmf" ContentType="image/x-wmf"/>
  <Override PartName="/ppt/media/image369.wmf" ContentType="image/x-wmf"/>
  <Override PartName="/ppt/media/image315.wmf" ContentType="image/x-wmf"/>
  <Override PartName="/ppt/media/image277.wmf" ContentType="image/x-wmf"/>
  <Override PartName="/ppt/media/image371.wmf" ContentType="image/x-wmf"/>
  <Override PartName="/ppt/media/image379.jpeg" ContentType="image/jpeg"/>
  <Override PartName="/ppt/media/image352.wmf" ContentType="image/x-wmf"/>
  <Override PartName="/ppt/media/image390.jpeg" ContentType="image/jpeg"/>
  <Override PartName="/ppt/media/image317.jpeg" ContentType="image/jpeg"/>
  <Override PartName="/ppt/media/image266.wmf" ContentType="image/x-wmf"/>
  <Override PartName="/ppt/media/image360.wmf" ContentType="image/x-wmf"/>
  <Override PartName="/ppt/media/image312.wmf" ContentType="image/x-wmf"/>
  <Override PartName="/ppt/media/image274.wmf" ContentType="image/x-wmf"/>
  <Override PartName="/ppt/media/image322.jpeg" ContentType="image/jpeg"/>
  <Override PartName="/ppt/media/image55.wmf" ContentType="image/x-wmf"/>
  <Override PartName="/ppt/media/image383.wmf" ContentType="image/x-wmf"/>
  <Override PartName="/ppt/media/image296.wmf" ContentType="image/x-wmf"/>
  <Override PartName="/ppt/media/image334.wmf" ContentType="image/x-wmf"/>
  <Override PartName="/ppt/media/image402.wmf" ContentType="image/x-wmf"/>
  <Override PartName="/ppt/media/image280.jpeg" ContentType="image/jpeg"/>
  <Override PartName="/ppt/media/image378.jpeg" ContentType="image/jpeg"/>
  <Override PartName="/ppt/media/image361.jpeg" ContentType="image/jpeg"/>
  <Override PartName="/ppt/media/image338.jpeg" ContentType="image/jpeg"/>
  <Override PartName="/ppt/media/image17.jpeg" ContentType="image/jpeg"/>
  <Override PartName="/ppt/media/image291.wmf" ContentType="image/x-wmf"/>
  <Override PartName="/ppt/media/image389.wmf" ContentType="image/x-wmf"/>
  <Override PartName="/ppt/media/image376.wmf" ContentType="image/x-wmf"/>
  <Override PartName="/ppt/media/image308.wmf" ContentType="image/x-wmf"/>
  <Override PartName="/ppt/media/image303.jpeg" ContentType="image/jpeg"/>
  <Override PartName="/ppt/media/image58.wmf" ContentType="image/x-wmf"/>
  <Override PartName="/ppt/media/image401.wmf" ContentType="image/x-wmf"/>
  <Override PartName="/ppt/media/image375.wmf" ContentType="image/x-wmf"/>
  <Override PartName="/ppt/media/image269.wmf" ContentType="image/x-wmf"/>
  <Override PartName="/ppt/media/image307.wmf" ContentType="image/x-wmf"/>
  <Override PartName="/ppt/media/image348.wmf" ContentType="image/x-wmf"/>
  <Override PartName="/ppt/media/image182.wmf" ContentType="image/x-wmf"/>
  <Override PartName="/ppt/media/image366.wmf" ContentType="image/x-wmf"/>
  <Override PartName="/ppt/media/image173.wmf" ContentType="image/x-wmf"/>
  <Override PartName="/ppt/media/image384.wmf" ContentType="image/x-wmf"/>
  <Override PartName="/ppt/media/image297.wmf" ContentType="image/x-wmf"/>
  <Override PartName="/ppt/media/image335.wmf" ContentType="image/x-wmf"/>
  <Override PartName="/ppt/media/image283.wmf" ContentType="image/x-wmf"/>
  <Override PartName="/ppt/media/image321.wmf" ContentType="image/x-wmf"/>
  <Override PartName="/ppt/media/image377.wmf" ContentType="image/x-wmf"/>
  <Override PartName="/ppt/media/image314.jpeg" ContentType="image/jpeg"/>
  <Override PartName="/ppt/media/image33.jpeg" ContentType="image/jpeg"/>
  <Override PartName="/ppt/media/image320.wmf" ContentType="image/x-wmf"/>
  <Override PartName="/ppt/media/image282.wmf" ContentType="image/x-wmf"/>
  <Override PartName="/ppt/media/image367.jpeg" ContentType="image/jpeg"/>
  <Override PartName="/ppt/media/image51.wmf" ContentType="image/x-wmf"/>
  <Override PartName="/ppt/media/image311.wmf" ContentType="image/x-wmf"/>
  <Override PartName="/ppt/media/image174.wmf" ContentType="image/x-wmf"/>
  <Override PartName="/ppt/media/image279.wmf" ContentType="image/x-wmf"/>
  <Override PartName="/ppt/media/image304.jpeg" ContentType="image/jpeg"/>
  <Override PartName="/ppt/media/image68.wmf" ContentType="image/x-wmf"/>
  <Override PartName="/ppt/media/image290.wmf" ContentType="image/x-wmf"/>
  <Override PartName="/ppt/media/image286.wmf" ContentType="image/x-wmf"/>
  <Override PartName="/ppt/media/image324.wmf" ContentType="image/x-wmf"/>
  <Override PartName="/ppt/media/image333.wmf" ContentType="image/x-wmf"/>
  <Override PartName="/ppt/media/image295.wmf" ContentType="image/x-wmf"/>
  <Override PartName="/ppt/media/image34.jpeg" ContentType="image/jpeg"/>
  <Override PartName="/ppt/media/image227.wmf" ContentType="image/x-wmf"/>
  <Override PartName="/ppt/media/image123.wmf" ContentType="image/x-wmf"/>
  <Override PartName="/ppt/media/image191.wmf" ContentType="image/x-wmf"/>
  <Override PartName="/ppt/media/image292.wmf" ContentType="image/x-wmf"/>
  <Override PartName="/ppt/media/image330.wmf" ContentType="image/x-wmf"/>
  <Override PartName="/ppt/media/image18.jpeg" ContentType="image/jpeg"/>
  <Override PartName="/ppt/media/image293.wmf" ContentType="image/x-wmf"/>
  <Override PartName="/ppt/media/image331.wmf" ContentType="image/x-wmf"/>
  <Override PartName="/ppt/media/image325.wmf" ContentType="image/x-wmf"/>
  <Override PartName="/ppt/media/image287.wmf" ContentType="image/x-wmf"/>
  <Override PartName="/ppt/media/image332.wmf" ContentType="image/x-wmf"/>
  <Override PartName="/ppt/media/image294.wmf" ContentType="image/x-wmf"/>
  <Override PartName="/ppt/media/image285.wmf" ContentType="image/x-wmf"/>
  <Override PartName="/ppt/media/image323.wmf" ContentType="image/x-wmf"/>
  <Override PartName="/ppt/media/image24.wmf" ContentType="image/x-wmf"/>
  <Override PartName="/ppt/media/image350.wmf" ContentType="image/x-wmf"/>
  <Override PartName="/ppt/media/image23.wmf" ContentType="image/x-wmf"/>
  <Override PartName="/ppt/media/image115.wmf" ContentType="image/x-wmf"/>
  <Override PartName="/ppt/media/image56.jpeg" ContentType="image/jpeg"/>
  <Override PartName="/ppt/media/image91.wmf" ContentType="image/x-wmf"/>
  <Override PartName="/ppt/media/image89.wmf" ContentType="image/x-wmf"/>
  <Override PartName="/ppt/media/image88.wmf" ContentType="image/x-wmf"/>
  <Override PartName="/ppt/media/image86.wmf" ContentType="image/x-wmf"/>
  <Override PartName="/ppt/media/image341.wmf" ContentType="image/x-wmf"/>
  <Override PartName="/ppt/media/image15.wmf" ContentType="image/x-wmf"/>
  <Override PartName="/ppt/media/image78.wmf" ContentType="image/x-wmf"/>
  <Override PartName="/ppt/media/image395.jpeg" ContentType="image/jpeg"/>
  <Override PartName="/ppt/media/image76.wmf" ContentType="image/x-wmf"/>
  <Override PartName="/ppt/media/image217.jpeg" ContentType="image/jpeg"/>
  <Override PartName="/ppt/media/image160.wmf" ContentType="image/x-wmf"/>
  <Override PartName="/ppt/media/image326.wmf" ContentType="image/x-wmf"/>
  <Override PartName="/ppt/media/image73.wmf" ContentType="image/x-wmf"/>
  <Override PartName="/ppt/media/image71.wmf" ContentType="image/x-wmf"/>
  <Override PartName="/ppt/media/image113.wmf" ContentType="image/x-wmf"/>
  <Override PartName="/ppt/media/image181.wmf" ContentType="image/x-wmf"/>
  <Override PartName="/ppt/media/image347.wmf" ContentType="image/x-wmf"/>
  <Override PartName="/ppt/media/image117.jpeg" ContentType="image/jpeg"/>
  <Override PartName="/ppt/media/image120.wmf" ContentType="image/x-wmf"/>
  <Override PartName="/ppt/media/image385.wmf" ContentType="image/x-wmf"/>
  <Override PartName="/ppt/media/image400.jpeg" ContentType="image/jpeg"/>
  <Override PartName="/ppt/media/image69.wmf" ContentType="image/x-wmf"/>
  <Override PartName="/ppt/media/image67.wmf" ContentType="image/x-wmf"/>
  <Override PartName="/ppt/media/image66.wmf" ContentType="image/x-wmf"/>
  <Override PartName="/ppt/media/image216.jpeg" ContentType="image/jpeg"/>
  <Override PartName="/ppt/media/image65.wmf" ContentType="image/x-wmf"/>
  <Override PartName="/ppt/media/image63.wmf" ContentType="image/x-wmf"/>
  <Override PartName="/ppt/media/image235.jpeg" ContentType="image/jpeg"/>
  <Override PartName="/ppt/media/image234.jpeg" ContentType="image/jpeg"/>
  <Override PartName="/ppt/media/image79.wmf" ContentType="image/x-wmf"/>
  <Override PartName="/ppt/media/image42.jpeg" ContentType="image/jpeg"/>
  <Override PartName="/ppt/media/image355.wmf" ContentType="image/x-wmf"/>
  <Override PartName="/ppt/media/image29.wmf" ContentType="image/x-wmf"/>
  <Override PartName="/ppt/media/image97.wmf" ContentType="image/x-wmf"/>
  <Override PartName="/ppt/media/image119.wmf" ContentType="image/x-wmf"/>
  <Override PartName="/ppt/media/image2.wmf" ContentType="image/x-wmf"/>
  <Override PartName="/ppt/media/image388.jpeg" ContentType="image/jpeg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94.wmf" ContentType="image/x-wmf"/>
  <Override PartName="/ppt/media/image26.jpeg" ContentType="image/jpeg"/>
  <Override PartName="/ppt/media/image118.wmf" ContentType="image/x-wmf"/>
  <Override PartName="/ppt/media/image38.jpeg" ContentType="image/jpeg"/>
  <Override PartName="/ppt/media/image77.wmf" ContentType="image/x-wmf"/>
  <Override PartName="/ppt/media/image13.wmf" ContentType="image/x-wmf"/>
  <Override PartName="/ppt/media/image105.wmf" ContentType="image/x-wmf"/>
  <Override PartName="/ppt/media/image81.wmf" ContentType="image/x-wmf"/>
  <Override PartName="/ppt/media/image21.wmf" ContentType="image/x-wmf"/>
  <Override PartName="/ppt/media/image6.jpeg" ContentType="image/jpeg"/>
  <Override PartName="/ppt/media/image16.wmf" ContentType="image/x-wmf"/>
  <Override PartName="/ppt/media/image108.wmf" ContentType="image/x-wmf"/>
  <Override PartName="/ppt/media/image84.wmf" ContentType="image/x-wmf"/>
  <Override PartName="/ppt/media/image345.wmf" ContentType="image/x-wmf"/>
  <Override PartName="/ppt/media/image19.wmf" ContentType="image/x-wmf"/>
  <Override PartName="/ppt/media/image87.wmf" ContentType="image/x-wmf"/>
  <Override PartName="/ppt/media/image80.wmf" ContentType="image/x-wmf"/>
  <Override PartName="/ppt/media/image12.wmf" ContentType="image/x-wmf"/>
  <Override PartName="/ppt/media/image404.jpeg" ContentType="image/jpeg"/>
  <Override PartName="/ppt/media/image45.jpeg" ContentType="image/jpeg"/>
  <Override PartName="/ppt/media/image215.jpeg" ContentType="image/jpeg"/>
  <Override PartName="/ppt/media/image7.jpeg" ContentType="image/jpeg"/>
  <Override PartName="/ppt/media/image64.jpeg" ContentType="image/jpeg"/>
  <Override PartName="/ppt/media/image157.wmf" ContentType="image/x-wmf"/>
  <Override PartName="/ppt/media/image50.jpeg" ContentType="image/jpeg"/>
  <Override PartName="/ppt/media/image31.wmf" ContentType="image/x-wmf"/>
  <Override PartName="/ppt/media/image126.wmf" ContentType="image/x-wmf"/>
  <Override PartName="/ppt/media/image194.wmf" ContentType="image/x-wmf"/>
  <Override PartName="/ppt/media/image9.jpeg" ContentType="image/jpeg"/>
  <Override PartName="/ppt/media/image85.wmf" ContentType="image/x-wmf"/>
  <Override PartName="/ppt/media/image109.wmf" ContentType="image/x-wmf"/>
  <Override PartName="/ppt/media/image177.wmf" ContentType="image/x-wmf"/>
  <Override PartName="/ppt/media/image185.wmf" ContentType="image/x-wmf"/>
  <Override PartName="/ppt/media/image273.jpeg" ContentType="image/jpeg"/>
  <Override PartName="/ppt/media/image176.wmf" ContentType="image/x-wmf"/>
  <Override PartName="/ppt/media/image3.jpeg" ContentType="image/jpeg"/>
  <Override PartName="/ppt/media/image60.jpeg" ContentType="image/jpeg"/>
  <Override PartName="/ppt/media/image93.wmf" ContentType="image/x-wmf"/>
  <Override PartName="/ppt/media/image25.wmf" ContentType="image/x-wmf"/>
  <Override PartName="/ppt/media/image351.wmf" ContentType="image/x-wmf"/>
  <Override PartName="/ppt/media/image72.wmf" ContentType="image/x-wmf"/>
  <Override PartName="/ppt/media/image20.wmf" ContentType="image/x-wmf"/>
  <Override PartName="/ppt/media/image14.jpeg" ContentType="image/jpeg"/>
  <Override PartName="/ppt/media/image57.wmf" ContentType="image/x-wmf"/>
  <Override PartName="/ppt/media/image183.wmf" ContentType="image/x-wmf"/>
  <Override PartName="/ppt/media/image349.wmf" ContentType="image/x-wmf"/>
  <Override PartName="/ppt/media/image5.jpeg" ContentType="image/jpeg"/>
  <Override PartName="/ppt/media/image11.wmf" ContentType="image/x-wmf"/>
  <Override PartName="/ppt/media/image106.wmf" ContentType="image/x-wmf"/>
  <Override PartName="/ppt/media/image82.wmf" ContentType="image/x-wmf"/>
  <Override PartName="/ppt/media/image180.wmf" ContentType="image/x-wmf"/>
  <Override PartName="/ppt/media/image346.wmf" ContentType="image/x-wmf"/>
  <Override PartName="/ppt/media/image4.jpeg" ContentType="image/jpeg"/>
  <Override PartName="/ppt/media/image127.wmf" ContentType="image/x-wmf"/>
  <Override PartName="/ppt/media/image8.wmf" ContentType="image/x-wmf"/>
  <Override PartName="/ppt/media/image30.wmf" ContentType="image/x-wmf"/>
  <Override PartName="/ppt/media/image374.wmf" ContentType="image/x-wmf"/>
  <Override PartName="/ppt/media/image48.wmf" ContentType="image/x-wmf"/>
  <Override PartName="/ppt/media/image35.jpeg" ContentType="image/jpeg"/>
  <Override PartName="/ppt/media/image237.wmf" ContentType="image/x-wmf"/>
  <Override PartName="/ppt/media/image391.jpeg" ContentType="image/jpeg"/>
  <Override PartName="/ppt/media/image36.wmf" ContentType="image/x-wmf"/>
  <Override PartName="/ppt/media/image362.wmf" ContentType="image/x-wmf"/>
  <Override PartName="/ppt/media/image363.wmf" ContentType="image/x-wmf"/>
  <Override PartName="/ppt/media/image37.wmf" ContentType="image/x-wmf"/>
  <Override PartName="/ppt/media/image365.wmf" ContentType="image/x-wmf"/>
  <Override PartName="/ppt/media/image39.wmf" ContentType="image/x-wmf"/>
  <Override PartName="/ppt/media/image186.jpeg" ContentType="image/jpeg"/>
  <Override PartName="/ppt/presProps.xml" ContentType="application/vnd.openxmlformats-officedocument.presentationml.presPro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3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82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F1C-CAAA-4387-B762-CFF8F989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603-B219-4E07-BE23-4F31A2A6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337-C697-4787-88C3-A9A70BAF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5A9-E3B7-481A-B032-B4313FDD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12E-08B4-484A-83AF-4684E6C4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D26-8DDC-40A7-B3A4-006355F4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CB5-2660-4446-9045-60E86212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004-9FF7-4159-B2A5-27DF260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D7A-5F87-4CCB-B25E-C6AE005A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C3A-820A-49B3-BC39-625BE802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B88-22BF-4E75-8AF2-D9C176D9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D6C-0969-4B7A-BF96-F667689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5CF8-4D86-4110-A1A1-0434397DC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7.wmf"/><Relationship Id="rId15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1.wmf"/><Relationship Id="rId9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image" Target="../media/image303.jpeg"/><Relationship Id="rId6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04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6.wmf"/><Relationship Id="rId5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9.wmf"/><Relationship Id="rId7" Type="http://schemas.openxmlformats.org/officeDocument/2006/relationships/image" Target="../media/image242.jpeg"/><Relationship Id="rId8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3.wmf"/><Relationship Id="rId9" Type="http://schemas.openxmlformats.org/officeDocument/2006/relationships/image" Target="../media/image314.jpe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6.wmf"/><Relationship Id="rId5" Type="http://schemas.openxmlformats.org/officeDocument/2006/relationships/image" Target="../media/image317.jpeg"/><Relationship Id="rId6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1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22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0.wmf"/><Relationship Id="rId17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6.wmf"/><Relationship Id="rId1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7.wmf"/><Relationship Id="rId3" Type="http://schemas.openxmlformats.org/officeDocument/2006/relationships/image" Target="../media/image338.jpeg"/><Relationship Id="rId4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39.jpeg"/><Relationship Id="rId2" Type="http://schemas.openxmlformats.org/officeDocument/2006/relationships/image" Target="../media/image340.jpe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1.wmf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4.wmf"/><Relationship Id="rId6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0.wmf"/><Relationship Id="rId1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4.wmf"/><Relationship Id="rId9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6.wmf"/><Relationship Id="rId5" Type="http://schemas.openxmlformats.org/officeDocument/2006/relationships/image" Target="../media/image357.jpeg"/><Relationship Id="rId6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0.wmf"/><Relationship Id="rId7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6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2.wmf"/><Relationship Id="rId4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6.wmf"/><Relationship Id="rId9" Type="http://schemas.openxmlformats.org/officeDocument/2006/relationships/image" Target="../media/image367.jpeg"/><Relationship Id="rId10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1.wmf"/><Relationship Id="rId9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7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7.wmf"/><Relationship Id="rId1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78.jpeg"/><Relationship Id="rId2" Type="http://schemas.openxmlformats.org/officeDocument/2006/relationships/image" Target="../media/image379.jpe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0.wmf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6.wmf"/><Relationship Id="rId13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7.wmf"/><Relationship Id="rId5" Type="http://schemas.openxmlformats.org/officeDocument/2006/relationships/image" Target="../media/image388.jpeg"/><Relationship Id="rId6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9.wmf"/><Relationship Id="rId3" Type="http://schemas.openxmlformats.org/officeDocument/2006/relationships/image" Target="../media/image390.jpeg"/><Relationship Id="rId4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9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3.wmf"/><Relationship Id="rId8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4.wmf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95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9.wmf"/><Relationship Id="rId9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0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2.wmf"/><Relationship Id="rId6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3.wmf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40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6.wmf"/><Relationship Id="rId6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image" Target="../media/image33.jpeg"/><Relationship Id="rId8" Type="http://schemas.openxmlformats.org/officeDocument/2006/relationships/image" Target="../media/image33.jpeg"/><Relationship Id="rId9" Type="http://schemas.openxmlformats.org/officeDocument/2006/relationships/image" Target="../media/image33.jpeg"/><Relationship Id="rId10" Type="http://schemas.openxmlformats.org/officeDocument/2006/relationships/image" Target="../media/image33.jpeg"/><Relationship Id="rId11" Type="http://schemas.openxmlformats.org/officeDocument/2006/relationships/image" Target="../media/image33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33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wmf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image" Target="../media/image104.jpeg"/><Relationship Id="rId10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5.wmf"/><Relationship Id="rId15" Type="http://schemas.openxmlformats.org/officeDocument/2006/relationships/image" Target="../media/image116.jpeg"/><Relationship Id="rId1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9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3.wmf"/><Relationship Id="rId9" Type="http://schemas.openxmlformats.org/officeDocument/2006/relationships/image" Target="../media/image124.jpeg"/><Relationship Id="rId10" Type="http://schemas.openxmlformats.org/officeDocument/2006/relationships/image" Target="../media/image125.jpeg"/><Relationship Id="rId1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2.wmf"/><Relationship Id="rId1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5.wmf"/><Relationship Id="rId7" Type="http://schemas.openxmlformats.org/officeDocument/2006/relationships/image" Target="../media/image136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9.wm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image" Target="../media/image14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6.wmf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0.wmf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3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4.jpeg"/><Relationship Id="rId2" Type="http://schemas.openxmlformats.org/officeDocument/2006/relationships/image" Target="../media/image15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9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6.wmf"/><Relationship Id="rId1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2.wmf"/><Relationship Id="rId1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8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3.wmf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5.wmf"/><Relationship Id="rId5" Type="http://schemas.openxmlformats.org/officeDocument/2006/relationships/image" Target="../media/image186.jpeg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7.jpeg"/><Relationship Id="rId2" Type="http://schemas.openxmlformats.org/officeDocument/2006/relationships/image" Target="../media/image18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9.wmf"/><Relationship Id="rId7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4.wmf"/><Relationship Id="rId11" Type="http://schemas.openxmlformats.org/officeDocument/2006/relationships/image" Target="../media/image195.jpeg"/><Relationship Id="rId1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9.wmf"/><Relationship Id="rId8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9.wmf"/><Relationship Id="rId2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2.wmf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4.wmf"/><Relationship Id="rId5" Type="http://schemas.openxmlformats.org/officeDocument/2006/relationships/image" Target="../media/image215.jpeg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8.wmf"/><Relationship Id="rId6" Type="http://schemas.openxmlformats.org/officeDocument/2006/relationships/image" Target="../media/image219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3.wmf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0.wmf"/><Relationship Id="rId15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3.wmf"/><Relationship Id="rId7" Type="http://schemas.openxmlformats.org/officeDocument/2006/relationships/image" Target="../media/image234.jpeg"/><Relationship Id="rId8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5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8.wmf"/><Relationship Id="rId7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1.wmf"/><Relationship Id="rId7" Type="http://schemas.openxmlformats.org/officeDocument/2006/relationships/image" Target="../media/image242.jpeg"/><Relationship Id="rId8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5.wmf"/><Relationship Id="rId7" Type="http://schemas.openxmlformats.org/officeDocument/2006/relationships/image" Target="../media/image246.jpeg"/><Relationship Id="rId8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7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1.wmf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54.jpeg"/><Relationship Id="rId2" Type="http://schemas.openxmlformats.org/officeDocument/2006/relationships/image" Target="../media/image255.jpe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7.wmf"/><Relationship Id="rId5" Type="http://schemas.openxmlformats.org/officeDocument/2006/relationships/image" Target="../media/image258.jpe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59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7.wmf"/><Relationship Id="rId17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2.wmf"/><Relationship Id="rId11" Type="http://schemas.openxmlformats.org/officeDocument/2006/relationships/image" Target="../media/image273.jpeg"/><Relationship Id="rId1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9.wmf"/><Relationship Id="rId1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8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3.wmf"/><Relationship Id="rId8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7.wmf"/><Relationship Id="rId9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9.wmf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71640" y="333360"/>
            <a:ext cx="579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ÑEÀ CÖÔNG MOÂN HO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7280" y="1160640"/>
            <a:ext cx="860580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eân Moân Hoïc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yõ Thuaät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aønh Hoïc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Khoâng Chuyeân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oá Tieát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aùnh Giaù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ieåm Tra giöõa Hoïc Kyø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i cuoái Hoïc Kyø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Giaùo Trìn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[1]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yeãn Kim Ñ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yõ Thuaät Ñie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haø Xuaát Baûn Ñaïi Hoïc Quoác Gia TPHCM -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[2]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yeãn Kim Ñ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aøi Taäp Kyõ Thuaät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haø Xuaát Baûn Ñaïi Hoïc Quoác Gia TPHCM -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ABF-E97F-4A68-B4B9-FFE7496F3E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585720"/>
            <a:ext cx="536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ùy Phaùt Ñoàng Boä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1314360"/>
            <a:ext cx="738036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u Taïo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Laøm Vieäc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TÑ vaø PT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haàn Traêm Thay Ñoåi Ñieän AÙp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S, TH, vaø HS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489-909A-49FB-9439-1C5FFA4EE7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287280" y="189000"/>
            <a:ext cx="8461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Bieåu Thöùc Caùc Loaïi CS tính töø MTÑ H 6.7 vaø 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332000" y="836640"/>
            <a:ext cx="7380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HSCS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963880" y="873000"/>
          <a:ext cx="28321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3880" y="873000"/>
                    <a:ext cx="2832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7632720" y="90792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3" name=""/>
          <p:cNvGraphicFramePr/>
          <p:nvPr/>
        </p:nvGraphicFramePr>
        <p:xfrm>
          <a:off x="1417680" y="1608120"/>
          <a:ext cx="17143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7680" y="1608120"/>
                    <a:ext cx="1714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5" name=""/>
          <p:cNvGraphicFramePr/>
          <p:nvPr/>
        </p:nvGraphicFramePr>
        <p:xfrm>
          <a:off x="2371680" y="2205000"/>
          <a:ext cx="723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1680" y="2205000"/>
                    <a:ext cx="723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"/>
          <p:cNvSpPr/>
          <p:nvPr/>
        </p:nvSpPr>
        <p:spPr>
          <a:xfrm>
            <a:off x="7596360" y="188136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8" name=""/>
          <p:cNvGraphicFramePr/>
          <p:nvPr/>
        </p:nvGraphicFramePr>
        <p:xfrm>
          <a:off x="1793880" y="2889360"/>
          <a:ext cx="336564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3880" y="2889360"/>
                    <a:ext cx="3365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1533600" y="3608280"/>
          <a:ext cx="4736880" cy="104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33600" y="3608280"/>
                    <a:ext cx="4736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2" name=""/>
          <p:cNvGraphicFramePr/>
          <p:nvPr/>
        </p:nvGraphicFramePr>
        <p:xfrm>
          <a:off x="1457280" y="4905360"/>
          <a:ext cx="269244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57280" y="4905360"/>
                    <a:ext cx="2692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"/>
          <p:cNvGraphicFramePr/>
          <p:nvPr/>
        </p:nvGraphicFramePr>
        <p:xfrm>
          <a:off x="1538280" y="5565600"/>
          <a:ext cx="648972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38280" y="5565600"/>
                    <a:ext cx="6489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6" name=""/>
          <p:cNvSpPr/>
          <p:nvPr/>
        </p:nvSpPr>
        <p:spPr>
          <a:xfrm>
            <a:off x="7596360" y="26733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488360" y="404172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488360" y="4653000"/>
            <a:ext cx="107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272360" y="605808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647640" y="87300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47640" y="213372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47640" y="278136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47640" y="353700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47640" y="479736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47640" y="548172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57280" y="1557360"/>
            <a:ext cx="78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58E-B811-4236-B883-D2038215B30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4464000" y="5516640"/>
            <a:ext cx="187164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122560" y="4292640"/>
            <a:ext cx="421308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24000" y="225360"/>
            <a:ext cx="860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Bieåu Thöùc Gaàn Ñuùng cuûa CS, TH vaø HS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55640" y="944640"/>
            <a:ext cx="691200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iaû söû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m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Vaø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 tro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2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  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ñm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  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ñ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Vaø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 tro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N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3773520" y="2960640"/>
          <a:ext cx="3301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3520" y="2960640"/>
                    <a:ext cx="330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3" name=""/>
          <p:cNvGraphicFramePr/>
          <p:nvPr/>
        </p:nvGraphicFramePr>
        <p:xfrm>
          <a:off x="5249880" y="2960640"/>
          <a:ext cx="3301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9880" y="2960640"/>
                    <a:ext cx="330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"/>
          <p:cNvSpPr/>
          <p:nvPr/>
        </p:nvSpPr>
        <p:spPr>
          <a:xfrm>
            <a:off x="7740720" y="14493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812000" y="22766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812000" y="29242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2166840" y="4365720"/>
          <a:ext cx="4025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365720"/>
                    <a:ext cx="4025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0" name=""/>
          <p:cNvSpPr/>
          <p:nvPr/>
        </p:nvSpPr>
        <p:spPr>
          <a:xfrm>
            <a:off x="7777080" y="456552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828720" y="5599080"/>
            <a:ext cx="29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aït cöïc ñaïi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2" name=""/>
          <p:cNvGraphicFramePr/>
          <p:nvPr/>
        </p:nvGraphicFramePr>
        <p:xfrm>
          <a:off x="4524480" y="5589720"/>
          <a:ext cx="170172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24480" y="5589720"/>
                    <a:ext cx="1701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"/>
          <p:cNvSpPr/>
          <p:nvPr/>
        </p:nvSpPr>
        <p:spPr>
          <a:xfrm>
            <a:off x="7740720" y="5599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637-148B-4250-A2C4-38444D64AFF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/>
          <p:nvPr/>
        </p:nvSpPr>
        <p:spPr>
          <a:xfrm>
            <a:off x="360360" y="-63360"/>
            <a:ext cx="878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11"/>
              </a:spcBef>
              <a:spcAft>
                <a:spcPts val="7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7.</a:t>
            </a:r>
            <a:r>
              <a:rPr b="1" lang="en-US" sz="2900" spc="-1" strike="noStrike">
                <a:solidFill>
                  <a:srgbClr val="0000ff"/>
                </a:solidFill>
                <a:latin typeface="VNI-Revue"/>
                <a:ea typeface="Times New Roman"/>
              </a:rPr>
              <a:t> Ñoäng Cô Khoâng Ñoàng Boä Ba Ph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31640" y="549360"/>
            <a:ext cx="576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1. Caáu Taïo Cuûa ÑCKÑB3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92000" y="1233360"/>
            <a:ext cx="356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tato (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224000" y="1989000"/>
            <a:ext cx="78487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S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ST) goàm 3 cuoän (AX, BY, C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92000" y="3357720"/>
            <a:ext cx="291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Roâto (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224000" y="3916440"/>
            <a:ext cx="673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R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RT) coù 2 Daï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RT Loàng S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RT DAÂY QUAÁ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goàm 3 cuoän (ax, by, c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C76-2EBB-4C68-A8E6-18F9A765A79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5111640" y="3897360"/>
            <a:ext cx="205272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52360" y="0"/>
            <a:ext cx="6050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2. Töø Tröôøng Trong ÑCKÑB3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008000" y="584280"/>
            <a:ext cx="7488360" cy="184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Khi cho moät heä thoá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oøng sin 3Þ C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aïy vaøo 3 cuoän daây cuûa ST, ta ñöôïc moät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röô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Qua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2p cöïc (H 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997440" y="2673360"/>
            <a:ext cx="457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än Toác Töø Tröôøng Quay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Vaän Toác Ñoàng Boä) (VTÑ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5" name=""/>
          <p:cNvGraphicFramePr/>
          <p:nvPr/>
        </p:nvGraphicFramePr>
        <p:xfrm>
          <a:off x="5195880" y="3975120"/>
          <a:ext cx="19684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5880" y="3975120"/>
                    <a:ext cx="19684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7" name=""/>
          <p:cNvSpPr/>
          <p:nvPr/>
        </p:nvSpPr>
        <p:spPr>
          <a:xfrm>
            <a:off x="3384720" y="4618080"/>
            <a:ext cx="4392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8" name=""/>
          <p:cNvGraphicFramePr/>
          <p:nvPr/>
        </p:nvGraphicFramePr>
        <p:xfrm>
          <a:off x="2436840" y="1879560"/>
          <a:ext cx="914400" cy="3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684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0" name=""/>
          <p:cNvSpPr/>
          <p:nvPr/>
        </p:nvSpPr>
        <p:spPr>
          <a:xfrm>
            <a:off x="4103640" y="5014800"/>
            <a:ext cx="3924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 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àn so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oá ñoâ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740720" y="400536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00320" y="1279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145400" y="4041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116000" y="5959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511280" y="2637000"/>
            <a:ext cx="684360" cy="33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992-F0AC-43BB-8FA6-0F0EAE5C3C2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179280" y="0"/>
            <a:ext cx="795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3 Nguyeân Lyù Laøm Vieäc cuûa ÑCKÑB3Þ (H 7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643280" y="512640"/>
            <a:ext cx="442944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doøng 3ÞCB cho ST, ta ñöôïc 1 TTQ coù 2p cöïc quay vôùi VTÑB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ây daãn R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ieàu daøi 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caét töø thoâng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maät ñoä töø t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 vôù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vaän toá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 seõ sinh r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ññ caûm 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Bv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03280" y="4863960"/>
            <a:ext cx="8245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ì daây daãn RT bò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gaén maïc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N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aïy qua daây seõ chòu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öïc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F = B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m quay RT theo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chieàu vôùi TTQST nhöng vôùi vaän toác n &lt; 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116000" y="4519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651640" y="3933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7632720" y="4005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144360" y="557280"/>
            <a:ext cx="4535640" cy="398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698-8BAD-4407-B90E-DF75DCE6055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755640" y="1689120"/>
            <a:ext cx="7380360" cy="281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Vaän Toác TTQST = Vaän Toác Ñoàng Boä (VTÑ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 = Vaän Toác RT = Vaän Toác Ñoäng Cô (VTÑ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n = Vaän Toác Tröôït (V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55640" y="5337000"/>
            <a:ext cx="734544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55640" y="4365720"/>
            <a:ext cx="734544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934920" y="836640"/>
            <a:ext cx="547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ong ÑCKÑB3Þ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3 loaïi vaän toá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268360" y="4473720"/>
            <a:ext cx="2449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eä Soá Tröôï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4643280" y="4400640"/>
          <a:ext cx="17398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400640"/>
                    <a:ext cx="1739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0" name=""/>
          <p:cNvGraphicFramePr/>
          <p:nvPr/>
        </p:nvGraphicFramePr>
        <p:xfrm>
          <a:off x="2698920" y="5373720"/>
          <a:ext cx="42033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8920" y="5373720"/>
                    <a:ext cx="4203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>
            <a:off x="8136000" y="5492880"/>
            <a:ext cx="86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00320" y="836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00320" y="5518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C69-61FB-4827-A2F2-BF90DBCCD22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1547640" y="5672160"/>
            <a:ext cx="59770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547640" y="4724280"/>
            <a:ext cx="5940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03280" y="260280"/>
            <a:ext cx="802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4. Caùc MTÑ1Þ Vaø Phöông Trình Cuûa ÑC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606920" y="95580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TÑ1Þ cuûa DQST (H 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641840" y="1484280"/>
            <a:ext cx="439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 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ÑT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f laø AÙp, Sññ Doøng Pha vaø Taàn Soá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0" name=""/>
          <p:cNvGraphicFramePr/>
          <p:nvPr/>
        </p:nvGraphicFramePr>
        <p:xfrm>
          <a:off x="4726080" y="2976480"/>
          <a:ext cx="135864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976480"/>
                    <a:ext cx="1358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2" name=""/>
          <p:cNvSpPr/>
          <p:nvPr/>
        </p:nvSpPr>
        <p:spPr>
          <a:xfrm>
            <a:off x="611280" y="4087800"/>
            <a:ext cx="7705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3" name=""/>
          <p:cNvGraphicFramePr/>
          <p:nvPr/>
        </p:nvGraphicFramePr>
        <p:xfrm>
          <a:off x="1612800" y="4843440"/>
          <a:ext cx="58294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2800" y="4843440"/>
                    <a:ext cx="5829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5" name=""/>
          <p:cNvSpPr/>
          <p:nvPr/>
        </p:nvSpPr>
        <p:spPr>
          <a:xfrm>
            <a:off x="7883640" y="473544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6" name=""/>
          <p:cNvGraphicFramePr/>
          <p:nvPr/>
        </p:nvGraphicFramePr>
        <p:xfrm>
          <a:off x="3154320" y="5805360"/>
          <a:ext cx="21589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4320" y="5805360"/>
                    <a:ext cx="21589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8" name=""/>
          <p:cNvSpPr/>
          <p:nvPr/>
        </p:nvSpPr>
        <p:spPr>
          <a:xfrm>
            <a:off x="7883640" y="578016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90760" y="5743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619280" y="3619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1" name="" descr=""/>
          <p:cNvPicPr/>
          <p:nvPr/>
        </p:nvPicPr>
        <p:blipFill>
          <a:blip r:embed="rId7"/>
          <a:stretch/>
        </p:blipFill>
        <p:spPr>
          <a:xfrm>
            <a:off x="36360" y="944640"/>
            <a:ext cx="4427640" cy="24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810-1376-4DC5-B9B2-E137969D1C8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1692360" y="4797360"/>
            <a:ext cx="6083280" cy="46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1692360" y="5373720"/>
            <a:ext cx="608328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692360" y="6021360"/>
            <a:ext cx="60832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24000" y="198360"/>
            <a:ext cx="662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TÑ1Þ Cuûa Roâto Ñöùng Yeân (RTÑ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959280" y="765000"/>
            <a:ext cx="518472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ÑT, ÑK taûn, vaø TT1Þ cuûa RTÑ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Sññ,AÙp,vaøDoøng pha cuûa RTÑ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 = taàn soá RTÑY = taàn soá 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4824360" y="2205000"/>
          <a:ext cx="25146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4360" y="2205000"/>
                    <a:ext cx="2514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9" name=""/>
          <p:cNvSpPr/>
          <p:nvPr/>
        </p:nvSpPr>
        <p:spPr>
          <a:xfrm>
            <a:off x="647640" y="4184640"/>
            <a:ext cx="8066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RTÑY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47640" y="4834080"/>
            <a:ext cx="6229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1763640" y="4834080"/>
          <a:ext cx="59817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4834080"/>
                    <a:ext cx="5981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7885080" y="4761000"/>
            <a:ext cx="901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4" name=""/>
          <p:cNvGraphicFramePr/>
          <p:nvPr/>
        </p:nvGraphicFramePr>
        <p:xfrm>
          <a:off x="3276720" y="5481720"/>
          <a:ext cx="36702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481720"/>
                    <a:ext cx="3670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6" name=""/>
          <p:cNvGraphicFramePr/>
          <p:nvPr/>
        </p:nvGraphicFramePr>
        <p:xfrm>
          <a:off x="3311640" y="6129360"/>
          <a:ext cx="297180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1640" y="6129360"/>
                    <a:ext cx="29718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8" name=""/>
          <p:cNvSpPr/>
          <p:nvPr/>
        </p:nvSpPr>
        <p:spPr>
          <a:xfrm>
            <a:off x="7920000" y="533700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920000" y="5851440"/>
            <a:ext cx="8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98760" y="5084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698760" y="5877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511280" y="3440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" descr=""/>
          <p:cNvPicPr/>
          <p:nvPr/>
        </p:nvPicPr>
        <p:blipFill>
          <a:blip r:embed="rId9"/>
          <a:stretch/>
        </p:blipFill>
        <p:spPr>
          <a:xfrm>
            <a:off x="34920" y="868320"/>
            <a:ext cx="3960720" cy="25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981-2BC8-4153-8ED6-A1A11EA8FB2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1800360" y="6058080"/>
            <a:ext cx="5148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24000" y="-63360"/>
            <a:ext cx="666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MTÑ1Þ cuûa RT Quay (RTQ) (H 7.4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4920" y="386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s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s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vaø </a:t>
            </a:r>
            <a:r>
              <a:rPr b="1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js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, ÑK taûn, vaø TT1Þ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RT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0" y="4224240"/>
            <a:ext cx="8964360" cy="1106280"/>
            <a:chOff x="0" y="4224240"/>
            <a:chExt cx="8964360" cy="1106280"/>
          </a:xfrm>
        </p:grpSpPr>
        <p:sp>
          <p:nvSpPr>
            <p:cNvPr id="1628" name=""/>
            <p:cNvSpPr/>
            <p:nvPr/>
          </p:nvSpPr>
          <p:spPr>
            <a:xfrm>
              <a:off x="0" y="4224240"/>
              <a:ext cx="896436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laø Sññ, aùp, vaø doøng pha cuûa RTQ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VNI-Centur"/>
                  <a:ea typeface="Times New Roman"/>
                </a:rPr>
                <a:t>2s</a:t>
              </a: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= sf laø Taàn Soá RTQ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9" name=""/>
            <p:cNvGraphicFramePr/>
            <p:nvPr/>
          </p:nvGraphicFramePr>
          <p:xfrm>
            <a:off x="363600" y="4449600"/>
            <a:ext cx="34160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3600" y="4449600"/>
                      <a:ext cx="3416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1" name=""/>
          <p:cNvSpPr/>
          <p:nvPr/>
        </p:nvSpPr>
        <p:spPr>
          <a:xfrm>
            <a:off x="1800360" y="5302080"/>
            <a:ext cx="514800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àn Soá RTQ = s × taàn Soá RTÑ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7885080" y="5311800"/>
            <a:ext cx="8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3" name=""/>
          <p:cNvGraphicFramePr/>
          <p:nvPr/>
        </p:nvGraphicFramePr>
        <p:xfrm>
          <a:off x="2249640" y="6200640"/>
          <a:ext cx="40636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6200640"/>
                    <a:ext cx="4063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"/>
          <p:cNvSpPr/>
          <p:nvPr/>
        </p:nvSpPr>
        <p:spPr>
          <a:xfrm>
            <a:off x="7486560" y="6211800"/>
            <a:ext cx="8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635280" y="3330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86040" y="52308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6320" y="6200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9" name="" descr=""/>
          <p:cNvPicPr/>
          <p:nvPr/>
        </p:nvPicPr>
        <p:blipFill>
          <a:blip r:embed="rId5"/>
          <a:stretch/>
        </p:blipFill>
        <p:spPr>
          <a:xfrm>
            <a:off x="1655640" y="512640"/>
            <a:ext cx="5184720" cy="290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06F-0054-4852-BFDC-CDBB310390B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971960" cy="5761080"/>
          </a:xfrm>
          <a:prstGeom prst="rect">
            <a:avLst/>
          </a:prstGeom>
          <a:ln w="0">
            <a:noFill/>
          </a:ln>
        </p:spPr>
      </p:pic>
      <p:sp>
        <p:nvSpPr>
          <p:cNvPr id="1641" name=""/>
          <p:cNvSpPr/>
          <p:nvPr/>
        </p:nvSpPr>
        <p:spPr>
          <a:xfrm>
            <a:off x="5327640" y="5373720"/>
            <a:ext cx="2844720" cy="8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40360" y="1289160"/>
            <a:ext cx="287964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327640" y="3392640"/>
            <a:ext cx="2844720" cy="82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287280" y="7920"/>
            <a:ext cx="676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MTÑ1Þ cuûa RTQ, QVRTÑY (H 7.4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5076720" y="820800"/>
            <a:ext cx="17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5111640" y="1360440"/>
          <a:ext cx="274320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1640" y="1360440"/>
                    <a:ext cx="27432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7956720" y="15048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930920" y="2101680"/>
            <a:ext cx="4213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7.4c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uy töø H7.4a baèng caùch thay 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bôûi 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0" name=""/>
          <p:cNvGraphicFramePr/>
          <p:nvPr/>
        </p:nvGraphicFramePr>
        <p:xfrm>
          <a:off x="5398920" y="3448080"/>
          <a:ext cx="27180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8920" y="3448080"/>
                    <a:ext cx="2718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2" name=""/>
          <p:cNvSpPr/>
          <p:nvPr/>
        </p:nvSpPr>
        <p:spPr>
          <a:xfrm>
            <a:off x="8172360" y="346536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4334040"/>
            <a:ext cx="4069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7.4d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ioáng MTÑ cuûa TC cuûa MBA Mang Taûi Trô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5556240" y="5464080"/>
          <a:ext cx="1968480" cy="73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56240" y="5464080"/>
                    <a:ext cx="1968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8101080" y="54198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440000" y="3151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4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946760" y="3573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403280" y="6416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4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C84-902F-4DAF-8D53-D6D2B52E76F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0"/>
            <a:ext cx="439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9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ùy Ñieän Moät Chieà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000" y="692280"/>
            <a:ext cx="730908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1.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aáu Taïo cuûa MÑ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Laøm Vieäc cuûa MP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ññ cuûa MÑ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PMC Kích Töø Ñoäc Laä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PMC Kích Töø Song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Laøm Vieäc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7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än Toác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8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oâmen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9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CMC Kích Töø Song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8EC-D354-40EF-892D-4249E19297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900000" y="189000"/>
            <a:ext cx="590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68360" y="19080"/>
            <a:ext cx="651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MTÑ1Þ cuûa ÑCKÑB3Þ QVST (H 7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900000" y="4095720"/>
            <a:ext cx="759636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ùc Thoâng Soá Maïch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ÑT vaø ÑK Taûn 1Þ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ÑT THLT vaø ÑK Töø Hoùa 1Þ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ÑD THLT vaø ÑN Töø Hoùa 1Þ cuûa 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166920" y="36450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4" name="" descr=""/>
          <p:cNvPicPr/>
          <p:nvPr/>
        </p:nvPicPr>
        <p:blipFill>
          <a:blip r:embed="rId1"/>
          <a:stretch/>
        </p:blipFill>
        <p:spPr>
          <a:xfrm>
            <a:off x="36360" y="711360"/>
            <a:ext cx="9072720" cy="282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418-A042-4AA0-8447-9D093D53AA2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/>
          <p:nvPr/>
        </p:nvSpPr>
        <p:spPr>
          <a:xfrm>
            <a:off x="395280" y="198360"/>
            <a:ext cx="633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Caùc Thoâng Soá Maïch Cuûa RTQV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979640" y="3608280"/>
            <a:ext cx="54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1266840" y="774720"/>
          <a:ext cx="54356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774720"/>
                    <a:ext cx="5435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9" name=""/>
          <p:cNvGraphicFramePr/>
          <p:nvPr/>
        </p:nvGraphicFramePr>
        <p:xfrm>
          <a:off x="1252440" y="1592280"/>
          <a:ext cx="62359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1592280"/>
                    <a:ext cx="6235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1" name=""/>
          <p:cNvGraphicFramePr/>
          <p:nvPr/>
        </p:nvGraphicFramePr>
        <p:xfrm>
          <a:off x="1405080" y="2408400"/>
          <a:ext cx="694692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5080" y="2408400"/>
                    <a:ext cx="6946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3" name=""/>
          <p:cNvSpPr/>
          <p:nvPr/>
        </p:nvSpPr>
        <p:spPr>
          <a:xfrm>
            <a:off x="792000" y="73980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792000" y="159228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92000" y="238428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324000" y="3006720"/>
            <a:ext cx="5508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Caùc Thoâng Soá Cheá Ñoä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042920" y="3681360"/>
            <a:ext cx="7020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AÙp pha vaø Sññ  pha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Doøng pha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Doøng Khoâng Taûi 1Þ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Thaønh Phaàn THLT vaø Töø Hoùa cu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8" name=""/>
          <p:cNvGraphicFramePr/>
          <p:nvPr/>
        </p:nvGraphicFramePr>
        <p:xfrm>
          <a:off x="1306440" y="4427640"/>
          <a:ext cx="2793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6440" y="4427640"/>
                    <a:ext cx="279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0" name=""/>
          <p:cNvGraphicFramePr/>
          <p:nvPr/>
        </p:nvGraphicFramePr>
        <p:xfrm>
          <a:off x="1258920" y="3780000"/>
          <a:ext cx="12826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3780000"/>
                    <a:ext cx="1282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2" name=""/>
          <p:cNvGraphicFramePr/>
          <p:nvPr/>
        </p:nvGraphicFramePr>
        <p:xfrm>
          <a:off x="7885080" y="5769000"/>
          <a:ext cx="30492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85080" y="5769000"/>
                    <a:ext cx="304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4" name=""/>
          <p:cNvGraphicFramePr/>
          <p:nvPr/>
        </p:nvGraphicFramePr>
        <p:xfrm>
          <a:off x="1281240" y="5038560"/>
          <a:ext cx="30456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81240" y="5038560"/>
                    <a:ext cx="304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6" name=""/>
          <p:cNvGraphicFramePr/>
          <p:nvPr/>
        </p:nvGraphicFramePr>
        <p:xfrm>
          <a:off x="1222200" y="5734080"/>
          <a:ext cx="121932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2200" y="5734080"/>
                    <a:ext cx="1219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8" name=""/>
          <p:cNvSpPr/>
          <p:nvPr/>
        </p:nvSpPr>
        <p:spPr>
          <a:xfrm>
            <a:off x="792000" y="368136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000" y="429264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2000" y="494172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2000" y="566100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5D2-8714-4D8B-9857-31FC5B2C9C0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5292720" y="4257720"/>
            <a:ext cx="2482920" cy="20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826920" y="4257720"/>
            <a:ext cx="2700360" cy="20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95280" y="297000"/>
            <a:ext cx="61214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 Caùc Thoâng Soá Cheá Ñoä Cuûa RTQV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368360" y="890640"/>
            <a:ext cx="651672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AÙp pha cuûa Taûi QV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Sññ pha cuûa RTQV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Sññ pha cuûa 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Doøng pha cuûa RTQV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6" name=""/>
          <p:cNvGraphicFramePr/>
          <p:nvPr/>
        </p:nvGraphicFramePr>
        <p:xfrm>
          <a:off x="1635120" y="1023840"/>
          <a:ext cx="14986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1023840"/>
                    <a:ext cx="1498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8" name=""/>
          <p:cNvGraphicFramePr/>
          <p:nvPr/>
        </p:nvGraphicFramePr>
        <p:xfrm>
          <a:off x="1635120" y="1698480"/>
          <a:ext cx="14349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5120" y="1698480"/>
                    <a:ext cx="1434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0" name=""/>
          <p:cNvGraphicFramePr/>
          <p:nvPr/>
        </p:nvGraphicFramePr>
        <p:xfrm>
          <a:off x="2163600" y="2284560"/>
          <a:ext cx="6858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3600" y="2284560"/>
                    <a:ext cx="68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2" name=""/>
          <p:cNvGraphicFramePr/>
          <p:nvPr/>
        </p:nvGraphicFramePr>
        <p:xfrm>
          <a:off x="1728720" y="2932200"/>
          <a:ext cx="13334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8720" y="2932200"/>
                    <a:ext cx="1333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4" name=""/>
          <p:cNvSpPr/>
          <p:nvPr/>
        </p:nvSpPr>
        <p:spPr>
          <a:xfrm>
            <a:off x="466560" y="3544920"/>
            <a:ext cx="85694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e. Caùc Phöông Trình Cuûa MTÑ1Þ cuûa ÑCKÑB3Þ QV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5" name=""/>
          <p:cNvGraphicFramePr/>
          <p:nvPr/>
        </p:nvGraphicFramePr>
        <p:xfrm>
          <a:off x="928800" y="4473720"/>
          <a:ext cx="2527200" cy="16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8800" y="4473720"/>
                    <a:ext cx="252720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7" name=""/>
          <p:cNvSpPr/>
          <p:nvPr/>
        </p:nvSpPr>
        <p:spPr>
          <a:xfrm>
            <a:off x="3600360" y="42656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672000" y="4924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672000" y="552600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648400" y="4416480"/>
          <a:ext cx="1917720" cy="177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48400" y="4416480"/>
                    <a:ext cx="19177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2" name=""/>
          <p:cNvSpPr/>
          <p:nvPr/>
        </p:nvSpPr>
        <p:spPr>
          <a:xfrm>
            <a:off x="7812000" y="4159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812000" y="4699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775640" y="52038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812000" y="5815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84360" y="91764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84360" y="160164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84360" y="217800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84360" y="289872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416-1138-44E5-99FD-9204275C1B1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3348000" y="5626080"/>
            <a:ext cx="2556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95280" y="44280"/>
            <a:ext cx="817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 MTÑ1Þ Gaàn Ñuùng Cuûa ÑCKÑB3Þ QVST (H 7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26920" y="3541680"/>
            <a:ext cx="813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R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X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ÑT, ÑK, vaø TTNM1Þ cuûa ÑC QV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61840" y="4508640"/>
            <a:ext cx="7958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aùc MTÑ1Þ H7.5 vaø H7.6 cuûa ÑCKÑB3Þ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hoaøn toaøn gioáng laàn löôït caùc MTÑ H6.8 vaø H6.9 cuûa MBA vôùi taûi trô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V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3540240" y="5681520"/>
          <a:ext cx="1968480" cy="7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5681520"/>
                    <a:ext cx="196848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7740720" y="5780160"/>
            <a:ext cx="1006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3527280" y="315108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8" name="" descr=""/>
          <p:cNvPicPr/>
          <p:nvPr/>
        </p:nvPicPr>
        <p:blipFill>
          <a:blip r:embed="rId3"/>
          <a:stretch/>
        </p:blipFill>
        <p:spPr>
          <a:xfrm>
            <a:off x="396720" y="615960"/>
            <a:ext cx="8604360" cy="26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7CD-DAB8-4972-B728-CF99B66A1A4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108000" y="2673360"/>
            <a:ext cx="8280360" cy="4022640"/>
          </a:xfrm>
          <a:prstGeom prst="rect">
            <a:avLst/>
          </a:prstGeom>
          <a:ln w="0">
            <a:noFill/>
          </a:ln>
        </p:spPr>
      </p:pic>
      <p:sp>
        <p:nvSpPr>
          <p:cNvPr id="1730" name=""/>
          <p:cNvSpPr/>
          <p:nvPr/>
        </p:nvSpPr>
        <p:spPr>
          <a:xfrm>
            <a:off x="395280" y="7920"/>
            <a:ext cx="5581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5. CS, TH vaø HS cuûa ÑCKÑB3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472000" y="547560"/>
            <a:ext cx="356400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Khoá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7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506920" y="2131920"/>
            <a:ext cx="367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Sô Ñoà Maïch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H 7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2124000" y="22035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543640" y="62485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" descr=""/>
          <p:cNvPicPr/>
          <p:nvPr/>
        </p:nvPicPr>
        <p:blipFill>
          <a:blip r:embed="rId2"/>
          <a:stretch/>
        </p:blipFill>
        <p:spPr>
          <a:xfrm>
            <a:off x="216000" y="619200"/>
            <a:ext cx="5184720" cy="164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541-133F-4BF0-8036-FA1ED57035F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2771640" y="5553000"/>
            <a:ext cx="277200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87280" y="189000"/>
            <a:ext cx="734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Löu Ñoà CS Trong ÑCKÑB3Þ (H 7.8 vaø 7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46200" y="828720"/>
            <a:ext cx="73818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CS Ñieän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ST (TH Ñieän 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TH Loûi Theùp (TH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Töø (CS vaøo 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Ñoàng RT (TH Ñieän 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Ma Saùt vaø Quaït Gioù (TH C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9" name=""/>
          <p:cNvGraphicFramePr/>
          <p:nvPr/>
        </p:nvGraphicFramePr>
        <p:xfrm>
          <a:off x="2851200" y="5591160"/>
          <a:ext cx="262872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1200" y="5591160"/>
                    <a:ext cx="2628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1" name=""/>
          <p:cNvSpPr/>
          <p:nvPr/>
        </p:nvSpPr>
        <p:spPr>
          <a:xfrm>
            <a:off x="724320" y="5732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7740720" y="5803920"/>
            <a:ext cx="1006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456-503A-49FE-900D-3747F623C5A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3" name="" descr=""/>
          <p:cNvPicPr/>
          <p:nvPr/>
        </p:nvPicPr>
        <p:blipFill>
          <a:blip r:embed="rId1"/>
          <a:stretch/>
        </p:blipFill>
        <p:spPr>
          <a:xfrm>
            <a:off x="358920" y="81000"/>
            <a:ext cx="8461080" cy="4813200"/>
          </a:xfrm>
          <a:prstGeom prst="rect">
            <a:avLst/>
          </a:prstGeom>
          <a:ln w="0">
            <a:noFill/>
          </a:ln>
        </p:spPr>
      </p:pic>
      <p:sp>
        <p:nvSpPr>
          <p:cNvPr id="1744" name=""/>
          <p:cNvSpPr/>
          <p:nvPr/>
        </p:nvSpPr>
        <p:spPr>
          <a:xfrm>
            <a:off x="971640" y="5456160"/>
            <a:ext cx="6551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31640" y="4879800"/>
            <a:ext cx="8425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Bieåu Thöùc caùc loaïi CS tính töø MTÑ H 7.3, 7.4,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6" name=""/>
          <p:cNvGraphicFramePr/>
          <p:nvPr/>
        </p:nvGraphicFramePr>
        <p:xfrm>
          <a:off x="1077840" y="5491080"/>
          <a:ext cx="6400800" cy="44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7840" y="5491080"/>
                    <a:ext cx="64008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8" name=""/>
          <p:cNvSpPr/>
          <p:nvPr/>
        </p:nvSpPr>
        <p:spPr>
          <a:xfrm>
            <a:off x="7740720" y="54928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971640" y="6031080"/>
            <a:ext cx="568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         = HSCS cuûa ÑCKÑB3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0" name=""/>
          <p:cNvGraphicFramePr/>
          <p:nvPr/>
        </p:nvGraphicFramePr>
        <p:xfrm>
          <a:off x="1619280" y="6211800"/>
          <a:ext cx="698400" cy="26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621180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2" name=""/>
          <p:cNvSpPr/>
          <p:nvPr/>
        </p:nvSpPr>
        <p:spPr>
          <a:xfrm>
            <a:off x="3924360" y="42688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31640" y="543096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E6C-EE83-4BEF-B859-7C51D6B5A8A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547640" y="5049720"/>
            <a:ext cx="457200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5" name=""/>
          <p:cNvGraphicFramePr/>
          <p:nvPr/>
        </p:nvGraphicFramePr>
        <p:xfrm>
          <a:off x="1332000" y="549360"/>
          <a:ext cx="168912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1689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7" name=""/>
          <p:cNvGraphicFramePr/>
          <p:nvPr/>
        </p:nvGraphicFramePr>
        <p:xfrm>
          <a:off x="1440000" y="1376280"/>
          <a:ext cx="28191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00" y="1376280"/>
                    <a:ext cx="2819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9" name=""/>
          <p:cNvGraphicFramePr/>
          <p:nvPr/>
        </p:nvGraphicFramePr>
        <p:xfrm>
          <a:off x="1368360" y="2090880"/>
          <a:ext cx="331488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68360" y="2090880"/>
                    <a:ext cx="3314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1" name=""/>
          <p:cNvGraphicFramePr/>
          <p:nvPr/>
        </p:nvGraphicFramePr>
        <p:xfrm>
          <a:off x="1368360" y="3151080"/>
          <a:ext cx="401328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68360" y="3151080"/>
                    <a:ext cx="4013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3" name=""/>
          <p:cNvGraphicFramePr/>
          <p:nvPr/>
        </p:nvGraphicFramePr>
        <p:xfrm>
          <a:off x="1332000" y="4060800"/>
          <a:ext cx="6146640" cy="73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4060800"/>
                    <a:ext cx="61466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5" name=""/>
          <p:cNvSpPr/>
          <p:nvPr/>
        </p:nvSpPr>
        <p:spPr>
          <a:xfrm>
            <a:off x="7777080" y="5493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812000" y="13762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813800" y="216360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775640" y="315108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7740720" y="41432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0" name=""/>
          <p:cNvGraphicFramePr/>
          <p:nvPr/>
        </p:nvGraphicFramePr>
        <p:xfrm>
          <a:off x="1706400" y="5121360"/>
          <a:ext cx="4254840" cy="82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06400" y="5121360"/>
                    <a:ext cx="42548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"/>
          <p:cNvSpPr/>
          <p:nvPr/>
        </p:nvSpPr>
        <p:spPr>
          <a:xfrm>
            <a:off x="7775640" y="5240160"/>
            <a:ext cx="115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11280" y="51264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11280" y="134136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11280" y="220500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11280" y="314172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11280" y="414972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724320" y="5265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8EB-3832-4E42-9478-1B118FB9118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>
            <a:off x="2230560" y="1268280"/>
            <a:ext cx="432108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268360" y="5049720"/>
            <a:ext cx="4211640" cy="11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03280" y="152280"/>
            <a:ext cx="525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6. Moâmen Cuûa ÑCK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826920" y="703440"/>
            <a:ext cx="6805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oâmen Ra (Moâmen Coù Ích Treân Truï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3" name=""/>
          <p:cNvGraphicFramePr/>
          <p:nvPr/>
        </p:nvGraphicFramePr>
        <p:xfrm>
          <a:off x="2374920" y="1376280"/>
          <a:ext cx="41022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1376280"/>
                    <a:ext cx="41022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5" name=""/>
          <p:cNvSpPr/>
          <p:nvPr/>
        </p:nvSpPr>
        <p:spPr>
          <a:xfrm>
            <a:off x="7848720" y="14493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332000" y="2395440"/>
            <a:ext cx="633564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N.m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W),     (rad/s) vaø n (v/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7" name=""/>
          <p:cNvGraphicFramePr/>
          <p:nvPr/>
        </p:nvGraphicFramePr>
        <p:xfrm>
          <a:off x="4413240" y="2529000"/>
          <a:ext cx="2667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240" y="2529000"/>
                    <a:ext cx="266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9" name=""/>
          <p:cNvSpPr/>
          <p:nvPr/>
        </p:nvSpPr>
        <p:spPr>
          <a:xfrm>
            <a:off x="934920" y="3105000"/>
            <a:ext cx="644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Toång (Moâmen Ñieän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0" name=""/>
          <p:cNvGraphicFramePr/>
          <p:nvPr/>
        </p:nvGraphicFramePr>
        <p:xfrm>
          <a:off x="1908000" y="3884760"/>
          <a:ext cx="463572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884760"/>
                    <a:ext cx="4635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2" name=""/>
          <p:cNvSpPr/>
          <p:nvPr/>
        </p:nvSpPr>
        <p:spPr>
          <a:xfrm>
            <a:off x="7848720" y="406404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3" name=""/>
          <p:cNvGraphicFramePr/>
          <p:nvPr/>
        </p:nvGraphicFramePr>
        <p:xfrm>
          <a:off x="2376360" y="5121360"/>
          <a:ext cx="3962520" cy="10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76360" y="5121360"/>
                    <a:ext cx="3962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5" name=""/>
          <p:cNvSpPr/>
          <p:nvPr/>
        </p:nvSpPr>
        <p:spPr>
          <a:xfrm>
            <a:off x="7812000" y="537228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986040" y="5265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986040" y="4076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986040" y="152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2D2-DB8C-40F7-84D6-925D430E280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/>
          <p:nvPr/>
        </p:nvSpPr>
        <p:spPr>
          <a:xfrm>
            <a:off x="250920" y="81000"/>
            <a:ext cx="8605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8.</a:t>
            </a:r>
            <a:r>
              <a:rPr b="1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 Maùy Phaùt Ñoàng Boä Ba 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684360" y="620640"/>
            <a:ext cx="48956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1. Caáu taïo cuûa MPÑB3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971640" y="1154160"/>
            <a:ext cx="76690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tato (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oûi Theùp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ây Quaán ST (DQST) goàm 3 cuoän (ax, by, c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971640" y="2646360"/>
            <a:ext cx="7777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Roâto (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oûi Theùp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ây Quaán RT (DQRT) hay Daây Quaán Kích Tö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DQKT) goàm 2p cöïc töø, coù 2 daï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T cöïc lo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T cöïc aån hay RT hình tru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71640" y="5770440"/>
            <a:ext cx="68752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Boä Kích Töø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ng caáp Doøng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D7D-AA41-4CFD-B17C-6588E06A41D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2920" y="189000"/>
            <a:ext cx="900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1</a:t>
            </a:r>
            <a:r>
              <a:rPr b="0" lang="en-US" sz="3000" spc="-1" strike="noStrike">
                <a:solidFill>
                  <a:srgbClr val="0000ff"/>
                </a:solidFill>
                <a:latin typeface="VNI-Revue"/>
                <a:ea typeface="Times New Roman"/>
              </a:rPr>
              <a:t> Khaùi Nieäm Chung Veà Maïch Ñieä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360" y="703440"/>
            <a:ext cx="738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.1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ùc Thaønh Phaàn Cuûa Maïch Ñieän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H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2720" y="3843360"/>
            <a:ext cx="8172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Ñieän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ng Caáp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Na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öôøng Daây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aã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ruyeàn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Naê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ieát Bò Bieán Ñoåi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ieán Ñoå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, Doøng, Taàn Soá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 Ñieän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haïâ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Naê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24360" y="7713720"/>
          <a:ext cx="9781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7713720"/>
                    <a:ext cx="978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960720" y="3295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66720" y="1376280"/>
            <a:ext cx="7937640" cy="17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22A-6539-46FD-B4AB-7479C7BA8D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3024360" y="6186600"/>
            <a:ext cx="259236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31640" y="7920"/>
            <a:ext cx="7777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2. Nguyeân Lyù Laøm Vieäc Cuûa MPÑB3Þ (H 8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246560" y="873000"/>
            <a:ext cx="489744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oá trí 3 cuoän (ax, by, cz) cu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QS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ùch nhau 120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NI-Centur"/>
                <a:ea typeface="Times New Roman"/>
              </a:rPr>
              <a:t>o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QKT, ta ñöôï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ø Thoâ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Moät Chieàu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phuï thuoäc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7" name=""/>
          <p:cNvGraphicFramePr/>
          <p:nvPr/>
        </p:nvGraphicFramePr>
        <p:xfrm>
          <a:off x="6102360" y="3860640"/>
          <a:ext cx="142236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2360" y="3860640"/>
                    <a:ext cx="1422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9" name=""/>
          <p:cNvSpPr/>
          <p:nvPr/>
        </p:nvSpPr>
        <p:spPr>
          <a:xfrm>
            <a:off x="539640" y="4637160"/>
            <a:ext cx="86043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uøng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Cô Naê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Ñoäng Cô Sô Caáp – ÑCS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quay RT vôùi vaän toác n. Töø thoâng töùc thôø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uyeân qua 1 voøng daây cuûa cuoän ax coù daï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3132000" y="6222960"/>
          <a:ext cx="24004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6222960"/>
                    <a:ext cx="2400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2" name=""/>
          <p:cNvSpPr/>
          <p:nvPr/>
        </p:nvSpPr>
        <p:spPr>
          <a:xfrm>
            <a:off x="7381800" y="6211800"/>
            <a:ext cx="8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584360" y="4076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5"/>
          <a:stretch/>
        </p:blipFill>
        <p:spPr>
          <a:xfrm>
            <a:off x="214200" y="649440"/>
            <a:ext cx="3781440" cy="35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A23-1496-44F3-91CC-DB789FFB65AA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2843280" y="4905360"/>
            <a:ext cx="4068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843280" y="3033720"/>
            <a:ext cx="40338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843280" y="1125360"/>
            <a:ext cx="4032360" cy="16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81080" y="190440"/>
            <a:ext cx="69152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3 sññ caûm öùng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sinh ra trong 3 cuoän (ax, by, cz) cuûa DQST laø 1 NA3ÞC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9" name=""/>
          <p:cNvGraphicFramePr/>
          <p:nvPr/>
        </p:nvGraphicFramePr>
        <p:xfrm>
          <a:off x="2968560" y="1155600"/>
          <a:ext cx="3835440" cy="16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8560" y="1155600"/>
                    <a:ext cx="38354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1" name=""/>
          <p:cNvSpPr/>
          <p:nvPr/>
        </p:nvSpPr>
        <p:spPr>
          <a:xfrm>
            <a:off x="7958160" y="192708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76360" y="3079800"/>
            <a:ext cx="1800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àn So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3" name=""/>
          <p:cNvGraphicFramePr/>
          <p:nvPr/>
        </p:nvGraphicFramePr>
        <p:xfrm>
          <a:off x="4251240" y="3016080"/>
          <a:ext cx="104148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1240" y="3016080"/>
                    <a:ext cx="104148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5" name=""/>
          <p:cNvSpPr/>
          <p:nvPr/>
        </p:nvSpPr>
        <p:spPr>
          <a:xfrm>
            <a:off x="7921800" y="3079800"/>
            <a:ext cx="82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55640" y="3943440"/>
            <a:ext cx="712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 n = VTRT (v/p) vaø p = soá ñoâi cöïc cuûa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47640" y="4941720"/>
            <a:ext cx="17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ññ 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8" name=""/>
          <p:cNvGraphicFramePr/>
          <p:nvPr/>
        </p:nvGraphicFramePr>
        <p:xfrm>
          <a:off x="3492360" y="5013360"/>
          <a:ext cx="295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5013360"/>
                    <a:ext cx="295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0" name=""/>
          <p:cNvSpPr/>
          <p:nvPr/>
        </p:nvSpPr>
        <p:spPr>
          <a:xfrm>
            <a:off x="7886880" y="494172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792000" y="5743440"/>
            <a:ext cx="68770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q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eä Soá Daây Quaán S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q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&lt;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00200" y="343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35E-5955-4A19-87EF-1ACE7CD308B5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142920" y="1693800"/>
            <a:ext cx="4500360" cy="3606840"/>
          </a:xfrm>
          <a:prstGeom prst="rect">
            <a:avLst/>
          </a:prstGeom>
          <a:ln w="0">
            <a:noFill/>
          </a:ln>
        </p:spPr>
      </p:pic>
      <p:sp>
        <p:nvSpPr>
          <p:cNvPr id="1834" name=""/>
          <p:cNvSpPr/>
          <p:nvPr/>
        </p:nvSpPr>
        <p:spPr>
          <a:xfrm>
            <a:off x="4284720" y="5769000"/>
            <a:ext cx="370836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50920" y="225360"/>
            <a:ext cx="68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3 MTÑ Vaø Phöông Trình Cuûa MP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250920" y="765000"/>
            <a:ext cx="889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TÑ cuûa R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hay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8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643280" y="1413000"/>
            <a:ext cx="45007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 Caùc Thoâng Soá Maï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 cuûa DQ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Bieán Trôû Kích Tö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 cuûa M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716360" y="3573360"/>
            <a:ext cx="4211640" cy="18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Caùc Thoâng Soá Cheá Ño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Ùp Kích Tö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Kích Tö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788000" y="5084640"/>
            <a:ext cx="30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Phöông Trì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0" name=""/>
          <p:cNvGraphicFramePr/>
          <p:nvPr/>
        </p:nvGraphicFramePr>
        <p:xfrm>
          <a:off x="4429080" y="5948280"/>
          <a:ext cx="349272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9080" y="5948280"/>
                    <a:ext cx="3492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2" name=""/>
          <p:cNvSpPr/>
          <p:nvPr/>
        </p:nvSpPr>
        <p:spPr>
          <a:xfrm>
            <a:off x="8099280" y="584028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4000" y="5481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5EE-B51D-4422-8542-43C8B48D356F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1494000" y="4735440"/>
            <a:ext cx="630072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511280" y="5337000"/>
            <a:ext cx="6264360" cy="11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95280" y="225360"/>
            <a:ext cx="835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TÑ1Þ cuûa ST (Phaàn ÖÙng) cuûa MPÑB3Þ (H 8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464000" y="765000"/>
            <a:ext cx="45370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ÑB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TT pha cuûa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 Sñ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Ùp Taûi, Doøng ÖÙng vaø Doøng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95280" y="4005360"/>
            <a:ext cx="813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ÑB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 laø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9" name=""/>
          <p:cNvGraphicFramePr/>
          <p:nvPr/>
        </p:nvGraphicFramePr>
        <p:xfrm>
          <a:off x="4854600" y="2830680"/>
          <a:ext cx="20574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4600" y="2830680"/>
                    <a:ext cx="2057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1" name=""/>
          <p:cNvGraphicFramePr/>
          <p:nvPr/>
        </p:nvGraphicFramePr>
        <p:xfrm>
          <a:off x="1733400" y="4811760"/>
          <a:ext cx="59058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4811760"/>
                    <a:ext cx="590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3" name=""/>
          <p:cNvSpPr/>
          <p:nvPr/>
        </p:nvSpPr>
        <p:spPr>
          <a:xfrm>
            <a:off x="7993080" y="473544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4" name=""/>
          <p:cNvGraphicFramePr/>
          <p:nvPr/>
        </p:nvGraphicFramePr>
        <p:xfrm>
          <a:off x="2065320" y="5481720"/>
          <a:ext cx="55245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5320" y="5481720"/>
                    <a:ext cx="5524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6" name=""/>
          <p:cNvGraphicFramePr/>
          <p:nvPr/>
        </p:nvGraphicFramePr>
        <p:xfrm>
          <a:off x="4192560" y="6005520"/>
          <a:ext cx="10666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2560" y="6005520"/>
                    <a:ext cx="1066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8" name=""/>
          <p:cNvSpPr/>
          <p:nvPr/>
        </p:nvSpPr>
        <p:spPr>
          <a:xfrm>
            <a:off x="7956720" y="5626080"/>
            <a:ext cx="82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73400" y="566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584360" y="3475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9"/>
          <a:stretch/>
        </p:blipFill>
        <p:spPr>
          <a:xfrm>
            <a:off x="69840" y="1000080"/>
            <a:ext cx="4357800" cy="232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E82-964B-46EE-8875-8A94F29FB191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592360" y="4114800"/>
            <a:ext cx="342108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08000" y="404640"/>
            <a:ext cx="83167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4. Phaàn Traêm Thay Ñoåi Ñieän AÙp (</a:t>
            </a:r>
            <a:r>
              <a:rPr b="1" lang="en-US" sz="2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U%) cuûa MPÑB3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24000" y="882720"/>
            <a:ext cx="37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Nghó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24000" y="1433520"/>
            <a:ext cx="8316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8.3, cho MPÑB3Þ laøm vieäc vôù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ññ 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 ñoå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Xeùt AÙp Taûi HD                ôû 2 cheá ñoä s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6" name=""/>
          <p:cNvGraphicFramePr/>
          <p:nvPr/>
        </p:nvGraphicFramePr>
        <p:xfrm>
          <a:off x="4289400" y="2168640"/>
          <a:ext cx="143496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9400" y="2168640"/>
                    <a:ext cx="1434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"/>
          <p:cNvGraphicFramePr/>
          <p:nvPr/>
        </p:nvGraphicFramePr>
        <p:xfrm>
          <a:off x="7296120" y="1482840"/>
          <a:ext cx="13971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96120" y="1482840"/>
                    <a:ext cx="1397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"/>
          <p:cNvSpPr/>
          <p:nvPr/>
        </p:nvSpPr>
        <p:spPr>
          <a:xfrm>
            <a:off x="289080" y="2781360"/>
            <a:ext cx="813564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eá Ñoä Coù 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taûi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eá Ñoä Khoâng 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) :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oâng taûi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1" name=""/>
          <p:cNvGraphicFramePr/>
          <p:nvPr/>
        </p:nvGraphicFramePr>
        <p:xfrm>
          <a:off x="3708360" y="2903400"/>
          <a:ext cx="12952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903400"/>
                    <a:ext cx="1295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3" name=""/>
          <p:cNvGraphicFramePr/>
          <p:nvPr/>
        </p:nvGraphicFramePr>
        <p:xfrm>
          <a:off x="2689200" y="4184640"/>
          <a:ext cx="32511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89200" y="4184640"/>
                    <a:ext cx="3251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5" name=""/>
          <p:cNvSpPr/>
          <p:nvPr/>
        </p:nvSpPr>
        <p:spPr>
          <a:xfrm>
            <a:off x="7883640" y="425772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84360" y="5197320"/>
            <a:ext cx="79912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eo (8.3), (8.4) vaø H 8.2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eáu maùy laøm vieäc vôùi vaän toác n vaø doøng kích töø 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khoâng ñoåi thì 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khoâng ñoå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39840" y="4267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39840" y="5408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8C8-F36D-466A-A7AB-371F8C817631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9" name="" descr=""/>
          <p:cNvPicPr/>
          <p:nvPr/>
        </p:nvPicPr>
        <p:blipFill>
          <a:blip r:embed="rId1"/>
          <a:stretch/>
        </p:blipFill>
        <p:spPr>
          <a:xfrm>
            <a:off x="0" y="584280"/>
            <a:ext cx="5580000" cy="371160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647640" y="6164280"/>
            <a:ext cx="759780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47640" y="5121360"/>
            <a:ext cx="75978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68360" y="7920"/>
            <a:ext cx="471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Tính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% khi bieát (U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3" name=""/>
          <p:cNvGraphicFramePr/>
          <p:nvPr/>
        </p:nvGraphicFramePr>
        <p:xfrm>
          <a:off x="6138720" y="3549600"/>
          <a:ext cx="2286000" cy="44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38720" y="3549600"/>
                    <a:ext cx="2286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5" name=""/>
          <p:cNvGraphicFramePr/>
          <p:nvPr/>
        </p:nvGraphicFramePr>
        <p:xfrm>
          <a:off x="692280" y="5229360"/>
          <a:ext cx="7480080" cy="57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5229360"/>
                    <a:ext cx="7480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7" name=""/>
          <p:cNvSpPr/>
          <p:nvPr/>
        </p:nvSpPr>
        <p:spPr>
          <a:xfrm>
            <a:off x="8172360" y="5229360"/>
            <a:ext cx="97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8" name=""/>
          <p:cNvGraphicFramePr/>
          <p:nvPr/>
        </p:nvGraphicFramePr>
        <p:xfrm>
          <a:off x="1332000" y="6200640"/>
          <a:ext cx="623556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6200640"/>
                    <a:ext cx="6235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0" name=""/>
          <p:cNvSpPr/>
          <p:nvPr/>
        </p:nvSpPr>
        <p:spPr>
          <a:xfrm>
            <a:off x="255960" y="5265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55960" y="61642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84360" y="4400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627520" y="3500280"/>
            <a:ext cx="4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2627280" y="4113360"/>
            <a:ext cx="6516720" cy="1034640"/>
            <a:chOff x="2627280" y="4113360"/>
            <a:chExt cx="6516720" cy="1034640"/>
          </a:xfrm>
        </p:grpSpPr>
        <p:graphicFrame>
          <p:nvGraphicFramePr>
            <p:cNvPr id="1895" name=""/>
            <p:cNvGraphicFramePr/>
            <p:nvPr/>
          </p:nvGraphicFramePr>
          <p:xfrm>
            <a:off x="3036960" y="4226040"/>
            <a:ext cx="4991040" cy="380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036960" y="4226040"/>
                      <a:ext cx="4991040" cy="38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7" name=""/>
            <p:cNvGraphicFramePr/>
            <p:nvPr/>
          </p:nvGraphicFramePr>
          <p:xfrm>
            <a:off x="3137040" y="4728960"/>
            <a:ext cx="6006960" cy="419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8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37040" y="4728960"/>
                      <a:ext cx="60069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9" name=""/>
            <p:cNvSpPr/>
            <p:nvPr/>
          </p:nvSpPr>
          <p:spPr>
            <a:xfrm>
              <a:off x="2639880" y="4113360"/>
              <a:ext cx="468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spcAft>
                  <a:spcPts val="601"/>
                </a:spcAft>
                <a:buClr>
                  <a:srgbClr val="0000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627280" y="4618080"/>
              <a:ext cx="468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spcAft>
                  <a:spcPts val="601"/>
                </a:spcAft>
                <a:buClr>
                  <a:srgbClr val="0000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>
            <a:off x="5651640" y="728640"/>
            <a:ext cx="3384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uøng (8.9), neáu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oï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ö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= |</a:t>
            </a:r>
            <a:r>
              <a:rPr b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T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|laøm goác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ta veõ ñöôï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à Thò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 8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97D-44F8-4567-8BD5-337A95CBCAB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2" name="" descr=""/>
          <p:cNvPicPr/>
          <p:nvPr/>
        </p:nvPicPr>
        <p:blipFill>
          <a:blip r:embed="rId1"/>
          <a:stretch/>
        </p:blipFill>
        <p:spPr>
          <a:xfrm>
            <a:off x="142920" y="3112920"/>
            <a:ext cx="8137440" cy="359280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468360" y="260280"/>
            <a:ext cx="54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5. CS, TH, HS cuûa MP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651640" y="476280"/>
            <a:ext cx="349236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 Khoái (H 8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Sô Ñoà Maïch (H 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158920" y="2540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50920" y="628344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7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5400720" cy="173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D76-B0E1-479D-84FD-7DBC3C43177E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"/>
          <p:cNvSpPr/>
          <p:nvPr/>
        </p:nvSpPr>
        <p:spPr>
          <a:xfrm>
            <a:off x="2987640" y="5481720"/>
            <a:ext cx="3168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01480" y="115920"/>
            <a:ext cx="6158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Löu Ñoà CS trong MPÑB3Þ (H 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934920" y="652320"/>
            <a:ext cx="666144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Loûi Theùp (TH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ÖÙng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Kích Töø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Ma Saùt &amp; Quaït Gioù (TH C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1" name=""/>
          <p:cNvGraphicFramePr/>
          <p:nvPr/>
        </p:nvGraphicFramePr>
        <p:xfrm>
          <a:off x="3059280" y="5518080"/>
          <a:ext cx="29336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5518080"/>
                    <a:ext cx="2933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3" name=""/>
          <p:cNvSpPr/>
          <p:nvPr/>
        </p:nvSpPr>
        <p:spPr>
          <a:xfrm>
            <a:off x="7704000" y="570852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22760" y="5626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5C8-12E6-4ACC-B578-3DF7F8052E7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2987640" y="5408640"/>
            <a:ext cx="352908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987640" y="2637000"/>
            <a:ext cx="349236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987640" y="1449360"/>
            <a:ext cx="3456000" cy="3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987640" y="836640"/>
            <a:ext cx="345600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31640" y="152280"/>
            <a:ext cx="842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Bieåu Thöùc Caùc Loaïi CS Tính Töø H 8.2, 8.3, &amp; 8.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0" name=""/>
          <p:cNvGraphicFramePr/>
          <p:nvPr/>
        </p:nvGraphicFramePr>
        <p:xfrm>
          <a:off x="3954600" y="907920"/>
          <a:ext cx="14094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4600" y="907920"/>
                    <a:ext cx="1409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2" name=""/>
          <p:cNvGraphicFramePr/>
          <p:nvPr/>
        </p:nvGraphicFramePr>
        <p:xfrm>
          <a:off x="3095640" y="1514520"/>
          <a:ext cx="298440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1514520"/>
                    <a:ext cx="2984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4" name=""/>
          <p:cNvSpPr/>
          <p:nvPr/>
        </p:nvSpPr>
        <p:spPr>
          <a:xfrm>
            <a:off x="1619280" y="1989000"/>
            <a:ext cx="5832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W);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N.m);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rad/s); vaø n(v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3384720" y="2673360"/>
          <a:ext cx="2552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4720" y="2673360"/>
                    <a:ext cx="2552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7" name=""/>
          <p:cNvGraphicFramePr/>
          <p:nvPr/>
        </p:nvGraphicFramePr>
        <p:xfrm>
          <a:off x="3851280" y="3330720"/>
          <a:ext cx="176544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3330720"/>
                    <a:ext cx="17654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9" name=""/>
          <p:cNvGraphicFramePr/>
          <p:nvPr/>
        </p:nvGraphicFramePr>
        <p:xfrm>
          <a:off x="3924360" y="4040280"/>
          <a:ext cx="1511280" cy="48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4040280"/>
                    <a:ext cx="15112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1" name=""/>
          <p:cNvSpPr/>
          <p:nvPr/>
        </p:nvSpPr>
        <p:spPr>
          <a:xfrm>
            <a:off x="1908000" y="3897360"/>
            <a:ext cx="5004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58920" y="4616280"/>
            <a:ext cx="669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6. Moâmen Vaøo Do ÑCSC Keùo MP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7775640" y="728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7775640" y="13874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7740720" y="198900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740720" y="27194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7738920" y="333072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7704000" y="40514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7704000" y="552132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0" name=""/>
          <p:cNvGraphicFramePr/>
          <p:nvPr/>
        </p:nvGraphicFramePr>
        <p:xfrm>
          <a:off x="3057480" y="5450040"/>
          <a:ext cx="320040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7480" y="5450040"/>
                    <a:ext cx="32004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2" name=""/>
          <p:cNvSpPr/>
          <p:nvPr/>
        </p:nvSpPr>
        <p:spPr>
          <a:xfrm>
            <a:off x="689400" y="1998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64480" y="83664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64480" y="256536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64480" y="396864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64480" y="324972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EBA-9750-4E58-AAA5-CBF26F2CDBB5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/>
          <p:nvPr/>
        </p:nvSpPr>
        <p:spPr>
          <a:xfrm>
            <a:off x="1185840" y="7920"/>
            <a:ext cx="70581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9.</a:t>
            </a:r>
            <a:r>
              <a:rPr b="1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 Maùy Ñieän Moät Chieà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08000" y="657360"/>
            <a:ext cx="421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1  Caáu Taïo Cuûa MÑ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396720" y="1089000"/>
            <a:ext cx="442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tato (ST) (Phaàn Caû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792000" y="1557360"/>
            <a:ext cx="76694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S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ST) hay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KT) goàm 2p cöïc tö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68360" y="3105000"/>
            <a:ext cx="496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Roât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RT)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865080" y="3573360"/>
            <a:ext cx="79916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R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RT) hay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Phaàn 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P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39640" y="5157720"/>
            <a:ext cx="78487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Vaønh Go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Vaønh Ñoåi Chieà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eå Chænh Löu sññ xoay chieàu thaønh moät chieà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4D7-717A-487F-A152-80EAEF4BF40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9680" y="2241720"/>
            <a:ext cx="304632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72000" y="873000"/>
            <a:ext cx="514800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Töû Hai Ñaà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PT) laø Phaàn Töû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hoû nhaá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maïch ñieä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vaø B laø 2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aàu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ñeå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oá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ôùi caùc PT khaù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VNI-Centu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Ñie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1 taäp hôï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T noái vôùi nha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UÙ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ieåm Noá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n Ñaàu Ra 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V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öôøng Kí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oàm m PT  (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536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áu Truùc Cuûa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50920" y="18082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24000" y="5851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3348000" cy="76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8C9-7F07-4911-9BAD-A574641807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"/>
          <p:cNvSpPr/>
          <p:nvPr/>
        </p:nvSpPr>
        <p:spPr>
          <a:xfrm>
            <a:off x="324000" y="225360"/>
            <a:ext cx="8496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2 Nguyeân Lyù Laøm Vieäc Cuûa Maùy Phaùt Moät Chieàu (MP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708360" y="836640"/>
            <a:ext cx="525636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doøng kích töø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DQKT, ta ñöôïc töø thoâ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uøng 1 ÑCSC quay RT vôùi vaän toác n. Daây daãn RT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ieàu daøi 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caét töø thoâ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Maät Ñoä Töø T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9.1) vôù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vaän toác v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ân trong daây xuaát hieän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ññ caûm öùng e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xem laïi H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6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8" name=""/>
          <p:cNvSpPr/>
          <p:nvPr/>
        </p:nvSpPr>
        <p:spPr>
          <a:xfrm>
            <a:off x="4967280" y="4508640"/>
            <a:ext cx="176544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 = Bv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1079640" y="4976640"/>
            <a:ext cx="730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nh go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ænh löu vaø noái laïi thaønh sññ E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468360" y="5408640"/>
            <a:ext cx="341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3. Sññ cuûa MÑ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900000" y="4195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8137440" y="45086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3" name=""/>
          <p:cNvGraphicFramePr/>
          <p:nvPr/>
        </p:nvGraphicFramePr>
        <p:xfrm>
          <a:off x="1190520" y="6013440"/>
          <a:ext cx="23367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6013440"/>
                    <a:ext cx="2336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5" name=""/>
          <p:cNvSpPr/>
          <p:nvPr/>
        </p:nvSpPr>
        <p:spPr>
          <a:xfrm>
            <a:off x="763920" y="5913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8137440" y="57690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967280" y="5769000"/>
            <a:ext cx="1728720" cy="55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 = 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435640" y="3176640"/>
            <a:ext cx="252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8675640" y="3284640"/>
            <a:ext cx="252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" descr=""/>
          <p:cNvPicPr/>
          <p:nvPr/>
        </p:nvPicPr>
        <p:blipFill>
          <a:blip r:embed="rId5"/>
          <a:stretch/>
        </p:blipFill>
        <p:spPr>
          <a:xfrm>
            <a:off x="108000" y="1682640"/>
            <a:ext cx="3600360" cy="217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554-00FF-45C9-822F-C2B543DD4C8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5400720" y="4184640"/>
            <a:ext cx="262728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24000" y="189000"/>
            <a:ext cx="56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4. MPMC Kích Töø Ñoäc Laä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221440" y="765000"/>
            <a:ext cx="392256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H9.2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ioáng maïch kích töø cuû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PÑB3Þ (H 8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aïch ÖÙng (H 9.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 Phaàn ÖÙ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11280" y="3808440"/>
            <a:ext cx="378144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     = SÑ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AÙp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Suït AÙp Qua R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Doøng ÖÙ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Doøng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5440320" y="4280040"/>
          <a:ext cx="255276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0320" y="4280040"/>
                    <a:ext cx="255276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8137440" y="41846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8137440" y="46180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8137440" y="56008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8137440" y="50846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368360" y="3187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19280" y="2889360"/>
            <a:ext cx="57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592360" y="2889360"/>
            <a:ext cx="5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4" name="" descr=""/>
          <p:cNvPicPr/>
          <p:nvPr/>
        </p:nvPicPr>
        <p:blipFill>
          <a:blip r:embed="rId3"/>
          <a:stretch/>
        </p:blipFill>
        <p:spPr>
          <a:xfrm>
            <a:off x="144360" y="800280"/>
            <a:ext cx="4967280" cy="21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1BF-FD06-44EB-A0B4-7D7D9C4510F8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7488000" cy="3942000"/>
          </a:xfrm>
          <a:prstGeom prst="rect">
            <a:avLst/>
          </a:prstGeom>
          <a:ln w="0">
            <a:noFill/>
          </a:ln>
        </p:spPr>
      </p:pic>
      <p:sp>
        <p:nvSpPr>
          <p:cNvPr id="1986" name=""/>
          <p:cNvSpPr/>
          <p:nvPr/>
        </p:nvSpPr>
        <p:spPr>
          <a:xfrm>
            <a:off x="4751280" y="5229360"/>
            <a:ext cx="2952720" cy="10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76360" y="5229360"/>
            <a:ext cx="3108240" cy="10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31640" y="81000"/>
            <a:ext cx="554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5 MPMC Kích Töø Song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719280" y="584280"/>
            <a:ext cx="658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TÑ (H 9.3) vaø caùc Phöông Trì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0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2" name=""/>
          <p:cNvGraphicFramePr/>
          <p:nvPr/>
        </p:nvGraphicFramePr>
        <p:xfrm>
          <a:off x="696960" y="5337000"/>
          <a:ext cx="2908080" cy="88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6960" y="5337000"/>
                    <a:ext cx="29080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4" name=""/>
          <p:cNvSpPr/>
          <p:nvPr/>
        </p:nvSpPr>
        <p:spPr>
          <a:xfrm>
            <a:off x="3600360" y="4411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816360" y="51944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816360" y="57434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848720" y="571032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8029440" y="51944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9" name=""/>
          <p:cNvGraphicFramePr/>
          <p:nvPr/>
        </p:nvGraphicFramePr>
        <p:xfrm>
          <a:off x="5113440" y="5338800"/>
          <a:ext cx="2158920" cy="81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13440" y="5338800"/>
                    <a:ext cx="21589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594-BFF1-4B8F-AA0F-73A576208C4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/>
          <p:nvPr/>
        </p:nvSpPr>
        <p:spPr>
          <a:xfrm>
            <a:off x="3240000" y="4471920"/>
            <a:ext cx="3024360" cy="8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468360" y="115920"/>
            <a:ext cx="676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S, TH vaø HS cuûa MPMCKTSS. (H 9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863640" y="657360"/>
            <a:ext cx="65167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= CS Cô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= TH Loûi Theùp (TH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Ñoàng ÖÙng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Kích Töø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Ma Saùt vaø Quaït Gioù (TH C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Toå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7812000" y="3321000"/>
            <a:ext cx="118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5" name=""/>
          <p:cNvGraphicFramePr/>
          <p:nvPr/>
        </p:nvGraphicFramePr>
        <p:xfrm>
          <a:off x="3276720" y="4473720"/>
          <a:ext cx="293364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473720"/>
                    <a:ext cx="29336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7" name=""/>
          <p:cNvSpPr/>
          <p:nvPr/>
        </p:nvSpPr>
        <p:spPr>
          <a:xfrm>
            <a:off x="7775640" y="4545000"/>
            <a:ext cx="118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468360" y="5373720"/>
            <a:ext cx="68403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Moâmen Vaøo do ÑCSC keùo MPMCKT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ioáng (8.21) cuûa MPÑB3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951120" y="4581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140-1FF3-4739-93FB-1652DA96306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576360" y="476280"/>
            <a:ext cx="8136000" cy="2544840"/>
          </a:xfrm>
          <a:prstGeom prst="rect">
            <a:avLst/>
          </a:prstGeom>
          <a:ln w="0">
            <a:noFill/>
          </a:ln>
        </p:spPr>
      </p:pic>
      <p:sp>
        <p:nvSpPr>
          <p:cNvPr id="2011" name=""/>
          <p:cNvSpPr/>
          <p:nvPr/>
        </p:nvSpPr>
        <p:spPr>
          <a:xfrm>
            <a:off x="108000" y="7920"/>
            <a:ext cx="9036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6 Nguyeân Lyù Laøm Vieäc cuûa Ñoäng Cô Moät Chieàu (ÑCM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240000" y="5888160"/>
            <a:ext cx="2376720" cy="55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 = B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2a)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61800" y="3341520"/>
            <a:ext cx="842328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doø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DQKT, ta ñöôïc Töø Thoâ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Maät Ñoä Töø Thoâng B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H 9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doø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Maïch ÖÙng, ta ñöôïc doø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2a chaïy qua daây daãn phaàn öùng. Daây daãn naøy chòu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öïc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F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m phaàn öùng qu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7740720" y="58514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436680" y="5923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6875640" y="2852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29080" y="4076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813800" y="5157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1584360" y="2852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215-1E25-483A-AD80-2DFE3C9B5962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/>
          <p:nvPr/>
        </p:nvSpPr>
        <p:spPr>
          <a:xfrm>
            <a:off x="3060720" y="4724280"/>
            <a:ext cx="309564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060720" y="1736640"/>
            <a:ext cx="3203640" cy="10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39640" y="260280"/>
            <a:ext cx="493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7 Vaän Toác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3" name=""/>
          <p:cNvGraphicFramePr/>
          <p:nvPr/>
        </p:nvGraphicFramePr>
        <p:xfrm>
          <a:off x="2116080" y="1052640"/>
          <a:ext cx="40766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6080" y="1052640"/>
                    <a:ext cx="4076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5" name=""/>
          <p:cNvSpPr/>
          <p:nvPr/>
        </p:nvSpPr>
        <p:spPr>
          <a:xfrm>
            <a:off x="719280" y="944640"/>
            <a:ext cx="13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6" name=""/>
          <p:cNvGraphicFramePr/>
          <p:nvPr/>
        </p:nvGraphicFramePr>
        <p:xfrm>
          <a:off x="3095640" y="1860480"/>
          <a:ext cx="312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1860480"/>
                    <a:ext cx="3124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8" name=""/>
          <p:cNvSpPr/>
          <p:nvPr/>
        </p:nvSpPr>
        <p:spPr>
          <a:xfrm>
            <a:off x="7740720" y="9810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7740720" y="20034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611280" y="2898720"/>
            <a:ext cx="392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8 Moâmen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682560" y="3500280"/>
            <a:ext cx="8174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 coù 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. Vaäy töø (9.13), ta suy ra bieåu thöùc cuû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töông öùng vôùi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Cô 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2" name=""/>
          <p:cNvGraphicFramePr/>
          <p:nvPr/>
        </p:nvGraphicFramePr>
        <p:xfrm>
          <a:off x="3637080" y="4811760"/>
          <a:ext cx="17780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7080" y="4811760"/>
                    <a:ext cx="1778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4" name=""/>
          <p:cNvSpPr/>
          <p:nvPr/>
        </p:nvSpPr>
        <p:spPr>
          <a:xfrm>
            <a:off x="7704000" y="459576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008000" y="5599080"/>
            <a:ext cx="7812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oà thò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coù 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öôøng Töø Hoù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 = B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689400" y="5589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7" name=""/>
          <p:cNvGraphicFramePr/>
          <p:nvPr/>
        </p:nvGraphicFramePr>
        <p:xfrm>
          <a:off x="826920" y="2100240"/>
          <a:ext cx="317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210024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74D-5E94-4669-83F6-3259D66A20AF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9" name="" descr=""/>
          <p:cNvPicPr/>
          <p:nvPr/>
        </p:nvPicPr>
        <p:blipFill>
          <a:blip r:embed="rId1"/>
          <a:stretch/>
        </p:blipFill>
        <p:spPr>
          <a:xfrm>
            <a:off x="863640" y="1052640"/>
            <a:ext cx="7093080" cy="3935160"/>
          </a:xfrm>
          <a:prstGeom prst="rect">
            <a:avLst/>
          </a:prstGeom>
          <a:ln w="0">
            <a:noFill/>
          </a:ln>
        </p:spPr>
      </p:pic>
      <p:sp>
        <p:nvSpPr>
          <p:cNvPr id="2040" name=""/>
          <p:cNvSpPr/>
          <p:nvPr/>
        </p:nvSpPr>
        <p:spPr>
          <a:xfrm>
            <a:off x="5040360" y="5221440"/>
            <a:ext cx="2340000" cy="112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96720" y="7920"/>
            <a:ext cx="597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9 ÑCMCKTSS (ÑC Sh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84360" y="547560"/>
            <a:ext cx="622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TÑ (H 9.6) Vaø Caùc Phöông Trì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3" name=""/>
          <p:cNvGraphicFramePr/>
          <p:nvPr/>
        </p:nvGraphicFramePr>
        <p:xfrm>
          <a:off x="5219640" y="5337000"/>
          <a:ext cx="198144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5337000"/>
                    <a:ext cx="1981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5" name=""/>
          <p:cNvSpPr/>
          <p:nvPr/>
        </p:nvSpPr>
        <p:spPr>
          <a:xfrm>
            <a:off x="3024360" y="52023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60720" y="57801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7705800" y="5194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7667640" y="5770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824360" y="4545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68360" y="5221440"/>
            <a:ext cx="2340000" cy="108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1" name=""/>
          <p:cNvGraphicFramePr/>
          <p:nvPr/>
        </p:nvGraphicFramePr>
        <p:xfrm>
          <a:off x="749160" y="5337000"/>
          <a:ext cx="1778040" cy="88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9160" y="5337000"/>
                    <a:ext cx="1778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094-A4D6-4E62-BAB6-8D38A6F45EE0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2448000" y="5661000"/>
            <a:ext cx="3132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95280" y="90360"/>
            <a:ext cx="781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S, TH, vaø HS cuûa ÑCMCKTSS (H 9.6 &amp; 9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755640" y="620640"/>
            <a:ext cx="7993080" cy="54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CS Ñieän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Kích Töø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Vaøo RT (CS Vaøo Phaàn ÖÙ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Ñoàng ÖÙng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TH Loûi Theùp (TH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Ma Saùt Vaø Quaït Gioù (TH C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Khoâng 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Qua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7810560" y="4041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7775640" y="5121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8" name=""/>
          <p:cNvGraphicFramePr/>
          <p:nvPr/>
        </p:nvGraphicFramePr>
        <p:xfrm>
          <a:off x="2556000" y="5697360"/>
          <a:ext cx="29336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697360"/>
                    <a:ext cx="2933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0" name=""/>
          <p:cNvSpPr/>
          <p:nvPr/>
        </p:nvSpPr>
        <p:spPr>
          <a:xfrm>
            <a:off x="7704000" y="573408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843120" y="5842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6C0-986B-42B0-9D3B-DACEB4201E3E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>
            <a:off x="647640" y="115920"/>
            <a:ext cx="7812000" cy="4514760"/>
          </a:xfrm>
          <a:prstGeom prst="rect">
            <a:avLst/>
          </a:prstGeom>
          <a:ln w="0">
            <a:noFill/>
          </a:ln>
        </p:spPr>
      </p:pic>
      <p:sp>
        <p:nvSpPr>
          <p:cNvPr id="2063" name=""/>
          <p:cNvSpPr/>
          <p:nvPr/>
        </p:nvSpPr>
        <p:spPr>
          <a:xfrm>
            <a:off x="2087640" y="5156280"/>
            <a:ext cx="4356000" cy="11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755640" y="4627440"/>
            <a:ext cx="730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Bieåu thöùc caùc loaïi CS tính töø MTÑ H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5" name=""/>
          <p:cNvGraphicFramePr/>
          <p:nvPr/>
        </p:nvGraphicFramePr>
        <p:xfrm>
          <a:off x="2268360" y="5265720"/>
          <a:ext cx="398808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265720"/>
                    <a:ext cx="3988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7" name=""/>
          <p:cNvGraphicFramePr/>
          <p:nvPr/>
        </p:nvGraphicFramePr>
        <p:xfrm>
          <a:off x="2592360" y="5805360"/>
          <a:ext cx="331488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2360" y="5805360"/>
                    <a:ext cx="3314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9" name=""/>
          <p:cNvSpPr/>
          <p:nvPr/>
        </p:nvSpPr>
        <p:spPr>
          <a:xfrm>
            <a:off x="7704000" y="51213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7667640" y="58881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851280" y="4195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EA1-4C1A-42B4-A99C-3B7497509F4A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2376360" y="4330800"/>
            <a:ext cx="4608720" cy="21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319640" y="584280"/>
            <a:ext cx="3168720" cy="25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250920" y="44280"/>
            <a:ext cx="47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Moâmen Cuûa ÑCMCKT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6360" y="728640"/>
            <a:ext cx="341928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TH Q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R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6" name=""/>
          <p:cNvGraphicFramePr/>
          <p:nvPr/>
        </p:nvGraphicFramePr>
        <p:xfrm>
          <a:off x="4362480" y="620640"/>
          <a:ext cx="299700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620640"/>
                    <a:ext cx="299700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8" name=""/>
          <p:cNvSpPr/>
          <p:nvPr/>
        </p:nvSpPr>
        <p:spPr>
          <a:xfrm>
            <a:off x="7704000" y="657360"/>
            <a:ext cx="12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7667640" y="1566720"/>
            <a:ext cx="12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7704000" y="2467080"/>
            <a:ext cx="12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58920" y="3284640"/>
            <a:ext cx="87850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vaø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laø caùc Thoâng Soá ôû hai Cheá Ñoä 1 vaø 2; thì töø (9.15) vaø (9.16), ta co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2" name=""/>
          <p:cNvGraphicFramePr/>
          <p:nvPr/>
        </p:nvGraphicFramePr>
        <p:xfrm>
          <a:off x="2484360" y="4452840"/>
          <a:ext cx="443232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452840"/>
                    <a:ext cx="4432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"/>
          <p:cNvSpPr/>
          <p:nvPr/>
        </p:nvSpPr>
        <p:spPr>
          <a:xfrm>
            <a:off x="7812000" y="44877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5" name=""/>
          <p:cNvGraphicFramePr/>
          <p:nvPr/>
        </p:nvGraphicFramePr>
        <p:xfrm>
          <a:off x="3456000" y="5603760"/>
          <a:ext cx="203184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6000" y="5603760"/>
                    <a:ext cx="2031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7" name=""/>
          <p:cNvSpPr/>
          <p:nvPr/>
        </p:nvSpPr>
        <p:spPr>
          <a:xfrm>
            <a:off x="7812000" y="564048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843120" y="5192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510-C4B9-48E5-A2BB-811D9AEDFB9F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127080"/>
            <a:ext cx="6983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.3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Caùc Thoâng Soá Cheá Ñoä Cuûa 1 PT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H 1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4200" y="760320"/>
            <a:ext cx="648180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ùc thôø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xaùc ñònh bôû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ieàu Quy Chieáu Doøng(CQCD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ôøng Ñoä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ua PT: i = i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565360"/>
            <a:ext cx="82090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 &g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ieàu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 Cu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Q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 &l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ieàu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 Ngöô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Q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ùc thôøi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xaùc ñònh bôû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ieàu Quy Chieáu AÙp (CQCA)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+, –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ieäu Ñieän Theá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qua PT: u=u(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 &g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Theá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aàu + Lôùn Hô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Theá Ñaàu 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 &l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Theá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aàu + Nhoû Hô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Theá Ñaàu 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989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873000"/>
            <a:ext cx="2663640" cy="1094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424720" y="1521000"/>
            <a:ext cx="360360" cy="11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0F3-1D8C-4A46-8DC1-E06F0E8C81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06560" y="5589720"/>
            <a:ext cx="2737080" cy="8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0"/>
            <a:ext cx="521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COÂNG SUAÁ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ùc thôø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588960"/>
            <a:ext cx="83898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Neáu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muõi teân (   ) höôùng töø + sang –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töùc thô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 bôûi P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98920" y="2025720"/>
            <a:ext cx="273672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(t) = u(t)i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2673360"/>
            <a:ext cx="50770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 &g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 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 &l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 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051440"/>
            <a:ext cx="277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ÑIEÄN NA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20606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4664160"/>
            <a:ext cx="6913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Naê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ieâu thuï bôûi PT töø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eá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03480" y="5640480"/>
          <a:ext cx="23623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3480" y="5640480"/>
                    <a:ext cx="2362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848720" y="5770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00360" y="833400"/>
            <a:ext cx="360360" cy="1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B08-CBFC-4102-8813-0D5A864B24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354400" cy="522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40360" y="4294080"/>
            <a:ext cx="147492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1800" y="2241720"/>
            <a:ext cx="14749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7280" y="152280"/>
            <a:ext cx="43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.4.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Caùc Loaïi PT Cô Baû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765000"/>
            <a:ext cx="6480000" cy="67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AÙp Ñoäc Laäp (NAÑL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Ùp khoâng phuï thuoäc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 = 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Nguoàn Doøng Ñoäc Laäp (NDÑL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oøng khoâng phuï thuoäc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 = 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Phaàn Töû Ñieän Trôû (Ñieän Trôû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 vaø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yû Leä Thua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ôùi n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28000" y="217980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8000" y="430380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560" y="1665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0560" y="3789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0560" y="5985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B95-0118-49EB-90BB-528E2E4EED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664000" y="225360"/>
            <a:ext cx="374328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4000" y="1736640"/>
            <a:ext cx="374328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4000" y="3213000"/>
            <a:ext cx="374328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4000" y="5697360"/>
            <a:ext cx="374328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706920" y="384120"/>
          <a:ext cx="13208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6920" y="384120"/>
                    <a:ext cx="1320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4360" y="1063800"/>
            <a:ext cx="662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Trôû (ÑT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PT Ñieän Trôû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43280" y="1859040"/>
          <a:ext cx="13082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3280" y="1859040"/>
                    <a:ext cx="1308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84360" y="2503440"/>
            <a:ext cx="662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Daã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ÑD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PT Ñieän Trôû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92560" y="3249720"/>
          <a:ext cx="274320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2560" y="3249720"/>
                    <a:ext cx="27432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92000" y="4292640"/>
            <a:ext cx="684072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5) vaø (1.6) goïi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ònh luaät OÂm (ÑLOÂ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S töùc thôøi tieâu thuï bôûi Ñieän Trôû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843280" y="5794200"/>
          <a:ext cx="34034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5794200"/>
                    <a:ext cx="3403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84360" y="21276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89072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0000" y="21276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0000" y="180828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20000" y="335772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0" y="573408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66E-2530-4D42-83CD-49C4C85611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0" b="68820"/>
          <a:stretch/>
        </p:blipFill>
        <p:spPr>
          <a:xfrm>
            <a:off x="108000" y="912960"/>
            <a:ext cx="3024000" cy="1471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11640" y="4041720"/>
            <a:ext cx="4356000" cy="17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11640" y="728640"/>
            <a:ext cx="4356000" cy="17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189000"/>
            <a:ext cx="5797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PT Ñieän Caûm (Cuoän Caûm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540240" y="806400"/>
          <a:ext cx="3924360" cy="15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0240" y="806400"/>
                    <a:ext cx="392436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022560" y="2610000"/>
            <a:ext cx="59054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Cuoän Caûm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PT Ñieän Dung (Tuï Ñieän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449520" y="4195800"/>
          <a:ext cx="4038840" cy="15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9520" y="4195800"/>
                    <a:ext cx="403884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879640" y="5888160"/>
            <a:ext cx="5329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Du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uï Ñieän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3640" y="105264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1773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41860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50148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63720" y="2395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3720" y="5815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rcRect l="0" t="68712" r="0" b="0"/>
          <a:stretch/>
        </p:blipFill>
        <p:spPr>
          <a:xfrm>
            <a:off x="73080" y="4184640"/>
            <a:ext cx="3166920" cy="154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BCA-3D18-4FDA-BA51-DA0E9FDAE1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15912" t="0" r="19018" b="70771"/>
          <a:stretch/>
        </p:blipFill>
        <p:spPr>
          <a:xfrm>
            <a:off x="287280" y="615960"/>
            <a:ext cx="2484360" cy="2128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84720" y="1341360"/>
            <a:ext cx="327492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2565360"/>
            <a:ext cx="327492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4076640"/>
            <a:ext cx="327492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5624640"/>
            <a:ext cx="3274920" cy="54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640" y="15228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5. Hai ñònh luaät Kirchh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786200" y="1463760"/>
          <a:ext cx="22860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6200" y="1463760"/>
                    <a:ext cx="2286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987640" y="1927080"/>
            <a:ext cx="381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ïi nuùt A (H1.1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730760" y="2637000"/>
          <a:ext cx="25779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30760" y="2637000"/>
                    <a:ext cx="257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166920" y="3249720"/>
            <a:ext cx="56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Ñònh Luaät Kirchhoff AÙp (Ñ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319640" y="4189320"/>
          <a:ext cx="3149640" cy="35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9640" y="4189320"/>
                    <a:ext cx="3149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095640" y="4834080"/>
            <a:ext cx="5618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ong voøng 1234 (ABCD) (H1.1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00720" y="5697360"/>
          <a:ext cx="294624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0720" y="5697360"/>
                    <a:ext cx="2946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024360" y="765000"/>
            <a:ext cx="611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Luaät Kirchhoff Doøng (ÑK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54920" y="13413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54920" y="41133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3640" y="2565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5985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0"/>
          <a:srcRect l="0" t="47211" r="0" b="0"/>
          <a:stretch/>
        </p:blipFill>
        <p:spPr>
          <a:xfrm>
            <a:off x="198360" y="3176640"/>
            <a:ext cx="2752920" cy="27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26C-2048-4640-BDF5-3D524CC965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514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NI-Revue"/>
              </a:rPr>
              <a:t>NOÄI DUNG MOÂN HO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6360" y="188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99540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8400" y="1160640"/>
            <a:ext cx="61592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 veà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ïch Ñieän hìn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phöông phaùp giaûi Maïc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aïch Ñieän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 veà Maùy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ùy Bieán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äng Cô Khoâng Ñoàng Boä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ùy Phaùt Ñoàng Boä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ùy Ñieän Moät Chieà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55736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220500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280" y="276696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7280" y="335772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7280" y="391968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447372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280" y="503568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558972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8FD-1F18-4BD6-80BC-BB3AB511A6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92360" y="4941720"/>
            <a:ext cx="51480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08360" y="2276640"/>
            <a:ext cx="298944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00" y="0"/>
            <a:ext cx="691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2.</a:t>
            </a:r>
            <a:r>
              <a:rPr b="0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 Maïch Ñieän Hình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765000"/>
            <a:ext cx="590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 Khaùi Nieäm Chung Veà Haøm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867200" y="2374920"/>
          <a:ext cx="26161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7200" y="2374920"/>
                    <a:ext cx="2616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27120" y="3959280"/>
          <a:ext cx="74930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3959280"/>
                    <a:ext cx="7493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952640" y="5043600"/>
          <a:ext cx="471168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2640" y="5043600"/>
                    <a:ext cx="4711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85840" y="5707080"/>
            <a:ext cx="691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oùc Chaïâm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Doøng So Vôùi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376280"/>
            <a:ext cx="8532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öø Chöông 2, AÙp vaø Doøng qua PT treân H 2.1 coù Daïng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81840" y="2492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07844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1840" y="49766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333072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1840" y="4051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01336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431640" y="1955880"/>
            <a:ext cx="3600720" cy="13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CA7-89BC-4406-9F55-C20021DF59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58920" y="4797360"/>
            <a:ext cx="3024000" cy="1563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600360" y="4906800"/>
            <a:ext cx="435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2673360"/>
            <a:ext cx="3203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1376280"/>
            <a:ext cx="3203640" cy="86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89000"/>
            <a:ext cx="5508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080" y="0"/>
            <a:ext cx="867564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2 AÙp Hieäu Duïng (AHD) Vaø Doøng Hieäu Duïng (D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Trò 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1 haøm x(t)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uaàn hoaø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u kyø 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916360" y="1413000"/>
          <a:ext cx="271764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413000"/>
                    <a:ext cx="27176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24000" y="2133720"/>
            <a:ext cx="6984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AHD vaø D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AÙp Sin vaø Doøng Sin (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105000" y="2798640"/>
          <a:ext cx="2438640" cy="77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05000" y="2798640"/>
                    <a:ext cx="24386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61840" y="3789360"/>
            <a:ext cx="7597800" cy="13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eá ñoä laøm vieä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1 PT trong maïch sin ñöôïc xaùc ñònh bôû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2 caëp soá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U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(I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(H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778200" y="4950000"/>
          <a:ext cx="4038480" cy="96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78200" y="4950000"/>
                    <a:ext cx="4038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224000" y="6345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46920" y="14698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6920" y="29606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397836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46920" y="5086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7E3-0878-4E0A-9CA1-1FCDD1C69B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951280" y="5300640"/>
            <a:ext cx="3600360" cy="115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89080" y="4579920"/>
            <a:ext cx="489600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55440"/>
            <a:ext cx="8893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3. Bieåu Dieãn AÙp Sin Vaø Doøng Sin Baèng Vectô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2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3280" y="728640"/>
            <a:ext cx="504036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vectô U c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oä lôùn =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öôùng: taïo vôùi truïc x 1 goùc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vectô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oä lôùn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öôùng: taïo vôùi truïc x 1goù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332080" y="4692600"/>
          <a:ext cx="452124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4692600"/>
                    <a:ext cx="4521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68360" y="4035600"/>
            <a:ext cx="56512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 coù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öï Töông ÖÙng 1 – gioùng – 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74680" y="3548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9124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54400" y="5450040"/>
          <a:ext cx="3048120" cy="86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0" y="5450040"/>
                    <a:ext cx="30481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846920" y="5743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46920" y="4545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6983280" y="692280"/>
            <a:ext cx="252720" cy="74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343640" y="2309760"/>
            <a:ext cx="252720" cy="74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211640" y="4613400"/>
            <a:ext cx="252360" cy="74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6659640" y="4613400"/>
            <a:ext cx="252360" cy="74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4608360" y="5372280"/>
            <a:ext cx="252720" cy="74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5977080" y="5372280"/>
            <a:ext cx="25236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5867280" y="5840280"/>
            <a:ext cx="252360" cy="74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5256360" y="5840280"/>
            <a:ext cx="252360" cy="74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503280" y="560520"/>
            <a:ext cx="3168720" cy="308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AE1-39F5-4DBB-84CB-BA872058E5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87280" y="765000"/>
            <a:ext cx="287964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92000" y="4040280"/>
            <a:ext cx="666288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2200" y="189000"/>
            <a:ext cx="547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4. Quan Heä AÙp – Doøng Cuûa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303640"/>
            <a:ext cx="5077080" cy="184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heá Ñoä Hoaït Ñoäng cuûa Taûi xaùc ñònh bôûi 2 caëp soá (U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vaø (I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08000" y="4149720"/>
            <a:ext cx="72741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oång Trôû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TT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aûi = Z =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Go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aûi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468760" y="4076640"/>
          <a:ext cx="137160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8760" y="407664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297240" y="4832280"/>
          <a:ext cx="375912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4832280"/>
                    <a:ext cx="375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90560" y="5734080"/>
            <a:ext cx="6950160" cy="898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oãi Taûi ñöôïc ñaëc tröng bôûi 1 CAËP SOÁ (Z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3640" y="47721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11640" y="129852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27280" y="836640"/>
            <a:ext cx="561672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1 taäp hôï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T R, L, 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oái vôùi nhau 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æ coù 2 Ñaàu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 Cöû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577044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13080" y="288288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54920" y="41133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50920" y="3403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5F0-6D17-4D40-8CC1-F188C2EA18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30480" y="1015920"/>
            <a:ext cx="6510240" cy="2133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87640" y="4005360"/>
            <a:ext cx="5113440" cy="20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3280" y="0"/>
            <a:ext cx="17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aï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9640" y="476280"/>
            <a:ext cx="504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vaø ñoà thò vectô (H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8720" y="5516640"/>
            <a:ext cx="295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aïch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R, 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63680" y="4687920"/>
          <a:ext cx="474984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3680" y="4687920"/>
                    <a:ext cx="4749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720" y="3429000"/>
            <a:ext cx="2195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8360" y="4087800"/>
            <a:ext cx="4932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Trô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PT Ñieän Trô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87640" y="2852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6000" y="2852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11640" y="3043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702560" y="4051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2560" y="5337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02560" y="4653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7C2-87D5-4DB8-BC2A-3134DE2500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47640" y="1125360"/>
            <a:ext cx="7705800" cy="2797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4920" y="4437000"/>
            <a:ext cx="6373800" cy="18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6560" y="631800"/>
            <a:ext cx="52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vaø ñoà thò vectô (H2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5840" y="5853240"/>
            <a:ext cx="30258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aïch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16000" y="5049720"/>
          <a:ext cx="527040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5049720"/>
                    <a:ext cx="5270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431640" y="127080"/>
            <a:ext cx="18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aïc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3280" y="3932280"/>
            <a:ext cx="2232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4545000"/>
            <a:ext cx="6553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ûm Kha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PT Ñieän Caû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87640" y="3295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48360" y="3295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11640" y="3583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02560" y="4519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702560" y="515772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02560" y="58420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33B-BAD7-431B-AF7F-247C0298B2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63640" y="981000"/>
            <a:ext cx="7308720" cy="2398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92000" y="3968640"/>
            <a:ext cx="6732720" cy="230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81000"/>
            <a:ext cx="316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Maïch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549360"/>
            <a:ext cx="651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vaø ñoà thò vectô (H2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865080" y="4076640"/>
          <a:ext cx="6623280" cy="217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5080" y="4076640"/>
                    <a:ext cx="66232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504720" y="3475080"/>
            <a:ext cx="2303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87640" y="3068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27640" y="303372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3033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920" y="41958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75640" y="4941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738920" y="56721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344-84FB-47D2-B95E-43102228FA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7840" y="4471920"/>
            <a:ext cx="7850160" cy="187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280" y="0"/>
            <a:ext cx="41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Maïch RLC Noái Tie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280" y="512640"/>
            <a:ext cx="5329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Vaø Ñoà Thò Vectô (H2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57320" y="4616280"/>
          <a:ext cx="78613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4616280"/>
                    <a:ext cx="78613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2087640" y="335592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8360" y="335592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16360" y="3429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954920" y="44830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8000" y="3906720"/>
            <a:ext cx="248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54920" y="5156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54920" y="5851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76360" y="1125360"/>
            <a:ext cx="7632720" cy="227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D14-A416-40F8-AAF6-645D6EE77B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50920" y="4735440"/>
            <a:ext cx="6192720" cy="9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417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Maïch RLC song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13080" y="1125360"/>
            <a:ext cx="500400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  = 1/R 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Daã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cuûa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1/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ûm Naï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cuûa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1/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ung Naï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287360" y="4807080"/>
          <a:ext cx="5842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4807080"/>
                    <a:ext cx="5842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81080" y="4159080"/>
            <a:ext cx="7488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Naïp (ÑN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Maïch RL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000" y="5815080"/>
            <a:ext cx="799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 = 1/Z = I/U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oång Daãn (TD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Maïch RL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0360" y="584280"/>
            <a:ext cx="640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(H2.9) vaø ñoà thò vectô (H 2.8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358308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1080" y="1782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01080" y="2430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01080" y="3114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01080" y="41590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01080" y="49514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01080" y="57801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71280" y="1206360"/>
            <a:ext cx="3276720" cy="21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587-943F-4A26-875F-59AF16F183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716360" y="3284640"/>
            <a:ext cx="3205440" cy="15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36360"/>
            <a:ext cx="755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5 TT Vectô vaø Tam Giaùc TT(TGTT) cuûa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566640"/>
            <a:ext cx="766944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Z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oä lôùn Z vaø höôùng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GT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ïnh huyeàn S vaø 1 goùc baèng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 = Z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 Töông Ñöông (ÑTTÑ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aû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 = Z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öông Ñöông (ÑKTÑ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aû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781520" y="3378240"/>
          <a:ext cx="304812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1520" y="3378240"/>
                    <a:ext cx="30481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8099280" y="379872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99280" y="1538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99280" y="21146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79640" y="6211800"/>
            <a:ext cx="1690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2448000" y="530280"/>
            <a:ext cx="189000" cy="55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4920" y="2673360"/>
            <a:ext cx="4500720" cy="3556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637160" y="2600280"/>
            <a:ext cx="3521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Taûi Caûm (H 2.10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022-2BF9-43EE-88EA-97E1588EF7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410680" y="-619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135000"/>
            <a:ext cx="500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8920" y="225360"/>
            <a:ext cx="5292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NOÄI DUNG CHI TIE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873000"/>
            <a:ext cx="608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Khaùi Nieäm Chung veà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4920" y="1484280"/>
            <a:ext cx="648180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Thaønh Phaàn cuûa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u Truùc cuûa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Thoâng Soá Cheá Ñoä cuûa 1 Phaàn Tö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4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loaïi Phaàn Töû Cô Baû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ai Ñònh Luaät Kirchh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06560" y="4689360"/>
            <a:ext cx="41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Ñieän Hìn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11280" y="5338800"/>
            <a:ext cx="5869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 veà Haøm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 Hieäu Duïng vaø Doøng Hieäu Duï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F61-51BC-4EFC-B7C4-E4272AB59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73160" y="368280"/>
            <a:ext cx="3714480" cy="5759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067280" y="4473720"/>
            <a:ext cx="3995640" cy="17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7280" y="1197000"/>
            <a:ext cx="3995640" cy="172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241880" y="1434960"/>
          <a:ext cx="3733560" cy="134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1880" y="1434960"/>
                    <a:ext cx="37335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995640" y="3665520"/>
            <a:ext cx="4753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Taûi coäng höôûng (H 2.10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811760" y="4616280"/>
          <a:ext cx="240012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11760" y="4616280"/>
                    <a:ext cx="24001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067280" y="404640"/>
            <a:ext cx="36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Taûi dung (H 2.10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34200" y="18558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34920" y="2852640"/>
            <a:ext cx="16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34920" y="5913360"/>
            <a:ext cx="16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134200" y="52293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9AE-2A39-4ECF-8CFC-F7AEFBABF9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rcRect l="0" t="55068" r="0" b="12047"/>
          <a:stretch/>
        </p:blipFill>
        <p:spPr>
          <a:xfrm>
            <a:off x="71280" y="3895560"/>
            <a:ext cx="3353040" cy="2881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rcRect l="0" t="0" r="0" b="54289"/>
          <a:stretch/>
        </p:blipFill>
        <p:spPr>
          <a:xfrm>
            <a:off x="103320" y="81000"/>
            <a:ext cx="3193920" cy="3816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816360" y="4329000"/>
            <a:ext cx="3995640" cy="14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16360" y="1089000"/>
            <a:ext cx="3995640" cy="14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14920" y="271440"/>
            <a:ext cx="47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Taûi Thuaàn Caûm (H 2.10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995640" y="1089000"/>
          <a:ext cx="349272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1089000"/>
                    <a:ext cx="34927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3706920" y="3548160"/>
            <a:ext cx="471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Taûi thuaàn dung (H 2.10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032360" y="4329000"/>
          <a:ext cx="3632040" cy="14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2360" y="4329000"/>
                    <a:ext cx="36320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8062920" y="1521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4920" y="3357720"/>
            <a:ext cx="16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062920" y="48340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63640" y="6021360"/>
            <a:ext cx="16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259-5624-498B-8F89-92CF977AAA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1280" y="515880"/>
            <a:ext cx="2810160" cy="2084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971640" y="5202360"/>
            <a:ext cx="6480000" cy="10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11280" y="3546360"/>
            <a:ext cx="5292720" cy="11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19080"/>
            <a:ext cx="57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6. CS Tieâu Thuï Bôûi Taûi (H 2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692280"/>
            <a:ext cx="583236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ûi tieâu thuï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3 loaïi C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ùc Duï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(W);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ûn Kha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(v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ieåu Kieá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 (V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546200" y="3529080"/>
          <a:ext cx="525780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3529080"/>
                    <a:ext cx="5257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362320" y="5275440"/>
          <a:ext cx="375912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5275440"/>
                    <a:ext cx="3759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395280" y="2944800"/>
            <a:ext cx="590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2. CS P vaø Q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 bôûi R, L, 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4626000"/>
            <a:ext cx="612144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3. Neáu taûi goàm nhieàu PT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95640" y="2170080"/>
            <a:ext cx="446400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 = UI; P = S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Q = S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956720" y="2168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9280" y="24922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956720" y="3618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56720" y="51404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060560" y="5794200"/>
          <a:ext cx="631188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0560" y="5794200"/>
                    <a:ext cx="6311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7956720" y="58150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374-23F7-43F3-9E65-006641CCC4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68360" y="2847960"/>
            <a:ext cx="6218280" cy="1805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087640" y="1736640"/>
            <a:ext cx="4321080" cy="10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0"/>
            <a:ext cx="874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CS Vectô vaø Tam Giaùc CS (TGCS) cuûa Taûi (H 2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657360"/>
            <a:ext cx="6912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où ñoä lôùn S vaø höôùng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GC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ïnh huyeàn S vaø 1 goùc baèng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259000" y="1822320"/>
          <a:ext cx="401328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9000" y="1822320"/>
                    <a:ext cx="4013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39640" y="5084640"/>
            <a:ext cx="7993080" cy="196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 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ieâu thuï P vaø tieâu thuï Q  (H 2.1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 Du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ieâu thuï P vaø phaùt ra Q (H 2.1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720" y="173664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2720" y="231300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775640" y="2168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43280" y="4437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24000" y="4581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4360" y="4581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2403360" y="620640"/>
            <a:ext cx="189000" cy="558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2266920" y="2313000"/>
            <a:ext cx="18900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3193920" y="2313000"/>
            <a:ext cx="189000" cy="5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813-FEE2-4076-B4D3-A06357AAE2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73320" y="1015920"/>
            <a:ext cx="7186320" cy="4718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11280" y="85680"/>
            <a:ext cx="6661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7 Bieåu Dieãn Vectô cuûa AÙp Doøng, TT,     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   vaø CS cuûa Taûi (H 2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64000" y="5707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24000" y="30686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30686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5697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5697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343-1AF0-45F2-920F-A4013A6EED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00360" y="1233360"/>
            <a:ext cx="3816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9280" y="189000"/>
            <a:ext cx="4897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8 Heä Soá Coâng Suaát (HS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2276640"/>
            <a:ext cx="7308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Goùc HSCS cuûa Taûi (= Goùc cuûa Taû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û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HSCS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treã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Taû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u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HSCS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ôù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Söï Quan Troïng cuûa HSCS cuûa Taû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808360" y="1305000"/>
          <a:ext cx="3543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8360" y="1305000"/>
                    <a:ext cx="3543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1332000" y="657360"/>
            <a:ext cx="561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SCS cuûa Taûi Treân H 2.11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92720" y="5888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79640" y="58784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43640" y="58784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5640" y="1413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1547640" y="3897360"/>
            <a:ext cx="6334200" cy="186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129-7374-4CE4-8666-F727336B66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46200" y="461880"/>
            <a:ext cx="81025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2.14a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AHD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ñieän ch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AHD U vaø TGCS treân H 2.14b, qu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öôøng Daâ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ÑT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Ta c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oøng daâ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taûi I  =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oån Hao (TH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eân daây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S phaùt                      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ieäu Suaát (HS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aûi ñieä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ûi tìm caùch naâng cao HSCS cuûa taûi.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065560" y="1803240"/>
          <a:ext cx="105408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560" y="1803240"/>
                    <a:ext cx="10540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5853240" y="2630520"/>
          <a:ext cx="6984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3240" y="2630520"/>
                    <a:ext cx="698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038560" y="3803760"/>
          <a:ext cx="2743200" cy="81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3803760"/>
                    <a:ext cx="27432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2050920" y="4672080"/>
          <a:ext cx="41529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4672080"/>
                    <a:ext cx="4152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987640" y="2341440"/>
          <a:ext cx="91440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234144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7775640" y="1890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775640" y="2565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75640" y="3249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75640" y="3897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F52-A036-4120-9597-CFD5D868FB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988920" y="728640"/>
            <a:ext cx="7255080" cy="21826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348000" y="5337000"/>
            <a:ext cx="327672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1640" y="163440"/>
            <a:ext cx="640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Naâng cao HSCS cuûa taûi baèng tuï bu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3032280"/>
            <a:ext cx="81723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 muoán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aâng HSCS cuûa taûi treân H 2.15 töø 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leân cos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aèng caùch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heùp 1 tuï ñieän C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//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eå ñöôï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aûi môù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406680" y="4329000"/>
          <a:ext cx="23115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06680" y="4329000"/>
                    <a:ext cx="2311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1106640" y="4834080"/>
          <a:ext cx="67053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6640" y="4834080"/>
                    <a:ext cx="6705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3456000" y="5445000"/>
          <a:ext cx="3060720" cy="74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56000" y="5445000"/>
                    <a:ext cx="30607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3959280" y="26002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2360" y="25290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775640" y="5445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20000" y="25290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75640" y="4221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75640" y="4869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479736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8360" y="4292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9E3-95FF-4654-AD51-E0373A35F2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47640" y="271440"/>
            <a:ext cx="586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9 Ño CSTD Baèng Wattheá (H 2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944640"/>
            <a:ext cx="5041800" cy="23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 vaø N laø hai MMC noái vôùi nhau taïi 2 nuùt A vaø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uoän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uoän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W coù 2 ñaàu;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1 ñaàu ñaùnh daáu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24000" y="2565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775640" y="4508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" y="3105000"/>
            <a:ext cx="7561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choïn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QCD (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 ñi vaøo ñaàu + cuûa W vaø CQCA (+, –) coù ñaàu + laø ñaàu + cuûa W t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98560" y="4221000"/>
            <a:ext cx="6913440" cy="1452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oá chæ cuûa W = P = UI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CSTD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ôûi N = CSTD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ôûi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1160" y="5383080"/>
            <a:ext cx="5965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 CS aâ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 CS dö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81080" y="941400"/>
            <a:ext cx="363528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F23-5256-4EBC-8975-1B395BD785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11280" y="152280"/>
            <a:ext cx="45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0 Soá Phöùc (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739800"/>
            <a:ext cx="34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Nghó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51280" y="1171440"/>
            <a:ext cx="29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ôn vò aû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j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87280" y="5695920"/>
            <a:ext cx="640908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* = a – jb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P lieân hôïp (SPLH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00720" y="2087640"/>
            <a:ext cx="248436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– 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88000" y="3429000"/>
            <a:ext cx="4140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= Re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= Im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aû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400720" y="2709720"/>
            <a:ext cx="248436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P: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 +j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88000" y="2708280"/>
            <a:ext cx="358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1280" y="5049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75640" y="5661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920000" y="20718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20000" y="2708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032360" cy="36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F44-2CB5-4E01-8178-161C49A400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4160" y="270000"/>
            <a:ext cx="896292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åu Dieãn AÙp Sin vaø Doøng Sin baèng Vect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4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uan Heä AÙp - Doøng cuûa Taû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oång Trôû Vectô vaø Tam Giaùc Toång Trôû cuûa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6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âng Suaát Tieâu Thuï bôûi Taû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7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åu Dieãn Vectô cuûa AÙp, Doøng, Toång Trôû, vaø Coâng Sua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8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Soá Coâng Sua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9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 Coâng Suaát Taùc Duïng baèng Watlke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0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oá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åu Dieãn Maïch Sin baèng Soá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B94-B0B6-4410-8166-B6593FD23A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03280" y="0"/>
            <a:ext cx="65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Bieåu Dieãn Hình Hoïc cuûa SP (H 2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584280"/>
            <a:ext cx="7812360" cy="196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ieåm A (a, b) laø Ñieåm Bieåu Dieãn cuûa SP A = a + j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ectô A = OA laø Vectô Bieåu Dieãn cuûa SP  A= a +jb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13080" y="1782720"/>
            <a:ext cx="35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öï töông öùng 1 –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71640" y="2384280"/>
            <a:ext cx="691200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 + j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åm A (a,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ectô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3280" y="3105000"/>
            <a:ext cx="781380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oá thöïc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åm A (a, 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uïc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uïc x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ruïc Thöïc (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oá aûo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j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åm A(0,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uïc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uïc y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ruïc aûo (Im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ieåm A*(a, –b)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oái x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ôùi A (a, b) qua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ruïc thöï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7880" y="1782720"/>
            <a:ext cx="424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44680" y="836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4680" y="242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4680" y="5769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83640" y="2384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943280" y="1305000"/>
            <a:ext cx="188640" cy="554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556000" y="1305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7262640" y="2436840"/>
            <a:ext cx="189000" cy="5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CA9-EAD4-4481-9ECC-7C9EBBD544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735280" y="5587920"/>
            <a:ext cx="3673440" cy="7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35280" y="4041720"/>
            <a:ext cx="36734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6360" y="0"/>
            <a:ext cx="38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Caùc Pheùp Tính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34920" y="692280"/>
            <a:ext cx="7669440" cy="156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aùc pheùp tính (+, –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cuûa SP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ïng Vu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Go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 = a +jb ñöôïc laøm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ioáng soá thöïc, vôùi ñieàu kieän thay j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=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2682720"/>
            <a:ext cx="4427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Bieân Ñoä vaø Goùc cuûa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42920" y="3294000"/>
            <a:ext cx="6624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ieân Ñoä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ieàu daøi cuûa vectô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911320" y="4119480"/>
          <a:ext cx="33530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4119480"/>
                    <a:ext cx="3353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112920" y="5608800"/>
          <a:ext cx="28702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2920" y="5608800"/>
                    <a:ext cx="28702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7775640" y="4149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4400" y="98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4915080"/>
            <a:ext cx="6588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Go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oùc chæ höôùng cuûa vectô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4400" y="3330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4400" y="4915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775640" y="5732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7236000" y="3336840"/>
            <a:ext cx="188640" cy="558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3780000" y="4149720"/>
            <a:ext cx="188640" cy="554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7164360" y="4976640"/>
            <a:ext cx="189000" cy="5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940-0499-422D-8C4B-F59A4FA075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16000" y="0"/>
            <a:ext cx="37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Caùc Daïng Cuûa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4560" y="692280"/>
            <a:ext cx="338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Vuoâng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öôïng Gia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oâng Thöùc Eu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uõ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yù Hieä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ï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35640" y="728640"/>
            <a:ext cx="3024000" cy="3840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= a + j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= r (co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jsin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j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os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jsin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= r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j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os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jsin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= r  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3960" y="5059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775640" y="765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75640" y="1341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775640" y="1952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75640" y="2637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775640" y="3321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75640" y="3968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75640" y="5084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92000" y="4834080"/>
            <a:ext cx="680436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876240" y="4921200"/>
          <a:ext cx="660420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4921200"/>
                    <a:ext cx="660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4" name=""/>
          <p:cNvGrpSpPr/>
          <p:nvPr/>
        </p:nvGrpSpPr>
        <p:grpSpPr>
          <a:xfrm>
            <a:off x="1294920" y="5049720"/>
            <a:ext cx="432360" cy="432000"/>
            <a:chOff x="1294920" y="5049720"/>
            <a:chExt cx="432360" cy="432000"/>
          </a:xfrm>
        </p:grpSpPr>
        <p:sp>
          <p:nvSpPr>
            <p:cNvPr id="525" name=""/>
            <p:cNvSpPr/>
            <p:nvPr/>
          </p:nvSpPr>
          <p:spPr>
            <a:xfrm flipH="1">
              <a:off x="1294920" y="5049720"/>
              <a:ext cx="1810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95280" y="548172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256360" y="4869000"/>
            <a:ext cx="395280" cy="396720"/>
            <a:chOff x="5256360" y="4869000"/>
            <a:chExt cx="395280" cy="396720"/>
          </a:xfrm>
        </p:grpSpPr>
        <p:sp>
          <p:nvSpPr>
            <p:cNvPr id="528" name=""/>
            <p:cNvSpPr/>
            <p:nvPr/>
          </p:nvSpPr>
          <p:spPr>
            <a:xfrm flipH="1">
              <a:off x="5256360" y="4869000"/>
              <a:ext cx="1656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6360" y="5265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H="1">
            <a:off x="3672000" y="5049720"/>
            <a:ext cx="180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72000" y="5481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443280" y="5049720"/>
            <a:ext cx="181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443640" y="5481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256360" y="5337000"/>
            <a:ext cx="395280" cy="397080"/>
            <a:chOff x="5256360" y="5337000"/>
            <a:chExt cx="395280" cy="397080"/>
          </a:xfrm>
        </p:grpSpPr>
        <p:sp>
          <p:nvSpPr>
            <p:cNvPr id="535" name=""/>
            <p:cNvSpPr/>
            <p:nvPr/>
          </p:nvSpPr>
          <p:spPr>
            <a:xfrm flipH="1">
              <a:off x="5256360" y="5337000"/>
              <a:ext cx="16560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6360" y="573408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231640" y="5049720"/>
            <a:ext cx="432360" cy="432000"/>
            <a:chOff x="2231640" y="5049720"/>
            <a:chExt cx="432360" cy="432000"/>
          </a:xfrm>
        </p:grpSpPr>
        <p:sp>
          <p:nvSpPr>
            <p:cNvPr id="538" name=""/>
            <p:cNvSpPr/>
            <p:nvPr/>
          </p:nvSpPr>
          <p:spPr>
            <a:xfrm flipH="1">
              <a:off x="2231640" y="5049720"/>
              <a:ext cx="1810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32000" y="548172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606920" y="3357720"/>
            <a:ext cx="431640" cy="431640"/>
            <a:chOff x="4606920" y="3357720"/>
            <a:chExt cx="431640" cy="431640"/>
          </a:xfrm>
        </p:grpSpPr>
        <p:sp>
          <p:nvSpPr>
            <p:cNvPr id="541" name=""/>
            <p:cNvSpPr/>
            <p:nvPr/>
          </p:nvSpPr>
          <p:spPr>
            <a:xfrm flipH="1">
              <a:off x="4606920" y="3357720"/>
              <a:ext cx="180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06920" y="378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435640" y="4005360"/>
            <a:ext cx="431640" cy="431640"/>
            <a:chOff x="5435640" y="4005360"/>
            <a:chExt cx="431640" cy="431640"/>
          </a:xfrm>
        </p:grpSpPr>
        <p:sp>
          <p:nvSpPr>
            <p:cNvPr id="544" name=""/>
            <p:cNvSpPr/>
            <p:nvPr/>
          </p:nvSpPr>
          <p:spPr>
            <a:xfrm flipH="1">
              <a:off x="5435640" y="4005360"/>
              <a:ext cx="180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35640" y="4437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C2C-874B-4F6D-96D5-4CD38D91F31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535640" y="1521000"/>
            <a:ext cx="2665440" cy="46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3537000"/>
            <a:ext cx="259236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35640" y="5445000"/>
            <a:ext cx="2663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50920" y="873000"/>
            <a:ext cx="741672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Centur"/>
                <a:ea typeface="Times New Roman"/>
              </a:rPr>
              <a:t>AÙp Phöùc vaø Doøng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AÙp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2.13b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92560" y="1623960"/>
          <a:ext cx="137160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2560" y="1623960"/>
                    <a:ext cx="13716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1454040" y="2306520"/>
          <a:ext cx="50421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2306520"/>
                    <a:ext cx="5042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5191200" y="3605040"/>
          <a:ext cx="118116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1200" y="3605040"/>
                    <a:ext cx="11811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1574640" y="4165560"/>
          <a:ext cx="556272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4640" y="4165560"/>
                    <a:ext cx="5562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4686480" y="5538960"/>
          <a:ext cx="23619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6480" y="5538960"/>
                    <a:ext cx="2361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68680" y="5445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75640" y="54910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68680" y="4329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68680" y="2529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775640" y="3500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75640" y="2600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775640" y="1449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63640" y="774720"/>
            <a:ext cx="59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1 Bieåu Dieãn Maïch Sin Baèng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45B-EED4-41F0-8490-59525947C7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500720" y="4761000"/>
            <a:ext cx="144144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00720" y="2744640"/>
            <a:ext cx="14414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2060640"/>
            <a:ext cx="14414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00720" y="152280"/>
            <a:ext cx="14414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2000" y="225360"/>
            <a:ext cx="745200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TT phöùc laø SP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2.13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CS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S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2.13d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4602240" y="311040"/>
          <a:ext cx="132084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2240" y="311040"/>
                    <a:ext cx="13208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1149480" y="934920"/>
          <a:ext cx="56260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934920"/>
                    <a:ext cx="56260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4754520" y="2228760"/>
          <a:ext cx="90180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54520" y="2228760"/>
                    <a:ext cx="9018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595760" y="2857680"/>
          <a:ext cx="129528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5760" y="2857680"/>
                    <a:ext cx="12952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233360" y="3635280"/>
          <a:ext cx="5981760" cy="88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33360" y="3635280"/>
                    <a:ext cx="5981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868680" y="4797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75640" y="3824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68680" y="38242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68680" y="2241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68680" y="1125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775640" y="2529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75640" y="260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775640" y="1197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4799160" y="4900680"/>
          <a:ext cx="8888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99160" y="4900680"/>
                    <a:ext cx="8888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"/>
          <p:cNvSpPr/>
          <p:nvPr/>
        </p:nvSpPr>
        <p:spPr>
          <a:xfrm>
            <a:off x="5472000" y="216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72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E9D-61BF-4586-94BA-A1B67E9341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500720" y="5769000"/>
            <a:ext cx="277164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0720" y="3708360"/>
            <a:ext cx="2771640" cy="87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08360" y="360360"/>
            <a:ext cx="2664000" cy="87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79640" y="514440"/>
            <a:ext cx="320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TD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4738680" y="441360"/>
          <a:ext cx="2311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8680" y="441360"/>
                    <a:ext cx="2311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373040" y="1717560"/>
          <a:ext cx="591840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1717560"/>
                    <a:ext cx="5918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4572000" y="4006800"/>
          <a:ext cx="261612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006800"/>
                    <a:ext cx="2616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3959280" y="5232240"/>
          <a:ext cx="28573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9280" y="5232240"/>
                    <a:ext cx="2857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4865760" y="5842080"/>
          <a:ext cx="208260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65760" y="5842080"/>
                    <a:ext cx="2082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1155960" y="5734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75640" y="57801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50920" y="3006720"/>
            <a:ext cx="457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 ÑLOÂ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58920" y="3753000"/>
            <a:ext cx="561816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9) vaø (2.1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6) goïi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LOÂ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ûa Taû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27080" y="5118120"/>
            <a:ext cx="2978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 Quan Heä Giöõ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55960" y="4581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55960" y="17953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775640" y="3897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775640" y="20239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775640" y="584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E22-FE55-40F1-A2BF-E888467EF4E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48720" cy="50148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17440" y="15228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 So Saùnh Bieåu Dieãn SP (H 2.18) Vôùi Bieåu Dieãn Vectô (H 2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80000" y="6103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71640" y="2960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084720" y="29606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00360" y="6103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00720" y="6103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FBD-330B-4995-8348-242FCC5CB5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76360" y="4834080"/>
            <a:ext cx="752472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3280" y="2924280"/>
            <a:ext cx="7597800" cy="111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3280" y="1089000"/>
            <a:ext cx="7597800" cy="17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0" y="298440"/>
            <a:ext cx="705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 YÙ nghóa cuû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516040" y="476280"/>
          <a:ext cx="508032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040" y="476280"/>
                    <a:ext cx="5080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220760" y="1320840"/>
          <a:ext cx="637560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0760" y="1320840"/>
                    <a:ext cx="63756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849240" y="3117960"/>
          <a:ext cx="685800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9240" y="3117960"/>
                    <a:ext cx="6858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358920" y="4119480"/>
            <a:ext cx="723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0. TT phöùc vaø TD phöùc cuûa R, L,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698480" y="5048280"/>
          <a:ext cx="51055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8480" y="5048280"/>
                    <a:ext cx="5105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8064360" y="54910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064360" y="4869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064360" y="3429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028000" y="220500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920000" y="1700280"/>
            <a:ext cx="12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64360" y="1089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93D-12AF-4A0C-A4FC-056CD232B56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319640" y="4005360"/>
            <a:ext cx="3492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19640" y="5194440"/>
            <a:ext cx="3492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49800" y="260280"/>
            <a:ext cx="35622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907920"/>
            <a:ext cx="356220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5295960" y="352440"/>
          <a:ext cx="21207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52440"/>
                    <a:ext cx="2120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4368960" y="1012680"/>
          <a:ext cx="30477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8960" y="1012680"/>
                    <a:ext cx="3047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7954920" y="22536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4686480" y="4137120"/>
          <a:ext cx="280656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6480" y="4137120"/>
                    <a:ext cx="28065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4648320" y="5373720"/>
          <a:ext cx="29336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5373720"/>
                    <a:ext cx="293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4356000" y="2097000"/>
            <a:ext cx="360072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maïch goàm n MM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i töø + sang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ûa töøng MMC thì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954920" y="944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20000" y="4076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920000" y="53020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5280" y="5265720"/>
            <a:ext cx="5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79640" y="5780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9"/>
          <a:stretch/>
        </p:blipFill>
        <p:spPr>
          <a:xfrm>
            <a:off x="179280" y="2327400"/>
            <a:ext cx="3564000" cy="35496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792000" y="297000"/>
            <a:ext cx="68043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1. ÑKD Phöù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2. ÑKA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3. Nguyeân lyù Baûo toaøn CS phöùc (H 2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142-1E41-40FA-9F01-B5578CAD7EC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3080" y="7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02fe"/>
                </a:solidFill>
                <a:latin typeface="VNI-Revue"/>
              </a:rPr>
              <a:t>Chöông 3.</a:t>
            </a:r>
            <a:r>
              <a:rPr b="0" lang="en-US" sz="2900" spc="-1" strike="noStrike">
                <a:solidFill>
                  <a:srgbClr val="0000ff"/>
                </a:solidFill>
                <a:latin typeface="VNI-Revue"/>
              </a:rPr>
              <a:t> Caùc Phöông Phaùp Giaûi Maïch Si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-73080" y="692280"/>
            <a:ext cx="9144000" cy="57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49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</a:rPr>
              <a:t>3.1. Khaùi Nieäm Ch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1. Noäi Dung Giaûi Maïc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Ch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Maïch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goàm 5 loaïi PT: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Nguoàn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e(t)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Nguoàn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(t)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Ñieän Trô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R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Ñieän 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L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Ñieän Du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C. Ta muoán tì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a.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 AÙp Töùc Thôø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u(t) 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Doøng Töùc Thôø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i(t) qua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MM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(PT cuõng laø 1 MM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CST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P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CSPK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Q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CSBK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S do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MM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hoaë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NI-Centur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VNI-Centur"/>
              </a:rPr>
              <a:t>Hai Phöông Ph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giaûi maïch sin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.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Vieäc chuyeån qua laïi giöõa 2 Phöông Phaùp ñöôïc thöïc hieän töø H2.13 vaø H2.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666-7DCC-4DCF-AE9B-11379F47A72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7280" y="379440"/>
            <a:ext cx="594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ùc Phöông Phaùp Giaûi Maïc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52360"/>
            <a:ext cx="752472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höông Phaùp Gheùp Noái Tieáp. Chia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3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höông Phaùp Gheùp Song Song. Chia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4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höông Phaùp Bieán Ñoåi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höông Phaùp Doøng Maét Löôù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höông Phaùp AÙp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Tyû Le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CDE-509D-4AF7-B0B0-9A9CA0C9D4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03280" y="0"/>
            <a:ext cx="6227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Quy trình giaûi maïch sin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oàm 3 böô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3280" y="657360"/>
            <a:ext cx="86407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uyeån sang maïch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eo quy taé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, L,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eo (2.72) vaø       (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Ån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u(t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Ån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(t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iaûi maïch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aèng ÑLOÂ, ÑKD, ÑKA ñeå tìm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uyeån ngöôïc veà maïch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eå tìm u(t) vaø i(t) theo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quy taéc nhö Böôù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898560" y="1360440"/>
          <a:ext cx="52578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360440"/>
                    <a:ext cx="52578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8280360" y="126828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317080" y="184464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2981160" y="3284640"/>
          <a:ext cx="53089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1160" y="3284640"/>
                    <a:ext cx="5308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8317080" y="3284640"/>
            <a:ext cx="86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3141720" y="3943440"/>
          <a:ext cx="52196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1720" y="3943440"/>
                    <a:ext cx="5219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8317080" y="4005360"/>
            <a:ext cx="934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625-B65A-4642-9CB3-BAEF0EA54A0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427640" y="3789360"/>
            <a:ext cx="3240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27640" y="3032280"/>
            <a:ext cx="3240000" cy="39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27640" y="2276640"/>
            <a:ext cx="3240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06200" y="115920"/>
            <a:ext cx="453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Chuù Thích Quan Troï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8920" y="2138400"/>
            <a:ext cx="828180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oaëc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 NGUOÀN DOØNG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e. MMC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CQCD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Ngöôïc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QCA thì CS Phöùc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do MM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8920" y="584280"/>
            <a:ext cx="8459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Trong B1 vaø B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coù theå duøng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1 trong 4 Daï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Haøm Sin: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D-si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D-co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Ñ-si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Ñ-co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nhö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ùc coâng thöùc tính P,Q, S, </a:t>
            </a:r>
            <a:r>
              <a:rPr b="1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chæ ñuùng khi duøng daïng H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93080" y="24210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028000" y="306864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993080" y="37512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484360" y="5635800"/>
            <a:ext cx="521964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956720" y="5672160"/>
            <a:ext cx="86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0A1-D767-481B-A4F3-3FCF388C0B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924360" y="5265720"/>
            <a:ext cx="41767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887640" y="4221000"/>
            <a:ext cx="421344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87640" y="3500280"/>
            <a:ext cx="4248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8360" y="225360"/>
            <a:ext cx="817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2. Phöông Phaùp Gheùp Noái tieáp. Chia AÙp (H 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11640" y="873000"/>
            <a:ext cx="507348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A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Ùp qua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k = 1,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ñ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              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5560920" y="4329000"/>
          <a:ext cx="10922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0920" y="4329000"/>
                    <a:ext cx="10922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4307040" y="5356080"/>
          <a:ext cx="35049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5356080"/>
                    <a:ext cx="3504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8099280" y="550404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13080" y="4483080"/>
            <a:ext cx="50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8920" y="5432400"/>
            <a:ext cx="38178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! Coâng Thöùc Chia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CT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99280" y="432900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099280" y="346536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099280" y="220500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971640" y="5049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247680" y="728640"/>
            <a:ext cx="2847960" cy="43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91A-2430-48CD-AF86-D9884FE8146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788000" y="5303880"/>
            <a:ext cx="3205080" cy="9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51280" y="3789360"/>
            <a:ext cx="327672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31640" y="152280"/>
            <a:ext cx="8712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3. Phöông Phaùp Gheùp Song Song. Chia Doøng (H 3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780000" y="873000"/>
            <a:ext cx="529272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qua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k=1,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5518080" y="2503440"/>
          <a:ext cx="13590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8080" y="2503440"/>
                    <a:ext cx="1359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8101080" y="2467080"/>
            <a:ext cx="107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4367160" y="3141720"/>
          <a:ext cx="45975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67160" y="3141720"/>
                    <a:ext cx="4597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5400720" y="3897360"/>
          <a:ext cx="19558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00720" y="3897360"/>
                    <a:ext cx="1955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8099280" y="38242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5621400" y="4452840"/>
          <a:ext cx="121896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21400" y="4452840"/>
                    <a:ext cx="1218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"/>
          <p:cNvSpPr/>
          <p:nvPr/>
        </p:nvSpPr>
        <p:spPr>
          <a:xfrm>
            <a:off x="8099280" y="449892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25440" y="5446800"/>
            <a:ext cx="42829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oâng Thöùc Chia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CT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4888080" y="5375160"/>
          <a:ext cx="299700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88080" y="5375160"/>
                    <a:ext cx="29970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8101080" y="541188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116000" y="4556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80000" y="304308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816360" y="379872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16360" y="4524480"/>
            <a:ext cx="68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5"/>
          <a:stretch/>
        </p:blipFill>
        <p:spPr>
          <a:xfrm>
            <a:off x="179280" y="1022400"/>
            <a:ext cx="3672000" cy="319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903-F9A6-4617-BE1A-9E9337F956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539640" y="657360"/>
            <a:ext cx="8172720" cy="30686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3743280" y="5734080"/>
            <a:ext cx="349272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9280" y="81000"/>
            <a:ext cx="676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4 Phöông Phaùp Bieán Ñoåi Y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(H 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58920" y="4041720"/>
            <a:ext cx="3313080" cy="1405080"/>
            <a:chOff x="358920" y="4041720"/>
            <a:chExt cx="3313080" cy="1405080"/>
          </a:xfrm>
        </p:grpSpPr>
        <p:sp>
          <p:nvSpPr>
            <p:cNvPr id="740" name=""/>
            <p:cNvSpPr/>
            <p:nvPr/>
          </p:nvSpPr>
          <p:spPr>
            <a:xfrm>
              <a:off x="358920" y="4041720"/>
              <a:ext cx="3313080" cy="14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"/>
            <p:cNvGraphicFramePr/>
            <p:nvPr/>
          </p:nvGraphicFramePr>
          <p:xfrm>
            <a:off x="478080" y="4162320"/>
            <a:ext cx="308592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8080" y="4162320"/>
                      <a:ext cx="308592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3" name=""/>
          <p:cNvSpPr/>
          <p:nvPr/>
        </p:nvSpPr>
        <p:spPr>
          <a:xfrm>
            <a:off x="4572000" y="4003560"/>
            <a:ext cx="3313080" cy="14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4751280" y="4062240"/>
          <a:ext cx="2997360" cy="134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51280" y="4062240"/>
                    <a:ext cx="29973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"/>
          <p:cNvSpPr/>
          <p:nvPr/>
        </p:nvSpPr>
        <p:spPr>
          <a:xfrm>
            <a:off x="3635280" y="457992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4000" y="5734080"/>
            <a:ext cx="7272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3T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aèng nhau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3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ay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028000" y="573408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099280" y="458136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87640" y="34290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924360" y="25290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461440" y="260028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30A-1C1C-404F-BF07-AC026327903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4500720" y="2565360"/>
            <a:ext cx="352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98920" y="3430440"/>
            <a:ext cx="3564000" cy="12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4000" y="0"/>
            <a:ext cx="745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5. Phöông Phaùp Doøng Maét Löôùi (D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140360" y="476280"/>
            <a:ext cx="493236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aïch 1 ML (H 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ïn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Ån Ch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M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 Phöông trình DM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daï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5375160" y="2673360"/>
          <a:ext cx="19684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5160" y="2673360"/>
                    <a:ext cx="1968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"/>
          <p:cNvSpPr/>
          <p:nvPr/>
        </p:nvSpPr>
        <p:spPr>
          <a:xfrm>
            <a:off x="8099280" y="2646360"/>
            <a:ext cx="10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4589640" y="4222800"/>
          <a:ext cx="33271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9640" y="4222800"/>
                    <a:ext cx="3327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8136000" y="343044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172360" y="411336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6360" y="4843440"/>
            <a:ext cx="8567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ng daáu + (–) neáu CQCDML   ra khoûi ñaàu + (–) cuûa </a:t>
            </a:r>
            <a:r>
              <a:rPr b="1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1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1280" y="5483160"/>
            <a:ext cx="241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iaûi (3.21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5327640" y="5381640"/>
          <a:ext cx="22096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27640" y="5381640"/>
                    <a:ext cx="22096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"/>
          <p:cNvSpPr/>
          <p:nvPr/>
        </p:nvSpPr>
        <p:spPr>
          <a:xfrm>
            <a:off x="8099280" y="548172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4782960" y="3559320"/>
          <a:ext cx="2806920" cy="33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2960" y="3559320"/>
                    <a:ext cx="28069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"/>
          <p:cNvSpPr/>
          <p:nvPr/>
        </p:nvSpPr>
        <p:spPr>
          <a:xfrm>
            <a:off x="4038120" y="340344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038120" y="411336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258920" y="4519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9"/>
          <a:stretch/>
        </p:blipFill>
        <p:spPr>
          <a:xfrm>
            <a:off x="0" y="765000"/>
            <a:ext cx="3959280" cy="37465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0"/>
          <a:stretch/>
        </p:blipFill>
        <p:spPr>
          <a:xfrm>
            <a:off x="5292720" y="5013360"/>
            <a:ext cx="208080" cy="2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F72-6E11-4BB7-A583-63A829B396D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511280" y="5697360"/>
            <a:ext cx="579600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39640" y="297000"/>
            <a:ext cx="7993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P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eo doøng M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P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P, Q, S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 töøng P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oaë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oàn AÙ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haùt ra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oàn aù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5796000" y="404640"/>
          <a:ext cx="306072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04640"/>
                    <a:ext cx="30607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757520" y="1679400"/>
          <a:ext cx="617220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7520" y="1679400"/>
                    <a:ext cx="6172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4559400" y="2984400"/>
          <a:ext cx="307332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9400" y="2984400"/>
                    <a:ext cx="3073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7815240" y="296064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4535640" y="4257720"/>
          <a:ext cx="303516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5640" y="4257720"/>
                    <a:ext cx="3035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7885080" y="479736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090880" y="3733920"/>
          <a:ext cx="56131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90880" y="3733920"/>
                    <a:ext cx="5613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800360" y="4869000"/>
          <a:ext cx="608148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00360" y="4869000"/>
                    <a:ext cx="60814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>
            <a:off x="431640" y="5157720"/>
            <a:ext cx="69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7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ieåm tr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yeân Lyù Baûo Toaø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 vaø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635120" y="5805360"/>
          <a:ext cx="5600880" cy="35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35120" y="5805360"/>
                    <a:ext cx="560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7885080" y="573408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4D9-4F4A-4685-8D1A-A83D0F2657E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584360" y="5348160"/>
            <a:ext cx="622944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19280" y="3511440"/>
            <a:ext cx="360036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27640" y="225360"/>
            <a:ext cx="3708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aïch 2 ML (H 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ïn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Ån Ch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 DM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CQC laø CKÑ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 Heä phöông trình DM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daï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652840" y="3573360"/>
          <a:ext cx="33652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3573360"/>
                    <a:ext cx="336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7991640" y="365616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55640" y="4592520"/>
            <a:ext cx="6084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xaùc ñònh nhö (3.22);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hö (3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695600" y="5429160"/>
          <a:ext cx="60069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5600" y="5429160"/>
                    <a:ext cx="6006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792000" y="5996160"/>
            <a:ext cx="251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iaûi (3.2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4360" y="5373720"/>
            <a:ext cx="466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095640" y="6053040"/>
          <a:ext cx="378468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5640" y="6053040"/>
                    <a:ext cx="37846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2050920" y="29718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1640" y="53132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7"/>
          <a:stretch/>
        </p:blipFill>
        <p:spPr>
          <a:xfrm>
            <a:off x="34920" y="44280"/>
            <a:ext cx="5292720" cy="29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2F9-5EB2-48DC-BEBF-E5DEB9F5F2B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281160" y="476280"/>
            <a:ext cx="3319200" cy="56880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348000" y="5337000"/>
            <a:ext cx="4392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35640" y="3930480"/>
            <a:ext cx="2449440" cy="97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924360" y="800280"/>
            <a:ext cx="518472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Nghó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eùt 1 maïch coù nhieàu nuùt A, B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öï choïn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UÙT CHUAÅ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oïi AÙP NUÙT = AÙP giöõa nuùt ñoù vaø nuùt chuaån 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4705200" y="3992400"/>
          <a:ext cx="217188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05200" y="3992400"/>
                    <a:ext cx="2171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8064360" y="376092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099280" y="433692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8480" y="-27000"/>
            <a:ext cx="4565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6 Phöông Phaùp AÙp Nuù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743280" y="2097000"/>
            <a:ext cx="50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743280" y="2744640"/>
            <a:ext cx="50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637080" y="4075200"/>
            <a:ext cx="466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150920" y="6138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608280" y="5408640"/>
          <a:ext cx="4054680" cy="81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8280" y="5408640"/>
                    <a:ext cx="40546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7" name=""/>
          <p:cNvSpPr/>
          <p:nvPr/>
        </p:nvSpPr>
        <p:spPr>
          <a:xfrm>
            <a:off x="8099280" y="5300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099280" y="5732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38F-2B9E-4DE1-B416-AF40C88FECB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203640" y="5048280"/>
            <a:ext cx="226692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932360" y="7920"/>
            <a:ext cx="36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aïch 2 Nuùt (H 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932360" y="657360"/>
            <a:ext cx="41418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ïn N laøm nuùt chua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ïn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Ån Ch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099280" y="231300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099280" y="387180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3346560" y="5172120"/>
          <a:ext cx="194292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5172120"/>
                    <a:ext cx="19429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"/>
          <p:cNvSpPr/>
          <p:nvPr/>
        </p:nvSpPr>
        <p:spPr>
          <a:xfrm>
            <a:off x="8028000" y="52624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1280" y="6067440"/>
            <a:ext cx="5040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öø (3.3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79640" y="4041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39560" y="4437000"/>
            <a:ext cx="5843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iaûi Phöông Trình AÙp Nuùt (3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106200" y="536400"/>
            <a:ext cx="4897440" cy="34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83C-CD83-4C4D-9D4A-02B156315C6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9080"/>
            <a:ext cx="522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4.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Maïch Ñieän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92280"/>
            <a:ext cx="867744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oàn vaø Taûi 3 Pha Caân Ba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Y  Caân Ba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Caân Baèng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Caân Baèng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Khoâng Caân Baèng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Y Khoâng Caân Baèng,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Caân Baèng vôùi Nhieàu Taûi /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8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Caân Baèng vôùi Taûi laø Ñoäng Cô 3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616720" y="2193840"/>
          <a:ext cx="17748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6720" y="2193840"/>
                    <a:ext cx="1774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492360" y="2097000"/>
          <a:ext cx="17784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097000"/>
                    <a:ext cx="1778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4E7-B2A1-454D-8299-46DEE2AA3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576360" y="584280"/>
            <a:ext cx="820872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7 Nguyeân Lyù Tyû Le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haân taát caû Nguoà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g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1 Maïch cho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1 S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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ì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ua töøng PT cuõng ñöôïc nhaân cho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HD vaø D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öøng PT ñöôï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haân cho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öøng PT ñöôï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oäng cho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934920" y="4824360"/>
            <a:ext cx="7777440" cy="152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taäp nguoàn {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g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aùp öùng {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ì taäp nguoàn {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g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aùp öùng {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0760" y="5383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50A-BB76-422B-AD76-526696644D5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2158920" y="1808280"/>
            <a:ext cx="2665440" cy="14810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4356000" y="5589720"/>
            <a:ext cx="356400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356000" y="4869000"/>
            <a:ext cx="356400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356000" y="4113360"/>
            <a:ext cx="356400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356000" y="2960640"/>
            <a:ext cx="356400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4000" y="115920"/>
            <a:ext cx="7488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2fe"/>
                </a:solidFill>
                <a:latin typeface="VNI-Souvir"/>
                <a:ea typeface="Times New Roman"/>
              </a:rPr>
              <a:t>Chöông 4.</a:t>
            </a:r>
            <a:r>
              <a:rPr b="0" lang="en-US" sz="3200" spc="-1" strike="noStrike">
                <a:solidFill>
                  <a:srgbClr val="0000ff"/>
                </a:solidFill>
                <a:latin typeface="VNI-Souvir"/>
                <a:ea typeface="Times New Roman"/>
              </a:rPr>
              <a:t> Maïch Ñieän Ba 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8360" y="728640"/>
            <a:ext cx="7740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1 Nguoàn Vaø Taûi Ba Pha Caân Baèng</a:t>
            </a:r>
            <a:r>
              <a:rPr b="0" lang="en-US" sz="26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3ÞC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31640" y="1305000"/>
            <a:ext cx="52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Kyù Hieäu Hai Chæ Soá (H 4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4000" y="3068640"/>
            <a:ext cx="4032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qua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ø a ñeán 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TTÑ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oái a vôùi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 caàn C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4546440" y="3059280"/>
          <a:ext cx="322596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46440" y="3059280"/>
                    <a:ext cx="3225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"/>
          <p:cNvSpPr/>
          <p:nvPr/>
        </p:nvSpPr>
        <p:spPr>
          <a:xfrm>
            <a:off x="8066160" y="29242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101080" y="342900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5645160" y="4148280"/>
          <a:ext cx="1447920" cy="40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5160" y="4148280"/>
                    <a:ext cx="14479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"/>
          <p:cNvSpPr/>
          <p:nvPr/>
        </p:nvSpPr>
        <p:spPr>
          <a:xfrm>
            <a:off x="8101080" y="407664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576760" y="4976640"/>
          <a:ext cx="137160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76760" y="4976640"/>
                    <a:ext cx="1371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"/>
          <p:cNvSpPr/>
          <p:nvPr/>
        </p:nvSpPr>
        <p:spPr>
          <a:xfrm>
            <a:off x="8064360" y="4843440"/>
            <a:ext cx="9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5519880" y="5676840"/>
          <a:ext cx="175248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19880" y="5676840"/>
                    <a:ext cx="1752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8029440" y="55990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08720" y="2179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52E-A0B2-4346-8DA0-C2B0E6DC336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8856720" cy="33876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5508720" y="5518080"/>
            <a:ext cx="2663640" cy="11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3280" y="4941720"/>
            <a:ext cx="2952720" cy="176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58920" y="297000"/>
            <a:ext cx="7777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Revue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AÙp 3ÞCB (NA3ÞCB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1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oä ba NA sin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A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taàn soá,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hö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leäch pha 120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NI-Centur"/>
                <a:ea typeface="Times New Roman"/>
              </a:rPr>
              <a:t>o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töøng ñoâi moä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4.2). Ta chæ xeùt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öù töï thuaä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552600" y="5040360"/>
          <a:ext cx="281916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600" y="5040360"/>
                    <a:ext cx="281916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"/>
          <p:cNvSpPr/>
          <p:nvPr/>
        </p:nvSpPr>
        <p:spPr>
          <a:xfrm>
            <a:off x="5213520" y="4987800"/>
            <a:ext cx="31035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Chæ caàn bieát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548320" y="5581800"/>
          <a:ext cx="255276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8320" y="5581800"/>
                    <a:ext cx="25527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111640" y="2708280"/>
            <a:ext cx="612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529080" y="5697360"/>
            <a:ext cx="97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5148360" y="5913360"/>
          <a:ext cx="31752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591336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3887640" y="407664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735280" y="400536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940360" y="400536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22C-2A5F-4F01-B77F-7D16F811FA6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576360" y="692280"/>
            <a:ext cx="8172360" cy="31701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611280" y="5481720"/>
            <a:ext cx="73087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480000" y="3032280"/>
            <a:ext cx="248472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31640" y="152280"/>
            <a:ext cx="536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NA3ÞCB Ñaáu Sao (Y) (H 4.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6643800" y="3213000"/>
          <a:ext cx="217152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3800" y="3213000"/>
                    <a:ext cx="2171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"/>
          <p:cNvSpPr/>
          <p:nvPr/>
        </p:nvSpPr>
        <p:spPr>
          <a:xfrm>
            <a:off x="503280" y="4184640"/>
            <a:ext cx="8028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;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daâ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Quan heä giöõa AÙp pha vaø AÙp daâ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760320" y="5567400"/>
          <a:ext cx="706140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0320" y="5567400"/>
                    <a:ext cx="7061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7956720" y="58053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24360" y="3548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26480" y="332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1640" y="19526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848720" y="1844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CBC-AE84-43DB-95A5-AC3D7FC339C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95280" y="4041720"/>
            <a:ext cx="5221440" cy="237492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79280" y="873000"/>
            <a:ext cx="3564000" cy="26258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6335640" y="4363920"/>
            <a:ext cx="2376720" cy="172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35640" y="2565360"/>
            <a:ext cx="140328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08000" y="260280"/>
            <a:ext cx="597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NA3ÞCB Ñaáu Tam Giaùc (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)(H 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46560" y="912960"/>
            <a:ext cx="3781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daâ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6445080" y="2638440"/>
          <a:ext cx="115596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5080" y="2638440"/>
                    <a:ext cx="1155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"/>
          <p:cNvSpPr/>
          <p:nvPr/>
        </p:nvSpPr>
        <p:spPr>
          <a:xfrm>
            <a:off x="7991640" y="2565360"/>
            <a:ext cx="86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87280" y="3500280"/>
            <a:ext cx="730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Taûi 3ÞCB ñaáu Y (H 4.5a) hoaëc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(H 4.5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6462720" y="4511520"/>
          <a:ext cx="2158920" cy="143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720" y="4511520"/>
                    <a:ext cx="215892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>
            <a:off x="2484360" y="6211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621180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392720" y="6211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43280" y="18082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C41-9B26-4296-902B-374974205BB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177840" y="4869000"/>
            <a:ext cx="5473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ònh Nghó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AÙp Pha Nguo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AÙp Daây Nguo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684360" y="657360"/>
            <a:ext cx="7848360" cy="410688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5830920" y="5013360"/>
            <a:ext cx="2413080" cy="17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11280" y="115920"/>
            <a:ext cx="576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2. Heä Thoáng 3Þ Y-Y CB (H 4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5987880" y="5210280"/>
          <a:ext cx="2235240" cy="139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7880" y="5210280"/>
                    <a:ext cx="22352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"/>
          <p:cNvSpPr/>
          <p:nvPr/>
        </p:nvSpPr>
        <p:spPr>
          <a:xfrm>
            <a:off x="3672000" y="4843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50E-C63C-4FA6-B790-7F03DF9A24E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395280" y="5587920"/>
            <a:ext cx="817236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68360" y="569880"/>
            <a:ext cx="77058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aát caû aùp vaø doøng treân ñeàu coù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ÖÙ TÖÏ THUA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æ caàn bieát 1 trong 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Ví duï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885960" y="666720"/>
          <a:ext cx="44067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666720"/>
                    <a:ext cx="4406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"/>
          <p:cNvGraphicFramePr/>
          <p:nvPr/>
        </p:nvGraphicFramePr>
        <p:xfrm>
          <a:off x="824040" y="1314360"/>
          <a:ext cx="443232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040" y="1314360"/>
                    <a:ext cx="44323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847800" y="2003400"/>
          <a:ext cx="61722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7800" y="2003400"/>
                    <a:ext cx="6172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770040" y="2639880"/>
          <a:ext cx="52578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040" y="2639880"/>
                    <a:ext cx="52578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880920" y="3330720"/>
          <a:ext cx="46609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80920" y="3330720"/>
                    <a:ext cx="4660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2" name=""/>
          <p:cNvGraphicFramePr/>
          <p:nvPr/>
        </p:nvGraphicFramePr>
        <p:xfrm>
          <a:off x="1054080" y="3943440"/>
          <a:ext cx="397512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54080" y="3943440"/>
                    <a:ext cx="3975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4" name=""/>
          <p:cNvGraphicFramePr/>
          <p:nvPr/>
        </p:nvGraphicFramePr>
        <p:xfrm>
          <a:off x="604800" y="5683320"/>
          <a:ext cx="769608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5683320"/>
                    <a:ext cx="7696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A28-4477-4942-AED7-E036FE65760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144360" y="536400"/>
            <a:ext cx="5796000" cy="28562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1224000" y="5985000"/>
            <a:ext cx="680400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335640" y="1123920"/>
            <a:ext cx="2484360" cy="15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332000" y="4581360"/>
            <a:ext cx="6696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1280" y="3513240"/>
            <a:ext cx="4176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1280" y="7920"/>
            <a:ext cx="831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Giaûi Maïch 3Þ (H 4.6) treân cô sôû Maïch 1Þ (H4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527880" y="1212840"/>
          <a:ext cx="2133360" cy="139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7880" y="1212840"/>
                    <a:ext cx="21333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"/>
          <p:cNvSpPr/>
          <p:nvPr/>
        </p:nvSpPr>
        <p:spPr>
          <a:xfrm>
            <a:off x="322200" y="3751200"/>
            <a:ext cx="1405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122720" y="3549600"/>
          <a:ext cx="368316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2720" y="3549600"/>
                    <a:ext cx="36831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7" name=""/>
          <p:cNvSpPr/>
          <p:nvPr/>
        </p:nvSpPr>
        <p:spPr>
          <a:xfrm>
            <a:off x="8317080" y="3811680"/>
            <a:ext cx="86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2200" y="4616280"/>
            <a:ext cx="126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9" name=""/>
          <p:cNvGraphicFramePr/>
          <p:nvPr/>
        </p:nvGraphicFramePr>
        <p:xfrm>
          <a:off x="1338120" y="4618080"/>
          <a:ext cx="664236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8120" y="4618080"/>
                    <a:ext cx="66423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1" name=""/>
          <p:cNvSpPr/>
          <p:nvPr/>
        </p:nvSpPr>
        <p:spPr>
          <a:xfrm>
            <a:off x="8172360" y="462744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95280" y="5240160"/>
            <a:ext cx="1368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ña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303640" y="5491080"/>
            <a:ext cx="5472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2570040" y="5383080"/>
          <a:ext cx="5359680" cy="419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70040" y="5383080"/>
                    <a:ext cx="535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430200" y="5959440"/>
            <a:ext cx="68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2655720" y="6032520"/>
          <a:ext cx="3670560" cy="4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55720" y="6032520"/>
                    <a:ext cx="3670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>
            <a:off x="8136000" y="56973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48000" y="3284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3F3-71BF-4659-B961-09A1E8B0994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26920" y="5661000"/>
            <a:ext cx="69138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63640" y="4330800"/>
            <a:ext cx="6840360" cy="61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92000" y="1663560"/>
            <a:ext cx="6948720" cy="16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50920" y="189000"/>
            <a:ext cx="846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Coâng Suaát, Toån Hao, vaø Hieäu Suaát (CS, TH, 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63640" y="990720"/>
            <a:ext cx="41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 CS do taûi 3Þ tieâu thu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944640" y="1736640"/>
          <a:ext cx="666756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736640"/>
                    <a:ext cx="66675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"/>
          <p:cNvSpPr/>
          <p:nvPr/>
        </p:nvSpPr>
        <p:spPr>
          <a:xfrm>
            <a:off x="7777080" y="155736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775640" y="2143080"/>
            <a:ext cx="115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812000" y="2709720"/>
            <a:ext cx="126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934920" y="3621240"/>
            <a:ext cx="45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H Treân Ñöôøng Daây 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2908440" y="4425840"/>
          <a:ext cx="33782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8440" y="4425840"/>
                    <a:ext cx="3378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7812000" y="42814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042920" y="505944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CS do Nguoàn 3Þ phaùt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1276200" y="5757840"/>
          <a:ext cx="588024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5757840"/>
                    <a:ext cx="5880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7775640" y="5734080"/>
            <a:ext cx="115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C13-7197-494C-ACC3-965FBD48B19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2124000" y="4329000"/>
            <a:ext cx="536436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087640" y="2492280"/>
            <a:ext cx="5400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087640" y="1089000"/>
            <a:ext cx="540072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63640" y="260280"/>
            <a:ext cx="28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 HS Taûi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2763720" y="1144440"/>
          <a:ext cx="43689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1144440"/>
                    <a:ext cx="4368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5" name=""/>
          <p:cNvSpPr/>
          <p:nvPr/>
        </p:nvSpPr>
        <p:spPr>
          <a:xfrm>
            <a:off x="7775640" y="1243080"/>
            <a:ext cx="111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3273480" y="2529000"/>
          <a:ext cx="2882880" cy="90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3480" y="2529000"/>
                    <a:ext cx="28828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7775640" y="264492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03280" y="3573360"/>
            <a:ext cx="716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Tính CSTD, CSPK, CSBK baèng CS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2300400" y="4437000"/>
          <a:ext cx="5054400" cy="15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0400" y="4437000"/>
                    <a:ext cx="50544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775640" y="4329000"/>
            <a:ext cx="115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704000" y="501336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42160" y="558972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900000" y="4402080"/>
            <a:ext cx="5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900000" y="5013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900000" y="5481720"/>
            <a:ext cx="5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976680" y="2754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4C4-E2AF-42C1-B751-34C3315E852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703440"/>
            <a:ext cx="583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5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Khaùi Nieäm Chung veà Maùy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0560" y="1395360"/>
            <a:ext cx="55450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ònh Luaät Fara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ònh Luaät Löïc Tö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ònh Luaät A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aøi Toaùn Thuaän: Bieá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Tìm 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CE4-C789-4345-A009-F5E390ECBB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503280" y="812880"/>
            <a:ext cx="8370720" cy="26161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4896000" y="4248000"/>
            <a:ext cx="29160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60720" y="5829480"/>
            <a:ext cx="399564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5280" y="225360"/>
            <a:ext cx="6408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3 Heä thoáng 3Þ Y-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CB, Z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= 0 (H 4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2567160" y="3632040"/>
          <a:ext cx="4152600" cy="139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7160" y="3632040"/>
                    <a:ext cx="41526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"/>
          <p:cNvSpPr/>
          <p:nvPr/>
        </p:nvSpPr>
        <p:spPr>
          <a:xfrm>
            <a:off x="7885080" y="3554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848720" y="431640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42920" y="3595680"/>
            <a:ext cx="129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08000" y="4243320"/>
            <a:ext cx="1440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971640" y="5133960"/>
            <a:ext cx="1547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ña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2519280" y="5241960"/>
          <a:ext cx="486432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9280" y="5241960"/>
                    <a:ext cx="48643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2" name=""/>
          <p:cNvSpPr/>
          <p:nvPr/>
        </p:nvSpPr>
        <p:spPr>
          <a:xfrm>
            <a:off x="1042920" y="5959440"/>
            <a:ext cx="9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3151080" y="5923080"/>
          <a:ext cx="383544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51080" y="5923080"/>
                    <a:ext cx="3835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"/>
          <p:cNvSpPr/>
          <p:nvPr/>
        </p:nvSpPr>
        <p:spPr>
          <a:xfrm>
            <a:off x="7524720" y="594828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81400" y="50720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608360" y="287352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303640" y="300672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480000" y="3006720"/>
            <a:ext cx="64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5032440" y="4316400"/>
          <a:ext cx="2743200" cy="44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32440" y="4316400"/>
                    <a:ext cx="2743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D76-A92B-4FE8-ADB0-8895CDB145F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5183280" y="4653000"/>
            <a:ext cx="29178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782640" y="4653000"/>
          <a:ext cx="692136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4653000"/>
                    <a:ext cx="6921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"/>
          <p:cNvSpPr/>
          <p:nvPr/>
        </p:nvSpPr>
        <p:spPr>
          <a:xfrm>
            <a:off x="5183280" y="5842080"/>
            <a:ext cx="2952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42920" y="55440"/>
            <a:ext cx="705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4. Heä thoáng 3Þ Y-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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B, Z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0 (H4.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1280" y="3726000"/>
            <a:ext cx="7740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án Taû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thaønh Taûi Y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3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4.9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669960" y="5918040"/>
          <a:ext cx="742932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5918040"/>
                    <a:ext cx="7429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"/>
          <p:cNvSpPr/>
          <p:nvPr/>
        </p:nvSpPr>
        <p:spPr>
          <a:xfrm>
            <a:off x="8136000" y="4863960"/>
            <a:ext cx="8287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0360" y="5907240"/>
            <a:ext cx="971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319640" y="3249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303640" y="324972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480000" y="3249720"/>
            <a:ext cx="64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1280" y="4772160"/>
            <a:ext cx="71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1280" y="5842080"/>
            <a:ext cx="71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5"/>
          <a:stretch/>
        </p:blipFill>
        <p:spPr>
          <a:xfrm>
            <a:off x="71280" y="604800"/>
            <a:ext cx="9001440" cy="27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B65-86FA-483C-A32E-62A07F292C6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1"/>
          <a:srcRect l="63932" t="9122" r="-428" b="24622"/>
          <a:stretch/>
        </p:blipFill>
        <p:spPr>
          <a:xfrm>
            <a:off x="4608360" y="692280"/>
            <a:ext cx="4535640" cy="26319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2"/>
          <a:srcRect l="0" t="0" r="48773" b="0"/>
          <a:stretch/>
        </p:blipFill>
        <p:spPr>
          <a:xfrm>
            <a:off x="108000" y="657360"/>
            <a:ext cx="4500360" cy="28080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2050920" y="5408640"/>
            <a:ext cx="432144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24000" y="81000"/>
            <a:ext cx="6984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5. Heä thoáng 3Þ Y-Y KCB, Z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= 0 (H 4.10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2055960" y="4471920"/>
          <a:ext cx="43812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5960" y="4471920"/>
                    <a:ext cx="4381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4" name=""/>
          <p:cNvSpPr/>
          <p:nvPr/>
        </p:nvSpPr>
        <p:spPr>
          <a:xfrm>
            <a:off x="7775640" y="46162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2532240" y="5686560"/>
          <a:ext cx="32637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2240" y="5686560"/>
                    <a:ext cx="326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"/>
          <p:cNvSpPr/>
          <p:nvPr/>
        </p:nvSpPr>
        <p:spPr>
          <a:xfrm>
            <a:off x="7812000" y="57070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284720" y="3475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871640" y="342900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912000" y="342900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39640" y="3763800"/>
            <a:ext cx="83883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aùch maïch 3Þ thaønh 3 maïch 1Þ ñoäc laäp (H4.10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68360" y="4556160"/>
            <a:ext cx="68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68360" y="5697360"/>
            <a:ext cx="68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82C-7196-4B85-B6F0-6BD9FE0BB91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8920" y="5153040"/>
            <a:ext cx="849780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87280" y="152280"/>
            <a:ext cx="72010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6. Heä Thoáng 3Þ Y-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KCB, Z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= 0 (H 4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535640" y="800280"/>
            <a:ext cx="3562200" cy="250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5392800" y="835200"/>
          <a:ext cx="25398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835200"/>
                    <a:ext cx="25398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5364000" y="1571760"/>
          <a:ext cx="15116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1571760"/>
                    <a:ext cx="1511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1" name=""/>
          <p:cNvGraphicFramePr/>
          <p:nvPr/>
        </p:nvGraphicFramePr>
        <p:xfrm>
          <a:off x="5495760" y="1989000"/>
          <a:ext cx="154944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5760" y="1989000"/>
                    <a:ext cx="15494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3" name=""/>
          <p:cNvGraphicFramePr/>
          <p:nvPr/>
        </p:nvGraphicFramePr>
        <p:xfrm>
          <a:off x="5600880" y="2852640"/>
          <a:ext cx="20952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00880" y="2852640"/>
                    <a:ext cx="2095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5" name=""/>
          <p:cNvSpPr/>
          <p:nvPr/>
        </p:nvSpPr>
        <p:spPr>
          <a:xfrm>
            <a:off x="8101080" y="871560"/>
            <a:ext cx="107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136000" y="144792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172360" y="209556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136000" y="270828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58920" y="3968640"/>
            <a:ext cx="806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S trong heä thoáng 3Þ KCB ñöôïc tính treân töøng PT. Treân H 4.11, CS phöùc do nguoàn 3Þ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590400" y="5246640"/>
          <a:ext cx="79884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0400" y="5246640"/>
                    <a:ext cx="7988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"/>
          <p:cNvSpPr/>
          <p:nvPr/>
        </p:nvSpPr>
        <p:spPr>
          <a:xfrm>
            <a:off x="1547640" y="347508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1"/>
          <a:stretch/>
        </p:blipFill>
        <p:spPr>
          <a:xfrm>
            <a:off x="36360" y="800280"/>
            <a:ext cx="4356360" cy="268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B28-094B-4376-A525-D44E722C04C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336888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252360" y="44280"/>
            <a:ext cx="8532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7. Heä Thoáng 3Þ CB Vôùi Nhieàu Taûi Ñaáu //. (H4.1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5280" y="4157640"/>
            <a:ext cx="6696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où n taûi ñaáu SS; moãi taûi ñaáu Y hoaë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ûi k ñöôïc xaùc ñònh bôû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oaëc TG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oaëc TGC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7" name=""/>
          <p:cNvGraphicFramePr/>
          <p:nvPr/>
        </p:nvGraphicFramePr>
        <p:xfrm>
          <a:off x="5938920" y="4265640"/>
          <a:ext cx="27936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8920" y="4265640"/>
                    <a:ext cx="279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9" name=""/>
          <p:cNvGraphicFramePr/>
          <p:nvPr/>
        </p:nvGraphicFramePr>
        <p:xfrm>
          <a:off x="2684520" y="5514840"/>
          <a:ext cx="3962520" cy="41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84520" y="5514840"/>
                    <a:ext cx="39625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1" name=""/>
          <p:cNvGraphicFramePr/>
          <p:nvPr/>
        </p:nvGraphicFramePr>
        <p:xfrm>
          <a:off x="2749680" y="6242040"/>
          <a:ext cx="398772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9680" y="6242040"/>
                    <a:ext cx="3987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3" name=""/>
          <p:cNvSpPr/>
          <p:nvPr/>
        </p:nvSpPr>
        <p:spPr>
          <a:xfrm>
            <a:off x="4248000" y="36450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485-BCCA-482E-9B45-CB1B0090577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69840" y="117360"/>
            <a:ext cx="547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Baøi Toaùn 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á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3222720" y="237960"/>
          <a:ext cx="21844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720" y="237960"/>
                    <a:ext cx="21844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7" name=""/>
          <p:cNvSpPr/>
          <p:nvPr/>
        </p:nvSpPr>
        <p:spPr>
          <a:xfrm>
            <a:off x="324000" y="836640"/>
            <a:ext cx="7056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án ñoåi Y        roài tính          cuûa n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     roài duø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oâng Thöùc Chia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2519280" y="944640"/>
          <a:ext cx="66060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9280" y="944640"/>
                    <a:ext cx="660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0" name=""/>
          <p:cNvGraphicFramePr/>
          <p:nvPr/>
        </p:nvGraphicFramePr>
        <p:xfrm>
          <a:off x="4657680" y="907920"/>
          <a:ext cx="609480" cy="41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7680" y="907920"/>
                    <a:ext cx="6094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2" name=""/>
          <p:cNvGraphicFramePr/>
          <p:nvPr/>
        </p:nvGraphicFramePr>
        <p:xfrm>
          <a:off x="1728720" y="1582560"/>
          <a:ext cx="4572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8720" y="158256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"/>
          <p:cNvSpPr/>
          <p:nvPr/>
        </p:nvSpPr>
        <p:spPr>
          <a:xfrm>
            <a:off x="106200" y="2287440"/>
            <a:ext cx="7597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Baøi toaùn 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át                       . Tính laàn löôï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3156120" y="2392200"/>
          <a:ext cx="22222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56120" y="2392200"/>
                    <a:ext cx="2222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7" name=""/>
          <p:cNvGraphicFramePr/>
          <p:nvPr/>
        </p:nvGraphicFramePr>
        <p:xfrm>
          <a:off x="1328760" y="2997360"/>
          <a:ext cx="486396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28760" y="2997360"/>
                    <a:ext cx="4863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"/>
          <p:cNvGraphicFramePr/>
          <p:nvPr/>
        </p:nvGraphicFramePr>
        <p:xfrm>
          <a:off x="1279440" y="3740040"/>
          <a:ext cx="267984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79440" y="3740040"/>
                    <a:ext cx="2679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1236600" y="4424400"/>
          <a:ext cx="347976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36600" y="4424400"/>
                    <a:ext cx="3479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"/>
          <p:cNvGraphicFramePr/>
          <p:nvPr/>
        </p:nvGraphicFramePr>
        <p:xfrm>
          <a:off x="1184400" y="4970520"/>
          <a:ext cx="6159240" cy="53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84400" y="4970520"/>
                    <a:ext cx="6159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5" name=""/>
          <p:cNvGraphicFramePr/>
          <p:nvPr/>
        </p:nvGraphicFramePr>
        <p:xfrm>
          <a:off x="1012680" y="5697360"/>
          <a:ext cx="535968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12680" y="5697360"/>
                    <a:ext cx="5359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"/>
          <p:cNvSpPr/>
          <p:nvPr/>
        </p:nvSpPr>
        <p:spPr>
          <a:xfrm>
            <a:off x="7848720" y="3033720"/>
            <a:ext cx="107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812000" y="37162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775640" y="441180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775640" y="502272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775640" y="572436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5280" y="5624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5280" y="501336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95280" y="432900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95280" y="37162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5280" y="299736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A27-5415-459B-A12E-7306DD00276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61440" cy="266544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3995640" y="4579920"/>
            <a:ext cx="2772000" cy="75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995640" y="5516640"/>
            <a:ext cx="277200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16000" y="-27000"/>
            <a:ext cx="835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8. Heä thoáng 3ÞCB vôùi taûi laø ñoäng cô 3Þ (H 4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00000" y="3384720"/>
            <a:ext cx="784872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C3Þ laø 1 Taûi Ñieän 3Þ coù HSCS = 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bie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Vaø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aøn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Cô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S cuûa ÑC3Þ la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4748040" y="4788000"/>
          <a:ext cx="142272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8040" y="4788000"/>
                    <a:ext cx="1422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"/>
          <p:cNvSpPr/>
          <p:nvPr/>
        </p:nvSpPr>
        <p:spPr>
          <a:xfrm>
            <a:off x="7777080" y="469908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4178160" y="5624640"/>
          <a:ext cx="23749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8160" y="5624640"/>
                    <a:ext cx="2374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740720" y="5716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103640" y="2827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934920" y="5842080"/>
            <a:ext cx="3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EA1-881E-4804-B017-10BE0807CD6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5508720" y="5661000"/>
            <a:ext cx="237636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508720" y="4437000"/>
            <a:ext cx="237636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79280" y="115920"/>
            <a:ext cx="8785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5.</a:t>
            </a:r>
            <a:r>
              <a:rPr b="1" lang="en-US" sz="3000" spc="-1" strike="noStrike">
                <a:solidFill>
                  <a:srgbClr val="0000ff"/>
                </a:solidFill>
                <a:latin typeface="VNI-Revue"/>
                <a:ea typeface="Times New Roman"/>
              </a:rPr>
              <a:t> Khaùi Nieäm Chung Veà Maùy Ñieä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0360" y="730080"/>
            <a:ext cx="62276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1. Ñònh Luaät Fara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Luaät Sññ Bieán AÙp (H 5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575240" y="2097000"/>
            <a:ext cx="45338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hoâng Töùc Thôøi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uyeân qua 1 v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ññ caûm 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ong 1 v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 khi i(t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91240" y="4473720"/>
          <a:ext cx="201924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1240" y="4473720"/>
                    <a:ext cx="2019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7" name=""/>
          <p:cNvSpPr/>
          <p:nvPr/>
        </p:nvSpPr>
        <p:spPr>
          <a:xfrm>
            <a:off x="8280360" y="455616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5580000" y="5697360"/>
          <a:ext cx="219708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697360"/>
                    <a:ext cx="219708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8280360" y="5697360"/>
            <a:ext cx="934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1280" y="5805360"/>
            <a:ext cx="3419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uoän daây N voø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577040" y="4545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871640" y="5383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5"/>
          <a:stretch/>
        </p:blipFill>
        <p:spPr>
          <a:xfrm>
            <a:off x="360360" y="1971720"/>
            <a:ext cx="3887640" cy="340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B2E-81E5-41B7-BBB4-6D6C39F7A41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90360" y="34920"/>
            <a:ext cx="3652920" cy="6742080"/>
          </a:xfrm>
          <a:prstGeom prst="rect">
            <a:avLst/>
          </a:prstGeom>
          <a:ln w="0">
            <a:noFill/>
          </a:ln>
        </p:spPr>
      </p:pic>
      <p:sp>
        <p:nvSpPr>
          <p:cNvPr id="1146" name=""/>
          <p:cNvSpPr/>
          <p:nvPr/>
        </p:nvSpPr>
        <p:spPr>
          <a:xfrm>
            <a:off x="4103640" y="115920"/>
            <a:ext cx="4141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Ñònh Luaät Sññ Maùy Phaùt (H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138560" y="944640"/>
            <a:ext cx="4284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b: Daây Daãn chieàu daøi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ät Ñoä Töø Thoâ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Vaän Toác cuûa daâ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8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"/>
          <p:cNvSpPr/>
          <p:nvPr/>
        </p:nvSpPr>
        <p:spPr>
          <a:xfrm>
            <a:off x="5905440" y="2673360"/>
            <a:ext cx="151308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 = Bv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244000" y="2709720"/>
            <a:ext cx="97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40360" y="3500280"/>
            <a:ext cx="5003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2. Ñònh Luaät  Löïc Töø (H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176720" y="3960720"/>
            <a:ext cx="4932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 = Doøng qua daây daãn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ät Ñoä Töø Thoâ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Vectô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977080" y="5805360"/>
            <a:ext cx="151128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 = BI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8244000" y="585144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547640" y="268272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43600" y="2673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584360" y="6283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535640" y="4689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43280" y="53370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535640" y="1449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535640" y="2133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687-1813-4B28-8B21-98C19AF6293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4140360" cy="303372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4030560" y="225360"/>
            <a:ext cx="511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3. Ñònh Luaät Ampere (H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103640" y="692280"/>
            <a:ext cx="410544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… laø n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 = Ñöôøng k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= Töø tröôøng taïi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2984400" y="1886040"/>
          <a:ext cx="17784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0" y="1886040"/>
                    <a:ext cx="1778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8" name=""/>
          <p:cNvGraphicFramePr/>
          <p:nvPr/>
        </p:nvGraphicFramePr>
        <p:xfrm>
          <a:off x="4541760" y="2689200"/>
          <a:ext cx="353052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1760" y="2689200"/>
                    <a:ext cx="3530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8207280" y="2637000"/>
            <a:ext cx="8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103640" y="3321000"/>
            <a:ext cx="493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4. Ñònh Luaät OÂm Töø (H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176720" y="3789360"/>
            <a:ext cx="32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Loûi The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176720" y="4329000"/>
            <a:ext cx="496728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hieàu da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 = Tieát d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ä Töø Thaåm Tuyeät Ño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Allegi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Allegie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rô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116000" y="3222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900000" y="6103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535640" y="20970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967280" y="274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472000" y="274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6"/>
          <a:stretch/>
        </p:blipFill>
        <p:spPr>
          <a:xfrm>
            <a:off x="73080" y="4027320"/>
            <a:ext cx="4067280" cy="18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919-CB1A-4FEA-A682-B0EB1D04DEB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50720"/>
            <a:ext cx="428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6.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Maùy Bieán AÙp (M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1116000"/>
            <a:ext cx="694872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u Taïo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BA Lyù Töôû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4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MTÑ vaø PT cuûa MBA Thöïc Te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eá Ñoä Khoâng Taûi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eá Ñoä Ngaén Maïch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7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eá Ñoä Coù Taûi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73F-8B6D-4D3A-8549-4A8C614333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24000" y="765000"/>
            <a:ext cx="802800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522360" y="800280"/>
          <a:ext cx="768348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800280"/>
                    <a:ext cx="76834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3" name=""/>
          <p:cNvSpPr/>
          <p:nvPr/>
        </p:nvSpPr>
        <p:spPr>
          <a:xfrm>
            <a:off x="3203640" y="4473720"/>
            <a:ext cx="2952720" cy="46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295280" y="5661000"/>
            <a:ext cx="57610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39640" y="225360"/>
            <a:ext cx="662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ä Töø Thaåm Töông Ño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1079640" y="33336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33336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8" name=""/>
          <p:cNvSpPr/>
          <p:nvPr/>
        </p:nvSpPr>
        <p:spPr>
          <a:xfrm>
            <a:off x="7343640" y="225360"/>
            <a:ext cx="93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82560" y="1305000"/>
            <a:ext cx="78138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uoän Daâ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N voøng, mang doøng I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t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F=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oâng Soá Cheá Ñoä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Loûi The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82560" y="2529000"/>
            <a:ext cx="752472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= Cöôøng Ñoä Tröôøng Töø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röô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NI/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= Maät Ñoä Töø Thoâng (Vaän Toác Doøng Töø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846920" y="2540160"/>
            <a:ext cx="9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846920" y="3187800"/>
            <a:ext cx="93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812000" y="3906720"/>
            <a:ext cx="93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47640" y="4473720"/>
            <a:ext cx="7885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L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Â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aïch töø goàm m PT NOÁI TIEÁP vaø n cuoän daây.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3241800" y="4581360"/>
          <a:ext cx="283212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1800" y="4581360"/>
                    <a:ext cx="2832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7" name=""/>
          <p:cNvSpPr/>
          <p:nvPr/>
        </p:nvSpPr>
        <p:spPr>
          <a:xfrm>
            <a:off x="7669080" y="4437000"/>
            <a:ext cx="10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1527120" y="5778360"/>
          <a:ext cx="52578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7120" y="5778360"/>
                    <a:ext cx="5257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7631280" y="570708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81B-8EA0-4F5E-B8DE-6AECD348AE8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2698920" y="5959440"/>
            <a:ext cx="316836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543640" y="3789360"/>
            <a:ext cx="169236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87280" y="333360"/>
            <a:ext cx="608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5. Baøi Toaùn Thuaän: Bieát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, Tìm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76360" y="873000"/>
            <a:ext cx="8136000" cy="62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PT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Vaät Lieäu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duø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öôøng töø hoù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   ñeå suy ra      trong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PT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khoâng khí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tñ 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eå taïo r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bieá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oaë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r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ôû giaù trò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'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'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2124000" y="1068480"/>
          <a:ext cx="1359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068480"/>
                    <a:ext cx="1359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"/>
          <p:cNvGraphicFramePr/>
          <p:nvPr/>
        </p:nvGraphicFramePr>
        <p:xfrm>
          <a:off x="1627200" y="2384280"/>
          <a:ext cx="161280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7200" y="2384280"/>
                    <a:ext cx="1612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9" name=""/>
          <p:cNvGraphicFramePr/>
          <p:nvPr/>
        </p:nvGraphicFramePr>
        <p:xfrm>
          <a:off x="4767120" y="2363760"/>
          <a:ext cx="381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7120" y="236376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"/>
          <p:cNvGraphicFramePr/>
          <p:nvPr/>
        </p:nvGraphicFramePr>
        <p:xfrm>
          <a:off x="5472000" y="3141720"/>
          <a:ext cx="16131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2000" y="3141720"/>
                    <a:ext cx="1613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3" name=""/>
          <p:cNvSpPr/>
          <p:nvPr/>
        </p:nvSpPr>
        <p:spPr>
          <a:xfrm>
            <a:off x="7742160" y="2673360"/>
            <a:ext cx="115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740720" y="32846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208240" y="5316480"/>
          <a:ext cx="31748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8240" y="5316480"/>
                    <a:ext cx="3174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2782800" y="6067440"/>
          <a:ext cx="294660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82800" y="6067440"/>
                    <a:ext cx="2946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9" name=""/>
          <p:cNvSpPr/>
          <p:nvPr/>
        </p:nvSpPr>
        <p:spPr>
          <a:xfrm>
            <a:off x="7740720" y="45450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380360" y="60674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5688000" y="3862440"/>
          <a:ext cx="151128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88000" y="3862440"/>
                    <a:ext cx="1511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AFA-F4BE-41E9-A272-94E6133955B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216000" y="152280"/>
            <a:ext cx="7343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6.</a:t>
            </a:r>
            <a:r>
              <a:rPr b="1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 Maùy Bieán AÙp (M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50920" y="728640"/>
            <a:ext cx="42498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1. Khaùi nieäm ch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896000" y="1197000"/>
            <a:ext cx="37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 maïch (H 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822920" y="1952640"/>
            <a:ext cx="4321080" cy="32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BA laø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Hai Cöû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ûa Vaø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Caá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S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ñaáu vôùi Nguoàn S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ûa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öù Caá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C) (ñaáu vôùi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042920" y="4595760"/>
            <a:ext cx="7129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aùc Thoâng Soá Cheá Ñoä Ñònh Möùc (Ñ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224000" y="5315040"/>
            <a:ext cx="68040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1698480" y="5186520"/>
          <a:ext cx="59691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5186520"/>
                    <a:ext cx="5969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1" name=""/>
          <p:cNvGraphicFramePr/>
          <p:nvPr/>
        </p:nvGraphicFramePr>
        <p:xfrm>
          <a:off x="1563840" y="5675400"/>
          <a:ext cx="64641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3840" y="5675400"/>
                    <a:ext cx="6464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3" name=""/>
          <p:cNvGraphicFramePr/>
          <p:nvPr/>
        </p:nvGraphicFramePr>
        <p:xfrm>
          <a:off x="1614600" y="6143760"/>
          <a:ext cx="59817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4600" y="6143760"/>
                    <a:ext cx="5981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5" name=""/>
          <p:cNvSpPr/>
          <p:nvPr/>
        </p:nvSpPr>
        <p:spPr>
          <a:xfrm>
            <a:off x="1690560" y="389736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971640" y="5064120"/>
            <a:ext cx="61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971640" y="5495760"/>
            <a:ext cx="61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971640" y="6000840"/>
            <a:ext cx="61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7"/>
          <a:stretch/>
        </p:blipFill>
        <p:spPr>
          <a:xfrm>
            <a:off x="108000" y="1376280"/>
            <a:ext cx="4680000" cy="24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321-5FBF-4D03-9999-60158EB5461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250920" y="44280"/>
            <a:ext cx="511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2. Caáu Taïo Cuûa MBA (H 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148360" y="636480"/>
            <a:ext cx="385272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ieát dieän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eå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aãn töø t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Sô Caá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DQSC) coù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oø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Thö Caá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DQTC) coù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oø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87280" y="4257720"/>
            <a:ext cx="345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3. MBA Lyù Töôû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92000" y="4751280"/>
            <a:ext cx="79567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ùc Tính Chaát Cuûa MB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Q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T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K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oûi the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öø Trôû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: </a:t>
            </a:r>
            <a:r>
              <a:rPr b="0" lang="en-US" sz="2400" spc="-1" strike="noStrike">
                <a:solidFill>
                  <a:srgbClr val="000000"/>
                </a:solidFill>
                <a:latin typeface="VNI-Allegie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835280" y="3763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73080" y="692280"/>
            <a:ext cx="5111640" cy="315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3B0-B4E3-42F3-B331-79579C8D013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5400720" y="5302080"/>
            <a:ext cx="2089080" cy="9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763640" y="3355920"/>
            <a:ext cx="5653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763640" y="1424160"/>
            <a:ext cx="568800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16000" y="189000"/>
            <a:ext cx="72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aùc Phöông Trình Cuûa MBA Lyù Töôû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4560" y="668160"/>
            <a:ext cx="3241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 Sññ caûm öù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1886040" y="1522440"/>
          <a:ext cx="54226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1522440"/>
                    <a:ext cx="54226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3" name=""/>
          <p:cNvSpPr/>
          <p:nvPr/>
        </p:nvSpPr>
        <p:spPr>
          <a:xfrm>
            <a:off x="684360" y="2709720"/>
            <a:ext cx="3348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yû Soá Bieán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4" name=""/>
          <p:cNvGraphicFramePr/>
          <p:nvPr/>
        </p:nvGraphicFramePr>
        <p:xfrm>
          <a:off x="3024360" y="3443400"/>
          <a:ext cx="275580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4360" y="3443400"/>
                    <a:ext cx="27558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"/>
          <p:cNvSpPr/>
          <p:nvPr/>
        </p:nvSpPr>
        <p:spPr>
          <a:xfrm>
            <a:off x="719280" y="4627440"/>
            <a:ext cx="367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Tyû Soá Bieán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1655640" y="5408640"/>
          <a:ext cx="579132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55640" y="5408640"/>
                    <a:ext cx="5791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"/>
          <p:cNvSpPr/>
          <p:nvPr/>
        </p:nvSpPr>
        <p:spPr>
          <a:xfrm>
            <a:off x="7920000" y="54450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97040" y="5516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920000" y="135252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920000" y="19638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920000" y="35370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98D-BFA9-4990-8258-1AAD371C7F8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547640" y="5923080"/>
            <a:ext cx="608508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547640" y="5013360"/>
            <a:ext cx="608508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50920" y="189000"/>
            <a:ext cx="8569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4. Caùc Maïch Töông Ñöông (MTÑ) vaø Phöông Trình cuûa MBA (thöïc teá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500720" y="1089000"/>
            <a:ext cx="428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TÑ cuûa DQSC (H 6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392720" y="1654200"/>
            <a:ext cx="475128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 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, ÑK Taûn, vaø TTS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f la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Ùp,Sññ,Doøng vaø Taàn Soá 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4870440" y="3068640"/>
          <a:ext cx="14605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0440" y="3068640"/>
                    <a:ext cx="1460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1" name=""/>
          <p:cNvSpPr/>
          <p:nvPr/>
        </p:nvSpPr>
        <p:spPr>
          <a:xfrm>
            <a:off x="324000" y="4303800"/>
            <a:ext cx="835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DQSC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S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2" name=""/>
          <p:cNvGraphicFramePr/>
          <p:nvPr/>
        </p:nvGraphicFramePr>
        <p:xfrm>
          <a:off x="1654200" y="5135400"/>
          <a:ext cx="59054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4200" y="5135400"/>
                    <a:ext cx="5905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4" name=""/>
          <p:cNvSpPr/>
          <p:nvPr/>
        </p:nvSpPr>
        <p:spPr>
          <a:xfrm>
            <a:off x="7956720" y="5084640"/>
            <a:ext cx="86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3046320" y="6021360"/>
          <a:ext cx="2158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6320" y="6021360"/>
                    <a:ext cx="2158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"/>
          <p:cNvSpPr/>
          <p:nvPr/>
        </p:nvSpPr>
        <p:spPr>
          <a:xfrm>
            <a:off x="7632720" y="6067440"/>
            <a:ext cx="934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87280" y="5913360"/>
            <a:ext cx="4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619280" y="3789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7"/>
          <a:stretch/>
        </p:blipFill>
        <p:spPr>
          <a:xfrm>
            <a:off x="34920" y="1276200"/>
            <a:ext cx="4427640" cy="24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92C-5591-472F-B86B-D31598A51D2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258920" y="5840280"/>
            <a:ext cx="615780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048280"/>
            <a:ext cx="615780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7280" y="260280"/>
            <a:ext cx="522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TÑ cuûa DQTC (H 6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4707000" y="988920"/>
          <a:ext cx="458136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7000" y="988920"/>
                    <a:ext cx="458136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6" name=""/>
          <p:cNvSpPr/>
          <p:nvPr/>
        </p:nvSpPr>
        <p:spPr>
          <a:xfrm>
            <a:off x="1116000" y="4375080"/>
            <a:ext cx="7740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DQTC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T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1289160" y="5135400"/>
          <a:ext cx="605772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9160" y="5135400"/>
                    <a:ext cx="60577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9" name=""/>
          <p:cNvSpPr/>
          <p:nvPr/>
        </p:nvSpPr>
        <p:spPr>
          <a:xfrm>
            <a:off x="8029440" y="50594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3270240" y="5948280"/>
          <a:ext cx="222264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0240" y="5948280"/>
                    <a:ext cx="2222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2" name=""/>
          <p:cNvSpPr/>
          <p:nvPr/>
        </p:nvSpPr>
        <p:spPr>
          <a:xfrm>
            <a:off x="7993080" y="592308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440000" y="3789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58920" y="5805360"/>
            <a:ext cx="4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58920" y="4437000"/>
            <a:ext cx="4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7"/>
          <a:stretch/>
        </p:blipFill>
        <p:spPr>
          <a:xfrm>
            <a:off x="142920" y="1166760"/>
            <a:ext cx="4429080" cy="244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C30-B824-4E2B-92C4-8DD46E5699B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-1440" y="1327320"/>
            <a:ext cx="4429080" cy="299052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324000" y="271440"/>
            <a:ext cx="615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MTÑ Cuûa Loûi Theùp (LT) (H 6.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248000" y="800280"/>
            <a:ext cx="489744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LT coù 2 hieän töôï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L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öø thoâng s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eá Ñoä Khoâng Taûi (KT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6.5), Doøng SCKT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oàm 2 thaønh phaàn (H 6.6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03280" y="4971960"/>
            <a:ext cx="8137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aønh Phaàn THL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cuøng pha vôùi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taïo ra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aønh Phaàn Töø Hoù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 chaäm pha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o vôùi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taïo r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TÑ cuûa LT (H 6.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440000" y="4365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362-1779-43E6-AACE-796FD177335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538200" y="52560"/>
            <a:ext cx="8066160" cy="388116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4427640" y="3718080"/>
            <a:ext cx="3241440" cy="27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87280" y="3860640"/>
            <a:ext cx="2879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T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DT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K töø hoù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N töø hoù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4000" y="2349360"/>
            <a:ext cx="72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743280" y="2637000"/>
            <a:ext cx="71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7" name=""/>
          <p:cNvGraphicFramePr/>
          <p:nvPr/>
        </p:nvGraphicFramePr>
        <p:xfrm>
          <a:off x="4594320" y="3876840"/>
          <a:ext cx="238752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94320" y="3876840"/>
                    <a:ext cx="238752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9" name=""/>
          <p:cNvSpPr/>
          <p:nvPr/>
        </p:nvSpPr>
        <p:spPr>
          <a:xfrm>
            <a:off x="7885080" y="39844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740720" y="48690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704000" y="581652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2" name=""/>
          <p:cNvGraphicFramePr/>
          <p:nvPr/>
        </p:nvGraphicFramePr>
        <p:xfrm>
          <a:off x="4575240" y="4813200"/>
          <a:ext cx="2984400" cy="8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5240" y="4813200"/>
                    <a:ext cx="2984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4" name=""/>
          <p:cNvGraphicFramePr/>
          <p:nvPr/>
        </p:nvGraphicFramePr>
        <p:xfrm>
          <a:off x="4678200" y="5805360"/>
          <a:ext cx="179100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78200" y="5805360"/>
                    <a:ext cx="1791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6" name=""/>
          <p:cNvSpPr/>
          <p:nvPr/>
        </p:nvSpPr>
        <p:spPr>
          <a:xfrm>
            <a:off x="2771640" y="31878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AA8-3703-4120-B816-37EE835DB1F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3348000" y="1808280"/>
            <a:ext cx="1692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58920" y="225360"/>
            <a:ext cx="59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Phöông Trình Doøng Ñieän (H 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92000" y="728640"/>
            <a:ext cx="774252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ái vôùi MBA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Lyù Töôû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kh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aûi yeâu caà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 Doøng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àn co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525840" y="1932120"/>
          <a:ext cx="1359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5840" y="1932120"/>
                    <a:ext cx="1359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2" name=""/>
          <p:cNvSpPr/>
          <p:nvPr/>
        </p:nvSpPr>
        <p:spPr>
          <a:xfrm>
            <a:off x="7885080" y="185580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898560" y="2457360"/>
            <a:ext cx="727380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VNI-Centur"/>
                <a:ea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oïi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TC Quy Veà S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TCQV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ái vôùi MB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öïc Te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ôû Cheá Ñoä KT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) thì Doøng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àn coù chính laø Doøng SCKT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e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yeân Lyù Xeáp Choà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ñoái vôùi MBA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aûi yeâu caà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775640" y="55166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58920" y="2540160"/>
            <a:ext cx="4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276720" y="5516640"/>
            <a:ext cx="180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3346560" y="5621400"/>
          <a:ext cx="17143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6560" y="5621400"/>
                    <a:ext cx="1714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38F-8887-403A-9CC5-38DFD2DBA0D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6360" y="649440"/>
            <a:ext cx="5976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7.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Ñoäng Cô Khoâng Ñoàng Boä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8000" y="1341360"/>
            <a:ext cx="709308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u Taïo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öø Tröôøng Trong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Laøm Vieäc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MTÑ1  Vaø PT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S, TH, vaø HS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oâmen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E31-FD72-43CA-93AE-4452049102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" descr=""/>
          <p:cNvPicPr/>
          <p:nvPr/>
        </p:nvPicPr>
        <p:blipFill>
          <a:blip r:embed="rId1"/>
          <a:stretch/>
        </p:blipFill>
        <p:spPr>
          <a:xfrm>
            <a:off x="395280" y="4041720"/>
            <a:ext cx="6445080" cy="246852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395280" y="42840"/>
            <a:ext cx="41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MTÑ cuûa MBA (H 6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68360" y="3537000"/>
            <a:ext cx="579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 MTÑQVSC cuûa MBA (6.8) (H 6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780000" y="3105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272360" y="3427560"/>
            <a:ext cx="1655640" cy="272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43280" y="6391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2"/>
          <a:stretch/>
        </p:blipFill>
        <p:spPr>
          <a:xfrm>
            <a:off x="503280" y="512640"/>
            <a:ext cx="8028000" cy="269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365-605F-4C7E-B1EC-C730E662BD2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879640" y="5516640"/>
            <a:ext cx="234000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24000" y="115920"/>
            <a:ext cx="658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 MTÑ Gaàn Ñuùng QVSC cuûa MBA (6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6372360" y="1496880"/>
          <a:ext cx="262872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496880"/>
                    <a:ext cx="26287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"/>
          <p:cNvSpPr/>
          <p:nvPr/>
        </p:nvSpPr>
        <p:spPr>
          <a:xfrm>
            <a:off x="684360" y="3865680"/>
            <a:ext cx="72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N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N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N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VSC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55640" y="4478400"/>
            <a:ext cx="83883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Öu ñieå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MTÑ H 6.9 laø goàm 3 maïch ñaáu//: 3 Doøng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oäc laäp vôùi nha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2981160" y="5591160"/>
          <a:ext cx="20829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1160" y="5591160"/>
                    <a:ext cx="2082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4" name=""/>
          <p:cNvSpPr/>
          <p:nvPr/>
        </p:nvSpPr>
        <p:spPr>
          <a:xfrm>
            <a:off x="7704000" y="562464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943280" y="3284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831960" y="566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66000" y="137628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5"/>
          <a:stretch/>
        </p:blipFill>
        <p:spPr>
          <a:xfrm>
            <a:off x="36360" y="833400"/>
            <a:ext cx="6264360" cy="24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8F9-DE9D-4DC8-BAB5-9DB76E33331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647640" y="260280"/>
            <a:ext cx="802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 Ñoà Thò Vectô Töø MTÑQVSC cuûa MBA (H 6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042920" y="919080"/>
            <a:ext cx="684216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ieát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, Veõ Ñoà Thò Vectô ñeå tìm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62400" y="9079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995640" y="6103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016000" y="98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484360" y="98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236000" y="98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767640" y="98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71280" y="1668600"/>
            <a:ext cx="8966520" cy="431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368-BB0D-42F8-B82C-6363ED16F22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647640" y="584280"/>
            <a:ext cx="755964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6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8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2433600" y="677880"/>
          <a:ext cx="354348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677880"/>
                    <a:ext cx="35434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"/>
          <p:cNvGraphicFramePr/>
          <p:nvPr/>
        </p:nvGraphicFramePr>
        <p:xfrm>
          <a:off x="1906560" y="1469880"/>
          <a:ext cx="50418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6560" y="1469880"/>
                    <a:ext cx="5041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2473200" y="2205000"/>
          <a:ext cx="389916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3200" y="2205000"/>
                    <a:ext cx="389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5" name=""/>
          <p:cNvGraphicFramePr/>
          <p:nvPr/>
        </p:nvGraphicFramePr>
        <p:xfrm>
          <a:off x="2492280" y="2924280"/>
          <a:ext cx="420372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2280" y="2924280"/>
                    <a:ext cx="4203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7" name=""/>
          <p:cNvGraphicFramePr/>
          <p:nvPr/>
        </p:nvGraphicFramePr>
        <p:xfrm>
          <a:off x="2525760" y="3753000"/>
          <a:ext cx="18669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5760" y="3753000"/>
                    <a:ext cx="1866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9" name=""/>
          <p:cNvGraphicFramePr/>
          <p:nvPr/>
        </p:nvGraphicFramePr>
        <p:xfrm>
          <a:off x="2576520" y="4545000"/>
          <a:ext cx="181620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6520" y="4545000"/>
                    <a:ext cx="1816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1" name=""/>
          <p:cNvGraphicFramePr/>
          <p:nvPr/>
        </p:nvGraphicFramePr>
        <p:xfrm>
          <a:off x="2087640" y="5264280"/>
          <a:ext cx="468612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87640" y="5264280"/>
                    <a:ext cx="46861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3" name=""/>
          <p:cNvGraphicFramePr/>
          <p:nvPr/>
        </p:nvGraphicFramePr>
        <p:xfrm>
          <a:off x="2496960" y="6032520"/>
          <a:ext cx="369576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96960" y="6032520"/>
                    <a:ext cx="3695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5" name=""/>
          <p:cNvSpPr/>
          <p:nvPr/>
        </p:nvSpPr>
        <p:spPr>
          <a:xfrm>
            <a:off x="503280" y="81000"/>
            <a:ext cx="248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 laàn löôït ve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5EE-2504-49F0-8851-2F38CD38311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2340000" y="5591160"/>
            <a:ext cx="514836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340000" y="4581360"/>
            <a:ext cx="5148360" cy="90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176720" y="6273720"/>
            <a:ext cx="12589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16000" y="-52560"/>
            <a:ext cx="4535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5. Cheá Ñoä KT cuûa M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 vaø MTÑ (H 6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52360" y="4737240"/>
            <a:ext cx="244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6.1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1" name=""/>
          <p:cNvGraphicFramePr/>
          <p:nvPr/>
        </p:nvGraphicFramePr>
        <p:xfrm>
          <a:off x="1944720" y="4916520"/>
          <a:ext cx="31752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491652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"/>
          <p:cNvSpPr/>
          <p:nvPr/>
        </p:nvSpPr>
        <p:spPr>
          <a:xfrm>
            <a:off x="252360" y="5627520"/>
            <a:ext cx="23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6.11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4" name=""/>
          <p:cNvGraphicFramePr/>
          <p:nvPr/>
        </p:nvGraphicFramePr>
        <p:xfrm>
          <a:off x="1909800" y="5807160"/>
          <a:ext cx="317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580716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6" name=""/>
          <p:cNvGraphicFramePr/>
          <p:nvPr/>
        </p:nvGraphicFramePr>
        <p:xfrm>
          <a:off x="2394000" y="4587840"/>
          <a:ext cx="504180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4000" y="4587840"/>
                    <a:ext cx="5041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8" name=""/>
          <p:cNvSpPr/>
          <p:nvPr/>
        </p:nvSpPr>
        <p:spPr>
          <a:xfrm>
            <a:off x="7848720" y="47372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9" name=""/>
          <p:cNvGraphicFramePr/>
          <p:nvPr/>
        </p:nvGraphicFramePr>
        <p:xfrm>
          <a:off x="2400480" y="5724360"/>
          <a:ext cx="40258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0480" y="5724360"/>
                    <a:ext cx="4025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1" name=""/>
          <p:cNvSpPr/>
          <p:nvPr/>
        </p:nvSpPr>
        <p:spPr>
          <a:xfrm>
            <a:off x="7885080" y="56181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46200" y="6284880"/>
            <a:ext cx="252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L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3" name=""/>
          <p:cNvGraphicFramePr/>
          <p:nvPr/>
        </p:nvGraphicFramePr>
        <p:xfrm>
          <a:off x="4286160" y="6381720"/>
          <a:ext cx="10414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6381720"/>
                    <a:ext cx="1041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5" name=""/>
          <p:cNvSpPr/>
          <p:nvPr/>
        </p:nvSpPr>
        <p:spPr>
          <a:xfrm>
            <a:off x="7453440" y="628488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9040" y="6273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67280" y="4124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934920" y="379872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211640" y="379872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948360" y="379872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1"/>
          <a:stretch/>
        </p:blipFill>
        <p:spPr>
          <a:xfrm>
            <a:off x="142920" y="1298520"/>
            <a:ext cx="8893080" cy="25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6C6-B8A7-432C-B911-4F586C8DC61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4500720" y="584280"/>
            <a:ext cx="28872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119640" y="549360"/>
            <a:ext cx="360360" cy="35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348000" y="1916280"/>
            <a:ext cx="4032360" cy="32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584360" y="5734080"/>
            <a:ext cx="579600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08000" y="-27000"/>
            <a:ext cx="7381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Thí Nghieäm KT (TNKT)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2768760" y="1743120"/>
          <a:ext cx="17748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8760" y="1743120"/>
                    <a:ext cx="1774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9" name=""/>
          <p:cNvSpPr/>
          <p:nvPr/>
        </p:nvSpPr>
        <p:spPr>
          <a:xfrm>
            <a:off x="73080" y="2100240"/>
            <a:ext cx="359892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yû Soá Bieán AÙ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KT%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SCS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 vaø ÑDTH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vaø ÑN töø hoù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708360" y="1860480"/>
            <a:ext cx="4969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4025880" y="2219400"/>
          <a:ext cx="18414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5880" y="2219400"/>
                    <a:ext cx="1841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3" name=""/>
          <p:cNvGraphicFramePr/>
          <p:nvPr/>
        </p:nvGraphicFramePr>
        <p:xfrm>
          <a:off x="3672000" y="2832120"/>
          <a:ext cx="2946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2000" y="2832120"/>
                    <a:ext cx="2946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5" name=""/>
          <p:cNvGraphicFramePr/>
          <p:nvPr/>
        </p:nvGraphicFramePr>
        <p:xfrm>
          <a:off x="3917880" y="3284640"/>
          <a:ext cx="278136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7880" y="3284640"/>
                    <a:ext cx="27813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3440160" y="3933720"/>
          <a:ext cx="257796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0160" y="3933720"/>
                    <a:ext cx="2577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9" name=""/>
          <p:cNvGraphicFramePr/>
          <p:nvPr/>
        </p:nvGraphicFramePr>
        <p:xfrm>
          <a:off x="3844800" y="4532400"/>
          <a:ext cx="3391200" cy="44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44800" y="4532400"/>
                    <a:ext cx="33912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1" name=""/>
          <p:cNvGraphicFramePr/>
          <p:nvPr/>
        </p:nvGraphicFramePr>
        <p:xfrm>
          <a:off x="1695600" y="5784840"/>
          <a:ext cx="552420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5600" y="5784840"/>
                    <a:ext cx="552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3" name=""/>
          <p:cNvSpPr/>
          <p:nvPr/>
        </p:nvSpPr>
        <p:spPr>
          <a:xfrm>
            <a:off x="7704000" y="186048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704000" y="257652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704000" y="333216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704000" y="397980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704000" y="455616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704000" y="585324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076720" y="584280"/>
            <a:ext cx="2890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95280" y="473040"/>
            <a:ext cx="842472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 Sô Ñoà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 6.11a, coù gaén 2V, 1A, vaø 1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ieán Haønh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SC roài ño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3F0-DA84-4AA2-B482-09A8A090527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576360" y="800280"/>
            <a:ext cx="8028000" cy="321912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3311640" y="5832360"/>
            <a:ext cx="486072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276720" y="4572000"/>
            <a:ext cx="489564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58920" y="90360"/>
            <a:ext cx="6661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6. Cheá Ñoä Ngaén Maïch (NM)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1280" y="604800"/>
            <a:ext cx="421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 vaø MTÑ (H 6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446200" y="3824280"/>
            <a:ext cx="72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659640" y="3789360"/>
            <a:ext cx="6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16000" y="4664160"/>
            <a:ext cx="22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6.1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2251080" y="4788000"/>
          <a:ext cx="31752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1080" y="478800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"/>
          <p:cNvGraphicFramePr/>
          <p:nvPr/>
        </p:nvGraphicFramePr>
        <p:xfrm>
          <a:off x="3325680" y="4670280"/>
          <a:ext cx="372132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25680" y="4670280"/>
                    <a:ext cx="37213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3" name=""/>
          <p:cNvSpPr/>
          <p:nvPr/>
        </p:nvSpPr>
        <p:spPr>
          <a:xfrm>
            <a:off x="231840" y="5275440"/>
            <a:ext cx="723744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oøng NM &gt;&gt; Doøng ÑM: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&gt;&gt;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&gt;&gt;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85840" y="5923080"/>
            <a:ext cx="325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N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 ño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3419640" y="5915160"/>
          <a:ext cx="4660560" cy="44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5915160"/>
                    <a:ext cx="46605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8120160" y="4645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136000" y="58784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780000" y="3906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6B5-FD51-48A6-A0B8-9EA8E769017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7093080" y="801720"/>
            <a:ext cx="323640" cy="32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476360" y="4581360"/>
            <a:ext cx="6264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2" name=""/>
          <p:cNvGraphicFramePr/>
          <p:nvPr/>
        </p:nvGraphicFramePr>
        <p:xfrm>
          <a:off x="1646280" y="4606920"/>
          <a:ext cx="55879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606920"/>
                    <a:ext cx="5587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4" name=""/>
          <p:cNvSpPr/>
          <p:nvPr/>
        </p:nvSpPr>
        <p:spPr>
          <a:xfrm>
            <a:off x="2879640" y="5624640"/>
            <a:ext cx="4861080" cy="54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098960" y="2457360"/>
            <a:ext cx="3600360" cy="16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50920" y="152280"/>
            <a:ext cx="752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Thí Nghieäm Ngaén Maïch (TNNM)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7" name=""/>
          <p:cNvGraphicFramePr/>
          <p:nvPr/>
        </p:nvGraphicFramePr>
        <p:xfrm>
          <a:off x="324000" y="2735280"/>
          <a:ext cx="317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3528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9" name=""/>
          <p:cNvSpPr/>
          <p:nvPr/>
        </p:nvSpPr>
        <p:spPr>
          <a:xfrm>
            <a:off x="647640" y="2519280"/>
            <a:ext cx="21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NM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47640" y="3024360"/>
            <a:ext cx="277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Ñoàng 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46200" y="3527280"/>
            <a:ext cx="19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SC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47640" y="3979800"/>
            <a:ext cx="29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, ÑT, ÑK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3" name=""/>
          <p:cNvGraphicFramePr/>
          <p:nvPr/>
        </p:nvGraphicFramePr>
        <p:xfrm>
          <a:off x="4160880" y="2627280"/>
          <a:ext cx="3543120" cy="13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0880" y="2627280"/>
                    <a:ext cx="35431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5" name=""/>
          <p:cNvSpPr/>
          <p:nvPr/>
        </p:nvSpPr>
        <p:spPr>
          <a:xfrm>
            <a:off x="7775640" y="25290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775640" y="300672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775640" y="365616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740720" y="47242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11280" y="5624640"/>
            <a:ext cx="2305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oâng thöôø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2930400" y="5699160"/>
          <a:ext cx="473724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30400" y="5699160"/>
                    <a:ext cx="4737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7740720" y="566100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3480" y="5624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8280360" y="765000"/>
            <a:ext cx="36036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669080" y="801720"/>
            <a:ext cx="324000" cy="32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03280" y="692280"/>
            <a:ext cx="864072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 6.12a, coù gaén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oä Ñieàu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1V, 2A, 1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ieán Haønh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SC sao cho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 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roài ño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79C-8A8F-455E-8E73-CB77C8F7149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1"/>
          <a:stretch/>
        </p:blipFill>
        <p:spPr>
          <a:xfrm>
            <a:off x="252360" y="1015920"/>
            <a:ext cx="8748720" cy="333396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456000" y="5445000"/>
            <a:ext cx="378000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24000" y="152280"/>
            <a:ext cx="4860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7. Cheá Ñoä Coù Taûi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7640" y="657360"/>
            <a:ext cx="705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 H 6.13a)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T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6.7, 6.8 vaø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84360" y="4834080"/>
            <a:ext cx="8243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xaùc ñònh bôûi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GT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6.13b) hoaëc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GC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6.13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6200" y="5587920"/>
            <a:ext cx="2881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eä Soá Taûi (H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3613320" y="5479920"/>
          <a:ext cx="347976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3320" y="5479920"/>
                    <a:ext cx="3479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5" name=""/>
          <p:cNvSpPr/>
          <p:nvPr/>
        </p:nvSpPr>
        <p:spPr>
          <a:xfrm>
            <a:off x="7812000" y="56196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74760" y="4843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158920" y="4354560"/>
            <a:ext cx="72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91280" y="2106720"/>
            <a:ext cx="6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995640" y="43768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256360" y="3619440"/>
            <a:ext cx="6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8B1-77CA-4B96-940A-6E8EDBDDDC0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095640" y="5842080"/>
            <a:ext cx="3097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95280" y="44280"/>
            <a:ext cx="637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S, TH, Vaø HS cuûa MBA. (H 6.13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31640" y="476280"/>
            <a:ext cx="7777440" cy="57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T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à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C (T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LT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CS Vaøo 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à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C (T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4" name=""/>
          <p:cNvGraphicFramePr/>
          <p:nvPr/>
        </p:nvGraphicFramePr>
        <p:xfrm>
          <a:off x="3203640" y="5929200"/>
          <a:ext cx="29336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5929200"/>
                    <a:ext cx="2933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"/>
          <p:cNvSpPr/>
          <p:nvPr/>
        </p:nvSpPr>
        <p:spPr>
          <a:xfrm>
            <a:off x="7308720" y="6138720"/>
            <a:ext cx="115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82760" y="6094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0B6-AE98-46B8-8291-49FC577E54C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4:57:08Z</dcterms:created>
  <dc:creator>HL</dc:creator>
  <dc:description/>
  <dc:language>en-US</dc:language>
  <cp:lastModifiedBy>HATHIDIEU</cp:lastModifiedBy>
  <dcterms:modified xsi:type="dcterms:W3CDTF">2000-05-02T13:11:33Z</dcterms:modified>
  <cp:revision>4920</cp:revision>
  <dc:subject/>
  <dc:title>Slide 1</dc:title>
</cp:coreProperties>
</file>