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%D8%B1%D8%A7%D8%A6%D8%B9%D9%87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D1A-7C25-4F3E-B574-B8FB5C6A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D0E5-9309-411E-B169-DF7E52B8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0D2-F96E-48B6-8605-8D94F511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E57C-ADDD-444D-A2D9-7E0E0D02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E34D-6902-44B1-9336-4074736F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F192-507F-4614-A897-3FCDF004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9BC-C919-4773-8993-1B9271F1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E307-65CD-418E-822D-31FB9CE0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C65E-7B0B-463D-A1D2-E14E898F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BBD3-FC35-4F7D-B473-7B5977B6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0D19-7498-4716-8130-D7C15682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A66A-D861-407F-A027-170FF20C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DB25-7524-4378-AA81-B29C2CEEC5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1585;&#1575;&#1574;&#1593;&#1607;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84360" y="3068640"/>
            <a:ext cx="38880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علماء دير المحرق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7000">
    <p:wedge/>
    <p:sndAc>
      <p:stSnd>
        <p:snd r:embed="rId2" name="%D8%B1%D8%A7%D8%A6%D8%B9%D9%87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09560" y="4164480"/>
            <a:ext cx="6131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توحّد مدة خمسة عشر سنة فكان يعود إلى الدير عشيات الآحاد ليقضي لياليه داخل الكنيسة ثم يحضر القداس الإلهي ويتناول   من الأسرار المقدسة ويعود إلى وحدته</a:t>
            </a:r>
            <a:r>
              <a:rPr b="0" lang="ar-EG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heel spokes="1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42920" y="5014800"/>
            <a:ext cx="698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كان ماهراً في الكتابة ذا خط جميل (قبطي وعربي) فقام بنسخ الكثير من المخطوطات، واهتم بتجليد الكتب، وبعمل المناطق والأساكيم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164120" y="4799520"/>
            <a:ext cx="487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ffff"/>
                </a:solidFill>
                <a:latin typeface="Arial"/>
              </a:rPr>
              <a:t>ومع كل هذه الأعمال ومع توحّده كان أب اعتراف لرهبان دير البراموس جميعا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newsflash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6560" y="416448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كان يجيد لغات كثيرة وكتب عدة كتب أهمها الآتي: (الإيضاحات الجلية في أمانة  الكنيسة القبطية الأرثوذكسية) و(الأجوبة الجلية على ست مسائل بروتستانتية) و(كشف الستورعن تمويهات أتباع نسطو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push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4280400"/>
            <a:ext cx="403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333399"/>
                </a:solidFill>
                <a:latin typeface="Arial"/>
                <a:cs typeface="Simplified Arabic"/>
              </a:rPr>
              <a:t>كذلك نقّح ورتب الكثير من الكتب القديمة ومن أشهر أعماله في هذا الميدان سيرة أنبا باخوم أب الشرك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ipe dir="u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87280" y="4739040"/>
            <a:ext cx="65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ffff"/>
                </a:solidFill>
                <a:latin typeface="Arial"/>
                <a:cs typeface="Simplified Arabic"/>
              </a:rPr>
              <a:t>أخيراً بعد رحلة جهاد تنيح بسلام في (</a:t>
            </a:r>
            <a:r>
              <a:rPr b="1" lang="ar-EG" sz="3600" spc="-1" strike="noStrike">
                <a:solidFill>
                  <a:srgbClr val="00ffff"/>
                </a:solidFill>
                <a:latin typeface="Arial"/>
                <a:ea typeface="Simplified Arabic"/>
              </a:rPr>
              <a:t>21/10/1905</a:t>
            </a:r>
            <a:r>
              <a:rPr b="1" lang="ar-EG" sz="3600" spc="-1" strike="noStrike">
                <a:solidFill>
                  <a:srgbClr val="00ffff"/>
                </a:solidFill>
                <a:latin typeface="Arial"/>
                <a:cs typeface="Simplified Arabic"/>
              </a:rPr>
              <a:t>م) عن (</a:t>
            </a:r>
            <a:r>
              <a:rPr b="1" lang="ar-EG" sz="3600" spc="-1" strike="noStrike">
                <a:solidFill>
                  <a:srgbClr val="00ffff"/>
                </a:solidFill>
                <a:latin typeface="Arial"/>
                <a:ea typeface="Simplified Arabic"/>
              </a:rPr>
              <a:t>88</a:t>
            </a:r>
            <a:r>
              <a:rPr b="1" lang="ar-EG" sz="3600" spc="-1" strike="noStrike">
                <a:solidFill>
                  <a:srgbClr val="00ffff"/>
                </a:solidFill>
                <a:latin typeface="Arial"/>
                <a:ea typeface="Simplified Arabic"/>
              </a:rPr>
              <a:t>) سنة قضى منها (</a:t>
            </a:r>
            <a:r>
              <a:rPr b="1" lang="ar-EG" sz="3600" spc="-1" strike="noStrike">
                <a:solidFill>
                  <a:srgbClr val="00ffff"/>
                </a:solidFill>
                <a:latin typeface="Arial"/>
                <a:ea typeface="Simplified Arabic"/>
              </a:rPr>
              <a:t>71</a:t>
            </a:r>
            <a:r>
              <a:rPr b="1" lang="ar-EG" sz="3600" spc="-1" strike="noStrike">
                <a:solidFill>
                  <a:srgbClr val="00ffff"/>
                </a:solidFill>
                <a:latin typeface="Arial"/>
                <a:ea typeface="Simplified Arabic"/>
              </a:rPr>
              <a:t>) سنة راهبا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4492800" y="17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9640" y="4941720"/>
            <a:ext cx="201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كاراس المحرقي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484360" y="549360"/>
            <a:ext cx="42498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صلاته تكون معنا آمين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9000"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050920" y="1052640"/>
            <a:ext cx="5113440" cy="38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قمص عبد المسيح المسعودي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9000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155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1155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115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115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6920" y="459612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ولد سنة </a:t>
            </a: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1819</a:t>
            </a: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م في بلدة الشيخ مسعود بطهطا ولهذا لُقب بالمسعودي، ولما بلغ السابعة عشر من عمره اشتاق إلى الحياة الملائكية، فقصد دير المحرق حيث ترهب ف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03280" y="4950360"/>
            <a:ext cx="684072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7632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وفي الدير تتلمذ على يد القمص بولس الدلجاوي (أنبا أبرآم أسقف الفيوم والجيزة) فتمثل بوداعته وعفته وهدوءه وبساطته وتجرده..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hecke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03280" y="3707280"/>
            <a:ext cx="648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بعد أن قضى في الدير المحرق </a:t>
            </a: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22</a:t>
            </a: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 سنة قرر الذهاب إلى دير البراموس مع بعض الرهبان وكان وصولهم أثناء وجود القمص يوحنا الناسخ الذي صار فيما بعد البابا كيرلس الخام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4626360"/>
            <a:ext cx="8067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وحينما غادر دير محرق قيل عنه</a:t>
            </a:r>
            <a:r>
              <a:rPr b="1" lang="ar-EG" sz="2800" spc="-1" strike="noStrike">
                <a:solidFill>
                  <a:srgbClr val="00ffff"/>
                </a:solidFill>
                <a:latin typeface="Arial"/>
              </a:rPr>
              <a:t>:</a:t>
            </a: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ar-EG" sz="2800" spc="-1" strike="noStrike">
                <a:solidFill>
                  <a:srgbClr val="00ffff"/>
                </a:solidFill>
                <a:latin typeface="Arial"/>
              </a:rPr>
              <a:t>”</a:t>
            </a: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 إنه جوهرة خرجت من الدير</a:t>
            </a:r>
            <a:r>
              <a:rPr b="1" lang="ar-EG" sz="2800" spc="-1" strike="noStrike">
                <a:solidFill>
                  <a:srgbClr val="00ffff"/>
                </a:solidFill>
                <a:latin typeface="Arial"/>
              </a:rPr>
              <a:t>”</a:t>
            </a: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 لأنه كان عالماً زاهداً عفيفًا وروحانياً مجاهداً وقد تميّز بالإخلاص والتواضع ولهذا أحبّه جميع الذين عرفو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ver dir="r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57360" y="4212000"/>
            <a:ext cx="7947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عيّنه البابا كيرلس الخامس رُبّيتة للدير بعد نياحة القمص عوض، فاهتم بالرهبان ورعاهم روحياً وجسدياً، فساد السلام دير البراموس طيلة رئاسته، حتى أطلق عليه الأنبا يوأنس مطران البحيرة </a:t>
            </a:r>
            <a:r>
              <a:rPr b="1" lang="ar-EG" sz="2800" spc="-1" strike="noStrike">
                <a:solidFill>
                  <a:srgbClr val="00ffff"/>
                </a:solidFill>
                <a:latin typeface="Arial"/>
              </a:rPr>
              <a:t>”</a:t>
            </a: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 أبو رهبان دير البراموس </a:t>
            </a:r>
            <a:r>
              <a:rPr b="1" lang="ar-EG" sz="2800" spc="-1" strike="noStrike">
                <a:solidFill>
                  <a:srgbClr val="00ffff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42920" y="465480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ffff"/>
                </a:solidFill>
                <a:latin typeface="Arial"/>
              </a:rPr>
              <a:t>رُشِّح ليكون أسقفاً على كرسي أسيوط فاعتذر بشدة وإلحاح، فقبل البابا ديمتريوس الثاني البطريرك (</a:t>
            </a:r>
            <a:r>
              <a:rPr b="1" lang="ar-EG" sz="3600" spc="-1" strike="noStrike">
                <a:solidFill>
                  <a:srgbClr val="00ffff"/>
                </a:solidFill>
                <a:latin typeface="Arial"/>
              </a:rPr>
              <a:t>111</a:t>
            </a:r>
            <a:r>
              <a:rPr b="1" lang="ar-EG" sz="3600" spc="-1" strike="noStrike">
                <a:solidFill>
                  <a:srgbClr val="00ffff"/>
                </a:solidFill>
                <a:latin typeface="Arial"/>
              </a:rPr>
              <a:t>) عذره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4637160" y="17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3651840"/>
            <a:ext cx="561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ffff"/>
                </a:solidFill>
                <a:latin typeface="Arial"/>
                <a:cs typeface="Simplified Arabic"/>
              </a:rPr>
              <a:t>كذلك رُشِح لمطرانية الحبشة وللمرة الثانية اعتذر في تذلل شديد، فقبل البابا كيرلس الخامس اعتذاره، إذ أدرك مدى زهده وشدة ميله إلى التوحّد والدرا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1:50:07Z</dcterms:created>
  <dc:creator>الله محبة</dc:creator>
  <dc:description/>
  <dc:language>en-US</dc:language>
  <cp:lastModifiedBy>الله محبة</cp:lastModifiedBy>
  <dcterms:modified xsi:type="dcterms:W3CDTF">2010-12-21T11:50:49Z</dcterms:modified>
  <cp:revision>1</cp:revision>
  <dc:subject/>
  <dc:title>الشريحة 1</dc:title>
</cp:coreProperties>
</file>