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3.jpeg" ContentType="image/jpeg"/>
  <Override PartName="/ppt/media/image1.jpeg" ContentType="image/jpeg"/>
  <Override PartName="/ppt/media/%D8%B1%D8%A7%D8%A6%D8%B9%D9%87.wav" ContentType="audio/x-wav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28075-B029-4F28-BD99-0BEA79DCF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108F2-2737-4203-84A4-AE738A87D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D66BF-3619-41F5-95AD-29421E820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563BE-04A8-434F-9479-074D90EA5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E1E92-54F2-4176-86A3-5A1068C06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FFF47-0E59-410F-B0EC-1D3EF4912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75571-1404-4AC7-9348-3F5075179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9E805-71EF-463E-A7A6-0184305F9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66172-B226-46B4-A0F4-502206B20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6AB3D-CE9E-4DE8-9686-4BD2E6621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AA6C3-BBEE-40E6-B0A2-D0184224C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A1FC4-9BDF-4C16-9B0B-57FEA93FD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98D9E-C006-4FEA-97E0-7A4AE392A18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&#1585;&#1575;&#1574;&#1593;&#1607;.wav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484360" y="3068640"/>
            <a:ext cx="3888000" cy="35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99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علماء دير المحرق</a:t>
            </a:r>
            <a:endParaRPr b="1" lang="en-US" sz="1800" spc="1" strike="noStrike">
              <a:ln w="9360">
                <a:solidFill>
                  <a:srgbClr val="ffff99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slow" advTm="7000">
    <p:wedge/>
    <p:sndAc>
      <p:stSnd>
        <p:snd r:embed="rId2" name="%D8%B1%D8%A7%D8%A6%D8%B9%D9%87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155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1155" fill="hold"/>
                                        <p:tgtEl>
                                          <p:spTgt spid="4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1155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1155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609560" y="4164480"/>
            <a:ext cx="61311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00ffff"/>
                </a:solidFill>
                <a:latin typeface="Arial"/>
              </a:rPr>
              <a:t>توحّد مدة خمسة عشر سنة فكان يعود إلى الدير عشيات الآحاد ليقضي لياليه داخل الكنيسة ثم يحضر القداس الإلهي ويتناول   من الأسرار المقدسة ويعود إلى وحدته</a:t>
            </a:r>
            <a:r>
              <a:rPr b="0" lang="ar-EG" sz="32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1000">
    <p:wheel spokes="1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3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042920" y="5014800"/>
            <a:ext cx="6985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00ffff"/>
                </a:solidFill>
                <a:latin typeface="Arial"/>
              </a:rPr>
              <a:t>كان ماهراً في الكتابة ذا خط جميل (قبطي وعربي) فقام بنسخ الكثير من المخطوطات، واهتم بتجليد الكتب، وبعمل المناطق والأساكيم.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9000">
    <p:dissolve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0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4164120" y="4799520"/>
            <a:ext cx="4871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600" spc="-1" strike="noStrike">
                <a:solidFill>
                  <a:srgbClr val="00ffff"/>
                </a:solidFill>
                <a:latin typeface="Arial"/>
              </a:rPr>
              <a:t>ومع كل هذه الأعمال ومع توحّده كان أب اعتراف لرهبان دير البراموس جميعا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9000">
    <p:newsflash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7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66560" y="4164480"/>
            <a:ext cx="820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00ffff"/>
                </a:solidFill>
                <a:latin typeface="Arial"/>
              </a:rPr>
              <a:t>كان يجيد لغات كثيرة وكتب عدة كتب أهمها الآتي: (الإيضاحات الجلية في أمانة  الكنيسة القبطية الأرثوذكسية) و(الأجوبة الجلية على ست مسائل بروتستانتية) و(كشف الستورعن تمويهات أتباع نسطور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1000">
    <p:push dir="r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4" dur="1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5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6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7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79280" y="4280400"/>
            <a:ext cx="40323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333399"/>
                </a:solidFill>
                <a:latin typeface="Arial"/>
                <a:cs typeface="Simplified Arabic"/>
              </a:rPr>
              <a:t>كذلك نقّح ورتب الكثير من الكتب القديمة ومن أشهر أعماله في هذا الميدان سيرة أنبا باخوم أب الشرك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9000">
    <p:wipe dir="u"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4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187280" y="4739040"/>
            <a:ext cx="6553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600" spc="-1" strike="noStrike">
                <a:solidFill>
                  <a:srgbClr val="00ffff"/>
                </a:solidFill>
                <a:latin typeface="Arial"/>
                <a:cs typeface="Simplified Arabic"/>
              </a:rPr>
              <a:t>أخيراً بعد رحلة جهاد تنيح بسلام في (</a:t>
            </a:r>
            <a:r>
              <a:rPr b="1" lang="ar-EG" sz="3600" spc="-1" strike="noStrike">
                <a:solidFill>
                  <a:srgbClr val="00ffff"/>
                </a:solidFill>
                <a:latin typeface="Arial"/>
                <a:ea typeface="Simplified Arabic"/>
              </a:rPr>
              <a:t>21/10/1905</a:t>
            </a:r>
            <a:r>
              <a:rPr b="1" lang="ar-EG" sz="3600" spc="-1" strike="noStrike">
                <a:solidFill>
                  <a:srgbClr val="00ffff"/>
                </a:solidFill>
                <a:latin typeface="Arial"/>
                <a:cs typeface="Simplified Arabic"/>
              </a:rPr>
              <a:t>م) عن (</a:t>
            </a:r>
            <a:r>
              <a:rPr b="1" lang="ar-EG" sz="3600" spc="-1" strike="noStrike">
                <a:solidFill>
                  <a:srgbClr val="00ffff"/>
                </a:solidFill>
                <a:latin typeface="Arial"/>
                <a:ea typeface="Simplified Arabic"/>
              </a:rPr>
              <a:t>88</a:t>
            </a:r>
            <a:r>
              <a:rPr b="1" lang="ar-EG" sz="3600" spc="-1" strike="noStrike">
                <a:solidFill>
                  <a:srgbClr val="00ffff"/>
                </a:solidFill>
                <a:latin typeface="Arial"/>
                <a:ea typeface="Simplified Arabic"/>
              </a:rPr>
              <a:t>) سنة قضى منها (</a:t>
            </a:r>
            <a:r>
              <a:rPr b="1" lang="ar-EG" sz="3600" spc="-1" strike="noStrike">
                <a:solidFill>
                  <a:srgbClr val="00ffff"/>
                </a:solidFill>
                <a:latin typeface="Arial"/>
                <a:ea typeface="Simplified Arabic"/>
              </a:rPr>
              <a:t>71</a:t>
            </a:r>
            <a:r>
              <a:rPr b="1" lang="ar-EG" sz="3600" spc="-1" strike="noStrike">
                <a:solidFill>
                  <a:srgbClr val="00ffff"/>
                </a:solidFill>
                <a:latin typeface="Arial"/>
                <a:ea typeface="Simplified Arabic"/>
              </a:rPr>
              <a:t>) سنة راهبا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9000">
    <p:push dir="r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1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-4492800" y="17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539640" y="4941720"/>
            <a:ext cx="201636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99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hi-IN" sz="1800" spc="1" strike="noStrike">
                <a:ln w="9360">
                  <a:solidFill>
                    <a:srgbClr val="ffff99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كاراس المحرقي</a:t>
            </a:r>
            <a:endParaRPr b="1" lang="en-US" sz="1800" spc="1" strike="noStrike">
              <a:ln w="9360">
                <a:solidFill>
                  <a:srgbClr val="ffff99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2484360" y="549360"/>
            <a:ext cx="4249800" cy="18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99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صلاته تكون معنا آمين</a:t>
            </a:r>
            <a:endParaRPr b="1" lang="en-US" sz="1800" spc="1" strike="noStrike">
              <a:ln w="9360">
                <a:solidFill>
                  <a:srgbClr val="ffff99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slow" advTm="9000">
    <p:wedge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8" dur="3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3000"/>
                            </p:stCondLst>
                            <p:childTnLst>
                              <p:par>
                                <p:cTn id="13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2" dur="3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2050920" y="1052640"/>
            <a:ext cx="5113440" cy="38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99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قمص عبد المسيح المسعودي</a:t>
            </a:r>
            <a:endParaRPr b="1" lang="en-US" sz="1800" spc="1" strike="noStrike">
              <a:ln w="9360">
                <a:solidFill>
                  <a:srgbClr val="ffff99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slow" advTm="9000">
    <p:zoom dir="out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155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" dur="1155" fill="hold"/>
                                        <p:tgtEl>
                                          <p:spTgt spid="4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3" dur="1155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4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5" dur="1155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6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26920" y="4596120"/>
            <a:ext cx="76327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00ffff"/>
                </a:solidFill>
                <a:latin typeface="Arial"/>
              </a:rPr>
              <a:t>ولد سنة </a:t>
            </a:r>
            <a:r>
              <a:rPr b="1" lang="ar-EG" sz="3200" spc="-1" strike="noStrike">
                <a:solidFill>
                  <a:srgbClr val="00ffff"/>
                </a:solidFill>
                <a:latin typeface="Arial"/>
              </a:rPr>
              <a:t>1819</a:t>
            </a:r>
            <a:r>
              <a:rPr b="1" lang="ar-EG" sz="3200" spc="-1" strike="noStrike">
                <a:solidFill>
                  <a:srgbClr val="00ffff"/>
                </a:solidFill>
                <a:latin typeface="Arial"/>
              </a:rPr>
              <a:t>م في بلدة الشيخ مسعود بطهطا ولهذا لُقب بالمسعودي، ولما بلغ السابعة عشر من عمره اشتاق إلى الحياة الملائكية، فقصد دير المحرق حيث ترهب في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9000">
    <p:checker dir="horz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3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403280" y="4950360"/>
            <a:ext cx="6840720" cy="203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7632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00ffff"/>
                </a:solidFill>
                <a:latin typeface="Arial"/>
              </a:rPr>
              <a:t>وفي الدير تتلمذ على يد القمص بولس الدلجاوي (أنبا أبرآم أسقف الفيوم والجيزة) فتمثل بوداعته وعفته وهدوءه وبساطته وتجرده..</a:t>
            </a: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1000">
    <p:checker dir="vert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0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403280" y="3707280"/>
            <a:ext cx="64818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00ffff"/>
                </a:solidFill>
                <a:latin typeface="Arial"/>
              </a:rPr>
              <a:t>بعد أن قضى في الدير المحرق </a:t>
            </a:r>
            <a:r>
              <a:rPr b="1" lang="ar-EG" sz="3200" spc="-1" strike="noStrike">
                <a:solidFill>
                  <a:srgbClr val="00ffff"/>
                </a:solidFill>
                <a:latin typeface="Arial"/>
              </a:rPr>
              <a:t>22</a:t>
            </a:r>
            <a:r>
              <a:rPr b="1" lang="ar-EG" sz="3200" spc="-1" strike="noStrike">
                <a:solidFill>
                  <a:srgbClr val="00ffff"/>
                </a:solidFill>
                <a:latin typeface="Arial"/>
              </a:rPr>
              <a:t> سنة قرر الذهاب إلى دير البراموس مع بعض الرهبان وكان وصولهم أثناء وجود القمص يوحنا الناسخ الذي صار فيما بعد البابا كيرلس الخام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1000">
    <p:cover dir="ru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539640" y="4626360"/>
            <a:ext cx="80679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00ffff"/>
                </a:solidFill>
                <a:latin typeface="Arial"/>
              </a:rPr>
              <a:t>وحينما غادر دير محرق قيل عنه</a:t>
            </a:r>
            <a:r>
              <a:rPr b="1" lang="ar-EG" sz="2800" spc="-1" strike="noStrike">
                <a:solidFill>
                  <a:srgbClr val="00ffff"/>
                </a:solidFill>
                <a:latin typeface="Arial"/>
              </a:rPr>
              <a:t>:</a:t>
            </a:r>
            <a:r>
              <a:rPr b="1" lang="ar-EG" sz="3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ar-EG" sz="2800" spc="-1" strike="noStrike">
                <a:solidFill>
                  <a:srgbClr val="00ffff"/>
                </a:solidFill>
                <a:latin typeface="Arial"/>
              </a:rPr>
              <a:t>”</a:t>
            </a:r>
            <a:r>
              <a:rPr b="1" lang="ar-EG" sz="3200" spc="-1" strike="noStrike">
                <a:solidFill>
                  <a:srgbClr val="00ffff"/>
                </a:solidFill>
                <a:latin typeface="Arial"/>
              </a:rPr>
              <a:t> إنه جوهرة خرجت من الدير</a:t>
            </a:r>
            <a:r>
              <a:rPr b="1" lang="ar-EG" sz="2800" spc="-1" strike="noStrike">
                <a:solidFill>
                  <a:srgbClr val="00ffff"/>
                </a:solidFill>
                <a:latin typeface="Arial"/>
              </a:rPr>
              <a:t>”</a:t>
            </a:r>
            <a:r>
              <a:rPr b="1" lang="ar-EG" sz="3200" spc="-1" strike="noStrike">
                <a:solidFill>
                  <a:srgbClr val="00ffff"/>
                </a:solidFill>
                <a:latin typeface="Arial"/>
              </a:rPr>
              <a:t> لأنه كان عالماً زاهداً عفيفًا وروحانياً مجاهداً وقد تميّز بالإخلاص والتواضع ولهذا أحبّه جميع الذين عرفوه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1000">
    <p:cover dir="rd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57360" y="4212000"/>
            <a:ext cx="7947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00ffff"/>
                </a:solidFill>
                <a:latin typeface="Arial"/>
              </a:rPr>
              <a:t>عيّنه البابا كيرلس الخامس رُبّيتة للدير بعد نياحة القمص عوض، فاهتم بالرهبان ورعاهم روحياً وجسدياً، فساد السلام دير البراموس طيلة رئاسته، حتى أطلق عليه الأنبا يوأنس مطران البحيرة </a:t>
            </a:r>
            <a:r>
              <a:rPr b="1" lang="ar-EG" sz="2800" spc="-1" strike="noStrike">
                <a:solidFill>
                  <a:srgbClr val="00ffff"/>
                </a:solidFill>
                <a:latin typeface="Arial"/>
              </a:rPr>
              <a:t>”</a:t>
            </a:r>
            <a:r>
              <a:rPr b="1" lang="ar-EG" sz="3200" spc="-1" strike="noStrike">
                <a:solidFill>
                  <a:srgbClr val="00ffff"/>
                </a:solidFill>
                <a:latin typeface="Arial"/>
              </a:rPr>
              <a:t> أبو رهبان دير البراموس </a:t>
            </a:r>
            <a:r>
              <a:rPr b="1" lang="ar-EG" sz="2800" spc="-1" strike="noStrike">
                <a:solidFill>
                  <a:srgbClr val="00ffff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9000">
    <p:push dir="l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042920" y="4654800"/>
            <a:ext cx="7129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600" spc="-1" strike="noStrike">
                <a:solidFill>
                  <a:srgbClr val="00ffff"/>
                </a:solidFill>
                <a:latin typeface="Arial"/>
              </a:rPr>
              <a:t>رُشِّح ليكون أسقفاً على كرسي أسيوط فاعتذر بشدة وإلحاح، فقبل البابا ديمتريوس الثاني البطريرك (</a:t>
            </a:r>
            <a:r>
              <a:rPr b="1" lang="ar-EG" sz="3600" spc="-1" strike="noStrike">
                <a:solidFill>
                  <a:srgbClr val="00ffff"/>
                </a:solidFill>
                <a:latin typeface="Arial"/>
              </a:rPr>
              <a:t>111</a:t>
            </a:r>
            <a:r>
              <a:rPr b="1" lang="ar-EG" sz="3600" spc="-1" strike="noStrike">
                <a:solidFill>
                  <a:srgbClr val="00ffff"/>
                </a:solidFill>
                <a:latin typeface="Arial"/>
              </a:rPr>
              <a:t>) عذره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9000">
    <p:wipe dir="d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9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-4637160" y="17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348000" y="3651840"/>
            <a:ext cx="5616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00ffff"/>
                </a:solidFill>
                <a:latin typeface="Arial"/>
                <a:cs typeface="Simplified Arabic"/>
              </a:rPr>
              <a:t>كذلك رُشِح لمطرانية الحبشة وللمرة الثانية اعتذر في تذلل شديد، فقبل البابا كيرلس الخامس اعتذاره، إذ أدرك مدى زهده وشدة ميله إلى التوحّد والدراس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1000">
    <p:wipe dir="l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6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21T11:50:07Z</dcterms:created>
  <dc:creator>الله محبة</dc:creator>
  <dc:description/>
  <dc:language>en-US</dc:language>
  <cp:lastModifiedBy>الله محبة</cp:lastModifiedBy>
  <dcterms:modified xsi:type="dcterms:W3CDTF">2010-12-21T11:50:49Z</dcterms:modified>
  <cp:revision>1</cp:revision>
  <dc:subject/>
  <dc:title>الشريحة 1</dc:title>
</cp:coreProperties>
</file>