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DE55-A5B0-4608-8B22-E5E00289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E670-F942-41D1-B1F8-D20C09EC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8BE0-51F3-4B39-A8E9-766D4E68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CB1B-2891-44FA-B535-F9151CA0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204B-B4C1-4B13-8610-2F4FBD4E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16BE-DD2D-4048-B9E8-976AB7E7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C11D-9BD3-4742-A324-5F01EAAF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1B65-A756-438B-8954-7B3D36B1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11E3-50C1-494E-B1BD-E09B1F9A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3D09-DBD1-4903-86A0-BE4A82E8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7C4C-D230-45B1-9315-87F8F3B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8EF1-B4C5-4CDE-832C-BCD47665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24CA-2EE6-4DC7-9E9B-2E104A2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F357-B5CD-41D9-90B5-25ED6390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9CE8-46AE-4027-B71C-3A54B249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D632-112F-4D94-87A4-52F0C353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2A49-4F9E-49E9-81ED-74AD8A79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DB91-851A-42F8-A6CD-737A051A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2403-18F5-45B1-A068-240BA7F8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8158-6215-4725-A52B-749D04A2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10F4-F706-4040-BEAF-6EF137F5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D909-BB2F-468D-A45A-11405E84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CEF5-4E68-4C6E-9C9C-C7B061A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E67C-D105-44C8-B285-48FB35AC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E00A-BC64-4745-B6CF-27E6E4B765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B4ED-8182-42D4-B5DE-E71D376BF4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c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14400" y="838080"/>
            <a:ext cx="54100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478ca5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ANATOLOGI</a:t>
            </a:r>
            <a:endParaRPr b="0" i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478ca5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589440" y="55166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2590920" y="403848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r.ETTY KURNIA SpF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9" name="Picture 9" descr="Skeleton Walking 3"/>
          <p:cNvPicPr/>
          <p:nvPr/>
        </p:nvPicPr>
        <p:blipFill>
          <a:blip r:embed="rId1"/>
          <a:stretch/>
        </p:blipFill>
        <p:spPr>
          <a:xfrm>
            <a:off x="838080" y="3429000"/>
            <a:ext cx="168768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CEPATAN HILANGNYA PANAS SU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DA SEBANDING DEN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BEDAAN SUHU PERMUKAAN BENDA TERSEBUT DENGAN SUHU LINGKUN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57200" y="1752480"/>
            <a:ext cx="8381880" cy="3124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50000">
              <a:srgbClr val="000000"/>
            </a:gs>
            <a:gs pos="100000">
              <a:srgbClr val="f6f6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FAKTOR-2 YG MEMPENGARUH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1. SEBAB KEMATI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PAT DINGIN : PERDARAH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EMAT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HAN PANAS : SEP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STROK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2. KEAD.UMUM SESEORA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RUS,CACHEXIA &gt;&lt; GEMUK,ATLET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3. LINGKUNGAN  : SUHU,KELEMBAB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RAN UDA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UTUP TUBU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M AIR : KOTOR,MENGALIR/TD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ERMUKAAN /DIDAL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KEGUNAAN PEM.SUHU JENAZAH 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MEMPERKIRAKAN SAAT  KEMA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KASAR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ABA DINGIN --- LEBIH  6 – 12 J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DASAR TURUNNYA SUHU TIAP 3 J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RUS    RATA-2    GEMU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JAM 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1,5  F       1          0,5 – 0,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I            2,6          2             1,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III            2,3          2             1,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V            1,6         1,5            1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12-15 JAM        1,3         1,3            1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3.PENGGUNAAN RUMUS.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98,4 F – SUHU RECT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= …. JAM Y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5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15 der.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8 JAM PERTAMA  ---- 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JENAZAH TELANJ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6f6f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LEBAM MAYAT 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- LIVOR MORTI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- POSTMORTEM STAIN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- POSTMORTEM LIVIDIT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WARNAAN KULIT JENAZAH DIBAG. 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NDAH DG WARNA MERAH UNGU/KEB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AN /LIVID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50000">
              <a:srgbClr val="000000"/>
            </a:gs>
            <a:gs pos="100000">
              <a:srgbClr val="f6f6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ahoma"/>
              </a:rPr>
              <a:t>FAKTOR –2  PENYEBAB 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T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HENTINYA KERJA JANTU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GNASI ALIRAN DAR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BUL 20 –60 MNT STL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A-2 DLM BENTUK BINTIK-2YG MA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EBAR DAN MENJADI SATU,DG W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RAH UNGU / LIV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6f6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Tahoma"/>
              </a:rPr>
              <a:t>WARNA  LM  SEPERTI  LUKA MEMAR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KASI DISEMBARANG TEMP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ADA PEMBENGKAKA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BATASNYA JELA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WARNA LEBIH GELAP dan TIDA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LANG PD PENEKANA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BL DIIRIS MAKA DARAH NAMPAK D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TARA JARINGAN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# PERKIRAAN SEBAB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# PERKIRAAN SAAT 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# POSISI JENAZAH STL KEMATI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TETAP / BERUB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BILA ADA PERUBAH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= POSISI AWALNYA BAGAIM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= KAPAN PERUBAHAN I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609480" y="228600"/>
            <a:ext cx="782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EPENTINGAN  PEMERIKSAAN  LM :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1. LOKALISASI  ------ BERUBAH / TID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TERLENTANG --- BAG.BELAKANG TB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2. WARNA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RMAL                  : MERAH UN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FIKSIA                 : MERAH GELA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,CN,DINGIN        : MERAH TER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TAS,CHLORAT     : MERAH COKL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304920" y="30492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MERIKSAAN   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ccff66"/>
                </a:solidFill>
                <a:latin typeface="Tahoma"/>
              </a:rPr>
              <a:t>. DISTRIBUSI :</a:t>
            </a: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LUAS / TIDAK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- LUAS             : ASFIKS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- TIDAK LUAS : PERDARAH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. PENEKANAN DI LM : SAAT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/60          3 – 4 JAM            6 – 8 J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A + EXTRA        EX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1219320" y="4495680"/>
            <a:ext cx="0" cy="3812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3809880" y="4495680"/>
            <a:ext cx="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7543800" y="4495680"/>
            <a:ext cx="0" cy="3812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609480" y="4419720"/>
            <a:ext cx="8001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PENGERTIAN :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ANATOS     :  M A T 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GOS          :  I L M 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anda /perubahan setelah mati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- Faktor-2 yg mempengaruhi  perubahan tsb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- Manfaat dlm penyidikan suatu kasus pidana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80880" y="2895480"/>
            <a:ext cx="269892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bf25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empelajari :</a:t>
            </a:r>
            <a:endParaRPr b="0" lang="en-US" sz="1800" spc="1" strike="noStrike">
              <a:ln w="0">
                <a:noFill/>
              </a:ln>
              <a:solidFill>
                <a:srgbClr val="ebf25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Cat Playing with Ball"/>
          <p:cNvPicPr/>
          <p:nvPr/>
        </p:nvPicPr>
        <p:blipFill>
          <a:blip r:embed="rId2"/>
          <a:stretch/>
        </p:blipFill>
        <p:spPr>
          <a:xfrm>
            <a:off x="6400800" y="0"/>
            <a:ext cx="1523880" cy="723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INTRAVASAL</a:t>
            </a: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ITEKAN  HILA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EXTRAVASA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ITEKAN  TIDAK HILA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ILA ADA PERUBAHAN POSISI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I  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M  LAMA HILANG ,TIMBUL LM BAR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II  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M ADA,TIMBUL LM BARU  ( 2 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III 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M ADA, TIDAK TIMBUL LM BAR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457200" y="2286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JELASAN :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GOR  MOR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MORTEM RIGID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MORTEM STIFF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ADALAH KEKAKUAN PD OTOT-2 SKELET ATAUPUN OTOT-2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POLOS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 YANG TERJADI  SEKITAR 2 JAM STL KEMATIAN DAN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TERJADINYA TIDAK SERENTAK MELAINKAN BERURUTAN DIMULAI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DR OTOT ORBICULARIS OCULI – OTOT-2 WAJAH – LEHER–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ANGGOTA GERAK ATAS ---DADA – PE RUT – ANGGOTA GERAK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BAWAH. HILANGNYA JUGA BERURUTAN SPT DIATAS TETAPI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YANG PALING AKHIR ADALAH OTOT  RAHANG / WAJAH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685800" y="91440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KAKU MAYAT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KUAN IN MENCAPAI SELURUH TUBUH SEKIT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8 JAM,KEMUDIAN DIPERTAHANKAN SELAMA 10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JAM,KEMUDIAN BERANGSUR MENGHILANG BER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N TIMBULNYA PEMBUS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6 – 8 JAM                                      16 – 18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_______________________________________________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2 JAM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24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4"/>
          <p:cNvSpPr/>
          <p:nvPr/>
        </p:nvSpPr>
        <p:spPr>
          <a:xfrm flipH="1">
            <a:off x="1219320" y="3505320"/>
            <a:ext cx="838080" cy="83808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057400" y="3505320"/>
            <a:ext cx="0" cy="914400"/>
          </a:xfrm>
          <a:prstGeom prst="line">
            <a:avLst/>
          </a:prstGeom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7162920" y="3505320"/>
            <a:ext cx="0" cy="914400"/>
          </a:xfrm>
          <a:prstGeom prst="line">
            <a:avLst/>
          </a:prstGeom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7162920" y="3505320"/>
            <a:ext cx="838080" cy="76176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NZALE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D  SAAT MENINGGAL  --- SARCOPLASMA SIFATNYA MASIH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ASA ----- OTOT MASIH FLEXIBLE  DAN ELASTIS, STL I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ERJADI METABOLISME ANAEROB --- ASAM --- COAGULAS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ARCOPLASMA --- KAKU DAN MEMENDE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LEXIBELITA &amp;  ELASTISITAS  OT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DERAJAT  HYDRASI PROTEIN OT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JUMLAH  ATP YG DISERAP  MYOS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MENINGGAL –SECARA BERTAHAP  ATP HAB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DEHYDR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KEKAKUAN  ACTOMYOSIN --  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228600" y="228600"/>
            <a:ext cx="699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ORI  PEMBENTUKAN  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ahoma"/>
              </a:rPr>
              <a:t>RIGOR MOR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ahoma"/>
              </a:rPr>
              <a:t>POSTMORTEM RIGID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ahoma"/>
              </a:rPr>
              <a:t>POSTMORTEM STIFF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ADALAH KEKAKUAN OTOT JENAZAH BAIK OTOT SKELE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MAUPUN OTOT POLOS 2 JAM SETELAH DAN TERJADINY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TIDAK SERENTA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DIMULAI M.ORBICULARIS OCULI – WAJAH – LEHER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ANGGOTA GERAK ATAS – DADA – PERUT – ANGG.GERAK BWH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PROSES INI MEMBUTUHKAN SEKITAS 6 – 8 J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304920"/>
            <a:ext cx="37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KAKU MAYAT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KEKUATAN INI AKAN DIPERTAHANKAN SELAMA 1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12 J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UDIAN OTOT-2 AKAN MELEMAS SESUAI DENGAN URUTAN TADI TETAPI YG TERAKHIR LEMAS ADALAH OTOT RAHANG DENGAN LEMASNYA OTOT TERSEBUT TIMBUL PROSES PEMBUSUK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1295280" y="5943600"/>
            <a:ext cx="6324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2362320" y="52578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6705720" y="52578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5105520" y="52578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3657600" y="52578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066680" y="5486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467480" y="5486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05740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Ja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3526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 - 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4724280" y="4876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 - 1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324480" y="4876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4 Ja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TEORI PEMBENTUKAN KAKU MAY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66"/>
                </a:solidFill>
                <a:latin typeface="Tahoma"/>
              </a:rPr>
              <a:t>1. GONZA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Beberapa saat setelah kematian reaksi sarcoplasma masih basa---otot flexible &amp; elastis. Kemudian terjadi metab. Anaerob---asam---coagulasi sarcoplasma—kaku dan pendek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66"/>
                </a:solidFill>
                <a:latin typeface="Tahoma"/>
              </a:rPr>
              <a:t>2. SZENT GYORG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Flexibilitas &amp; elastisitas otot tg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Derajat hydrasi protein oto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Jumlah ATP yg diserap myosi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Secara bertahap ATP hab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Dehydras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Kekuatan actomyosin - K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KEADAAN YG MIRIP KAKU MAY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1. CADAVERIC SPAS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- Kekuatan otot yg sudah terjadi sesaat sebelum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meninggal dunia, dan dipertahankan terus sampai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proses pembus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erjadi pada sekelompok otot tertentu tetapi dapat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seluruh tubu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Faktor penyebab : EMOSI YG HEB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Rasa sak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Rasa tak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Ketegangan / pani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Posisi cadaveric spasme tidak dapat ditir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Merupakan tanda intrav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2. HEAT STIFFE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Kekuatan akibat suhu tingg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Kebakar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Cairan pa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oagulasi protein ot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apat terjadi pd orang hidup atau pd jenaz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Jenazah dlm posisi boxer hol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3. COLD STIFFE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Kekuatan akibat suhu dingin (&lt;3,5</a:t>
            </a:r>
            <a:r>
              <a:rPr b="0" lang="en-US" sz="2700" spc="-1" strike="noStrike" baseline="30000">
                <a:solidFill>
                  <a:srgbClr val="ffffcc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C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telah keluar dari suhu dingin ---proses K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4. MUMMIFIK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ahoma"/>
              </a:rPr>
              <a:t>FAKTOR-2 YG MEMPERCEPAT TERJADINYA KAKU MAYAT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1. Suh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as ---- cepat timbul cepat hila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aliknya pd kondisi ding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2. Jumlah persediaan glycogen ot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jang-2, cachexia, kegiatan otot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lebihan KM cepat timbul, cepat hila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3. Ukuran/ besar kecilnya ot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4. Sebab kemat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racunan strichnin, alkaloid – cepat asfiksia,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rac.logam berat---lamb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idak mempelajari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TI 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Walaupun definisi/pengertian akhir-2 penting sebab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Kemajuan dlm tehnologi kedokteran –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P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Kapan  alat  ini dihentika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Euthanasi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Sengaja dihentikan ---- pembunuhan 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ERUBAHAN PADA MAT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gunaan : Memperkirakan saat kemati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1. FUNDUSCOPY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or vitreous keruh---10-12 j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mentasi pemb.darah retina---10-15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. TEKANAN BOLA M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              :  14 – 25 G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30 Menit  : 3 G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2 j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: 0 G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3. TACHENOIR D’LA SCLEROTI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na kecoklatan sudut luar bola mata, bentuk segiti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ai tampak : 3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mpurna      : 12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ertahankan selama 2 ha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75640" cy="6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PERUBAHAN CAIRAN TUBU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Kegunaan : Perkiraan saat kemat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. Dar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&lt;12 jam --- AS.Amino Nitogen 14 Mg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e : 5 Mg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- 28 jam --- Creatine 11 Mg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24 jam --- PH menjadi alkal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2. Liquor C.S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&lt; 15 jam AS.Laktat  15 – 200 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PN  15 – 40 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.Amino 1- 12 Mg%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SCHLEYER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&lt; 10 jam  AS.AMINO NT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&lt;14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reatine &lt;5 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&lt; 24 jam NP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&lt; 80 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3. HUMOR VITREO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T ( jam ) = ( 7,14 X K</a:t>
            </a:r>
            <a:r>
              <a:rPr b="1" lang="en-US" sz="3200" spc="-1" strike="noStrike" baseline="30000">
                <a:solidFill>
                  <a:srgbClr val="ccecff"/>
                </a:solidFill>
                <a:latin typeface="Tahoma"/>
              </a:rPr>
              <a:t>+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) – 39,1 J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K+ ---waktu kematian ada hubungan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linier Artmatic SP 100 jam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Tahoma"/>
              </a:rPr>
              <a:t>DEKOMPOSIS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. Putrefaction / Rot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mbusukan KR pengaruh kuman pembus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imbul gas berbau dan membusu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2. Autoly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embusukan akibat pengaruh enzym proteolys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enghancuran protein jaringan---ster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Autodig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mbusukan akibat pengaruh enzym pencerna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asanya oesophagus bawah, lambu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75640" cy="6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P U T R E F A C T I O 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da-2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s yg berbau ---- jenazah membengk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lunakan jari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ghancuran jari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Warnakehijauan diperut kanan bawah---daerah caec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lloning waj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Keluar cairan kemerahan dari hidung, mul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llae dikul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Kuku dan rambut mudah dilepas ---- 1 M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ngga perut dapat pecah---- 1 – 2 mingg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Didapatkan larva lal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8.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Pembusukan organ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g cepat membusuk, secara berturut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kosa larynx, trach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bung, us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en, hepar, uterus postpart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Proses pembusukannya lambat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esophagus, diafragma, jantung, paru-2, ginjal, VU, uterus non grav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Yang tahan pembusukan  rambut, kuku, gigi, tula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25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FAKTOR YANG MEMPENGARUH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Faktor dari dalam tubu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1. Adanya bakteri pembusukan dan uda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GI.Tract cepat busu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Mengalami luka-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erbungkus/ telanj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anah padat/ berpas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Suhu udara dan kelembab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---  7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10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-   &gt;10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 –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3.3.JENIS MEDIA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Udara ---2x lambat dalam air --- 8x lambat dalam tanah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 CASPER’S DICTUM 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677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aktor dari dalam tubu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Um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Ortu – Jar.lemak sedikit---cepat dingin---lamb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Jenis kela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Wanita---cep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Keadaan umum saat mening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Edematus – cepat &gt;&lt; Cachex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Sebab kemat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Banyak luka-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Asam/ basa ku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Sepsis &gt;&lt; Logam ber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MODIFIKASI PROSES PEMBUSUKA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Jenazah tidak rusak tetapi awet sehingg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menguntung proses penyidik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UMMIFIKA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Kondisi jenazah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Kur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Kulit coklat kehitaman, kaku dan rapu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Berat badan menur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Susunan anatomi utuh, tidak berba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Tanah bertahun-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sesnya membutuhkan waktu 14 Mg – 12 Bl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eadaan /lingkunganyg memungkinkan suhu udara sangat pana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dara yg ker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iran udara terus meneru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ondisi tubuh jenazah kurang lema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dak mengalami banyak luka-2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2.Transplantasi  organ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     </a:t>
            </a: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Dibutuhkan waktu yg cepat dlm  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    </a:t>
            </a: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pengambilan organ,segera stl    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    </a:t>
            </a: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pendonor  mati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3.Penyalahgunaan obat-2an narkotik /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sedative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Coma –lalai memberi pertolongan---   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mati sungguhan --- sangsi hukum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ADIPOCERE / SAPONIFIKAS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erjadi proses menjadi sabun pd lem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ubuh jenazah hidrogenisasi dan hidrolisis Lemak tid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jenuh---lemak jenuh garam alkal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Kondisi jenazah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aba seperti sabun /lilin, tidak berba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anasi melele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ut dalam alkohol, a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dak larut di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Lingkungan : Basah dan reaksi b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ktu : Bayi--- 6 - 7 M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wasa--- 1 - 1,5 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yi &lt;7 Bln kandungan tdk dapat mengalami adipo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Tahoma"/>
              </a:rPr>
              <a:t>LARVA LAL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Kegunaan : Perkiraan saat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am-2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. Blue bottle ( Calliphora Erythrocepalla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2. Green bottle ( Lucilia Caesar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3. Musca Domest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ara pemeriksa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ibiakkan media---Diamati siklusny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iksasi dg alkohol 96% ---microskop --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tukan jenis dan umurny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Tahoma"/>
              </a:rPr>
              <a:t>SIKLUS HIDUP LARV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Blue Bottle dan Green Bott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Telur didaging segar atau membusu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Telur – 8 – 14 jam --- larva I --- 8 – 14 jam --- larva II – 2 – 3 HARI --- LARVA III – 7 – 8 hari ---kepompong --- 12 hari --- lal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a Domest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ur disampah atau jenaz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ur – 8 – 12 jam --- larva I --- 36 jam ---larva II --- 2 – 3 HARI --- Larva III --- 3 – 4 hari --- kepompong --- 7 hari --- lal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ccff66"/>
                </a:solidFill>
                <a:uFillTx/>
                <a:latin typeface="Tahoma"/>
              </a:rPr>
              <a:t>PERBEDAAN LARV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usca.D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Blue bot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ja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¼ inch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½ - ¼ i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gmata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( - 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 + )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rac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lekukan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lu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j.pup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¼ inch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¾ i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2743200" y="2057400"/>
            <a:ext cx="586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743200" y="205740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Tahoma"/>
              </a:rPr>
              <a:t>Kesimpula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Membuktikan seseorang meningg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Adanya konsep kemati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- Brainstem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- Somatic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Ada/ tidaknya perubahan posisi jenaz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Perkiraan saat kematian – saat kejad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Perkiraan sebab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Kondisi pengawetan jenazah secara alam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4"/>
          <p:cNvSpPr/>
          <p:nvPr/>
        </p:nvSpPr>
        <p:spPr>
          <a:xfrm>
            <a:off x="1219320" y="762120"/>
            <a:ext cx="0" cy="5105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reeform 8"/>
          <p:cNvSpPr/>
          <p:nvPr/>
        </p:nvSpPr>
        <p:spPr>
          <a:xfrm>
            <a:off x="1752480" y="2603520"/>
            <a:ext cx="2362320" cy="32637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1066680" y="825480"/>
            <a:ext cx="6400800" cy="471168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762120" y="6019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Line 12"/>
          <p:cNvSpPr/>
          <p:nvPr/>
        </p:nvSpPr>
        <p:spPr>
          <a:xfrm flipV="1">
            <a:off x="685800" y="1142640"/>
            <a:ext cx="3049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Line 14"/>
          <p:cNvSpPr/>
          <p:nvPr/>
        </p:nvSpPr>
        <p:spPr>
          <a:xfrm>
            <a:off x="21337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289548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495288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35053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411480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55627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26"/>
          <p:cNvSpPr/>
          <p:nvPr/>
        </p:nvSpPr>
        <p:spPr>
          <a:xfrm>
            <a:off x="62485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8"/>
          <p:cNvSpPr/>
          <p:nvPr/>
        </p:nvSpPr>
        <p:spPr>
          <a:xfrm>
            <a:off x="701028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9"/>
          <p:cNvSpPr/>
          <p:nvPr/>
        </p:nvSpPr>
        <p:spPr>
          <a:xfrm>
            <a:off x="76201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Freeform 30"/>
          <p:cNvSpPr/>
          <p:nvPr/>
        </p:nvSpPr>
        <p:spPr>
          <a:xfrm>
            <a:off x="1752480" y="609480"/>
            <a:ext cx="457200" cy="3812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76320" y="14479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.9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 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8.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2286000" y="38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Plateau of variable tempera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2362320" y="2286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bf25a"/>
                </a:solidFill>
                <a:latin typeface="Tahoma"/>
              </a:rPr>
              <a:t>Rig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1981080" y="1447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emperature </a:t>
            </a:r>
            <a:r>
              <a:rPr b="0" lang="en-US" sz="1800" spc="-1" strike="noStrike" baseline="30000">
                <a:solidFill>
                  <a:srgbClr val="ffffcc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4800600" y="1752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compos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2209680" y="5334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eel C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152280" y="6324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emperature o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35053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Hours after dea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1219320" y="5867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1981080" y="5867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266688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327672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388620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47242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5334120" y="58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601992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6705720" y="5867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4674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Freeform 58"/>
          <p:cNvSpPr/>
          <p:nvPr/>
        </p:nvSpPr>
        <p:spPr>
          <a:xfrm>
            <a:off x="4191120" y="2209680"/>
            <a:ext cx="1447560" cy="36576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Freeform 59"/>
          <p:cNvSpPr/>
          <p:nvPr/>
        </p:nvSpPr>
        <p:spPr>
          <a:xfrm>
            <a:off x="1600200" y="3416400"/>
            <a:ext cx="5715000" cy="245088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60"/>
          <p:cNvSpPr/>
          <p:nvPr/>
        </p:nvSpPr>
        <p:spPr>
          <a:xfrm>
            <a:off x="6019920" y="3124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iv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1447920" y="5867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Straight Connector 51"/>
          <p:cNvSpPr/>
          <p:nvPr/>
        </p:nvSpPr>
        <p:spPr>
          <a:xfrm>
            <a:off x="2286000" y="3429000"/>
            <a:ext cx="1143000" cy="144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Straight Connector 54"/>
          <p:cNvSpPr/>
          <p:nvPr/>
        </p:nvSpPr>
        <p:spPr>
          <a:xfrm>
            <a:off x="2286000" y="3200400"/>
            <a:ext cx="1066680" cy="14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Straight Connector 56"/>
          <p:cNvSpPr/>
          <p:nvPr/>
        </p:nvSpPr>
        <p:spPr>
          <a:xfrm>
            <a:off x="2362320" y="2895480"/>
            <a:ext cx="914400" cy="18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Straight Connector 58"/>
          <p:cNvSpPr/>
          <p:nvPr/>
        </p:nvSpPr>
        <p:spPr>
          <a:xfrm>
            <a:off x="2209680" y="3733920"/>
            <a:ext cx="12956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Straight Connector 60"/>
          <p:cNvSpPr/>
          <p:nvPr/>
        </p:nvSpPr>
        <p:spPr>
          <a:xfrm>
            <a:off x="2133720" y="4038480"/>
            <a:ext cx="1447560" cy="18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Straight Connector 62"/>
          <p:cNvSpPr/>
          <p:nvPr/>
        </p:nvSpPr>
        <p:spPr>
          <a:xfrm>
            <a:off x="2057400" y="4343400"/>
            <a:ext cx="1600200" cy="1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Straight Connector 64"/>
          <p:cNvSpPr/>
          <p:nvPr/>
        </p:nvSpPr>
        <p:spPr>
          <a:xfrm>
            <a:off x="1981080" y="4724280"/>
            <a:ext cx="1752840" cy="180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Straight Connector 67"/>
          <p:cNvSpPr/>
          <p:nvPr/>
        </p:nvSpPr>
        <p:spPr>
          <a:xfrm>
            <a:off x="1905120" y="5105520"/>
            <a:ext cx="1981080" cy="1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Straight Connector 69"/>
          <p:cNvSpPr/>
          <p:nvPr/>
        </p:nvSpPr>
        <p:spPr>
          <a:xfrm>
            <a:off x="1828800" y="5410080"/>
            <a:ext cx="2133720" cy="180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4.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KONSEP BRAINSTEM DEATH</a:t>
            </a:r>
            <a:br>
              <a:rPr sz="3200"/>
            </a:b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  (MATI  BATANG  OTAK = MBO 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ff99"/>
                </a:solidFill>
                <a:latin typeface="Tahoma"/>
              </a:rPr>
              <a:t>MBO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ff99"/>
                </a:solidFill>
                <a:latin typeface="Tahoma"/>
              </a:rPr>
              <a:t>SEJAK 1981 -----  1990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f25a"/>
                </a:solidFill>
                <a:latin typeface="Tahoma"/>
              </a:rPr>
              <a:t>1. ADA PRAKONDISI 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- KOMA,HENTI NAFAS ,TDK RESPONSIF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DAN   PERLU DIBANTU VENTILATOR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- PENYEBABNYA KERUSAKAN OTAK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f25a"/>
                </a:solidFill>
                <a:latin typeface="Tahoma"/>
              </a:rPr>
              <a:t>2. MENYINGKIRKAN PENYBB : GGN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METABOLIK HIPOTERMIA, INTOXICASI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OBAT2-AN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f25a"/>
                </a:solidFill>
                <a:latin typeface="Tahoma"/>
              </a:rPr>
              <a:t>3.REFLEK-2 BO,HENTI NAFAS IRREVERSIBLE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K E S I M P U L A 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MBO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KO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TIDAK ADA SIKAP ABNORMAL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DEKORTIKASI,DECEREBRASI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TDAK ADA HENTAKAN EPILEP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TIDAK ADA NAFAS SPONT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TIDAK ADA REFLEK-2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DK RESPON PD CAHA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DK ADA REFLEK CORN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TDK ADA REFLEK VESTIBULO-OK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TDK ADA REFLEK MUNTAH/BATU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TDK ADA RESPON MOTORIK THD R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NGAN YG ADEKUAT DIAREA SOMAT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PERUBAHAN STL  KEMATIAN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SEGERA  :   - SOMATIC DEA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ELLULAR DEA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LAMBAT :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NDA KEMATIAN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P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HILANGNYA SUHU TUBUH JENAZ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LEBAM MAY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KAKU MAY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PERUBAHAN PD M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PERUBAHAN KIMIAWI CAIRAN TUBU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DEKOMPOSISI / PEMBUSS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AKHIR :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HANCURNYA JARINGAN LUN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50000">
              <a:srgbClr val="000000"/>
            </a:gs>
            <a:gs pos="100000">
              <a:srgbClr val="f6f6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OMATIC DEATH :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TANDA KEMATIAN KLIN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TANDA KEMATIAN </a:t>
            </a:r>
            <a:r>
              <a:rPr b="1" lang="en-US" sz="2800" spc="-1" strike="noStrike">
                <a:solidFill>
                  <a:srgbClr val="99ff99"/>
                </a:solidFill>
                <a:latin typeface="Tahoma"/>
              </a:rPr>
              <a:t>TIDAK P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DIVIDU DIAM,TDK ADA GER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OTOT-2 LEMAS (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DK ADA TON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 ---  CONTACT FLATTE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DK ADA GERAK PERNAFASAN  SPONTAN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IPERIKSA 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-INSPEKSI,PALPASI,AUSC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-TEST :CERMIN,WINSLOW,BUL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ERHENTINYA CIRCULASI DAR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IPERIKSA : </a:t>
            </a:r>
            <a:r>
              <a:rPr b="0" i="1" lang="en-US" sz="2400" spc="-1" strike="noStrike">
                <a:solidFill>
                  <a:srgbClr val="ebf25a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INSPEKSI,PALPASI,AUSC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- TEST : MAGNUS,FINGER NAIL TEST,IPCARD       T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RUBAHAN PADA MATA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- REFLEX CAHAYA DAN CORNEA TDK ADA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2000"/>
            </a:gs>
            <a:gs pos="50000">
              <a:srgbClr val="f6f6f6"/>
            </a:gs>
            <a:gs pos="100000">
              <a:srgbClr val="602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cc"/>
                </a:solidFill>
                <a:latin typeface="Tahoma"/>
              </a:rPr>
              <a:t>HILANGNYA  PANAS/SUHU TUBUH.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AWAL KEMATIAN SUHU TUBUH MASIH DPERTAHAN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ANAER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YCOGEN  HAB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DAK ADA PEMBENTUKAN PA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POR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DUK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AS TUBUH HILA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I N G I 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343400" y="2438280"/>
            <a:ext cx="0" cy="457200"/>
          </a:xfrm>
          <a:prstGeom prst="line">
            <a:avLst/>
          </a:prstGeom>
          <a:ln w="7632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1905120" y="4114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5:51:04Z</dcterms:created>
  <dc:creator>TJ 2000</dc:creator>
  <dc:description/>
  <dc:language>en-US</dc:language>
  <cp:lastModifiedBy>forensik</cp:lastModifiedBy>
  <dcterms:modified xsi:type="dcterms:W3CDTF">2013-09-16T04:35:26Z</dcterms:modified>
  <cp:revision>29</cp:revision>
  <dc:subject/>
  <dc:title>PowerPoint Presentation</dc:title>
</cp:coreProperties>
</file>