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gif" ContentType="image/gif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D9B96-CCE0-4D3C-8C80-BFD53FE2A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FFBCF-3582-46F3-8CEB-33EEAE42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4BE2C-6552-40E9-A47F-0FE5837B8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A802B-CA90-4FD0-BA99-FBDED19ED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9A8A-41DD-4D8E-ACE2-B47084FCB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B127-A1F8-43B5-A29B-2A0E6168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385F-1341-488D-ACED-69A66ADF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7D57-BB1B-4515-B2C1-C7E84ED7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2779-3785-4A43-979A-D1DB1379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FC61-2814-4AC3-92BC-3C6C2148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023E-7CD7-4029-843A-A70627F7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DA047-5175-4793-ADCC-7A9C0F86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BAC69-76EB-4F76-BC00-EC278105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8A0E-E7A8-4335-A5B2-D5C373FD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2954-E57D-4502-AF6F-39595347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8A70F-C164-4883-9955-303623F84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860B-88A3-4670-A619-AB0AE5188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D39FD-59A5-411E-B292-BE8F3BC3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84D53-D8CC-40EC-B7A9-12BABD6A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3A09B-0681-4988-96F6-456807F6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98ED6-D933-49D6-AC01-7C4A28F1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F0900-8406-4306-A7AF-77689DCD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539A5-45FF-4072-8850-B293F659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7D5D4-7A77-460F-9C8B-ACB10BAF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433F-2853-4BDE-AB38-7F49DE3141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E392-DF04-4350-858A-DEFE711452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c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4"/>
          <p:cNvSpPr txBox="1"/>
          <p:nvPr/>
        </p:nvSpPr>
        <p:spPr>
          <a:xfrm>
            <a:off x="914400" y="838080"/>
            <a:ext cx="5410080" cy="8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478ca5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THANATOLOGI</a:t>
            </a:r>
            <a:endParaRPr b="0" i="1" lang="en-US" sz="1800" spc="1" strike="noStrike">
              <a:ln w="9360">
                <a:solidFill>
                  <a:srgbClr val="ffffcc"/>
                </a:solidFill>
                <a:miter/>
              </a:ln>
              <a:solidFill>
                <a:srgbClr val="478ca5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6589440" y="551664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WordArt 7"/>
          <p:cNvSpPr txBox="1"/>
          <p:nvPr/>
        </p:nvSpPr>
        <p:spPr>
          <a:xfrm>
            <a:off x="2590920" y="4038480"/>
            <a:ext cx="5029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r.ETTY KURNIA SpF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9" name="Picture 9" descr="Skeleton Walking 3"/>
          <p:cNvPicPr/>
          <p:nvPr/>
        </p:nvPicPr>
        <p:blipFill>
          <a:blip r:embed="rId1"/>
          <a:stretch/>
        </p:blipFill>
        <p:spPr>
          <a:xfrm>
            <a:off x="838080" y="3429000"/>
            <a:ext cx="1687680" cy="23623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6f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2824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CEPATAN HILANGNYA PANAS SUA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NDA SEBANDING DENG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BEDAAN SUHU PERMUKAAN BENDA TERSEBUT DENGAN SUHU LINGKUNG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457200" y="1752480"/>
            <a:ext cx="8381880" cy="3124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6f6"/>
            </a:gs>
            <a:gs pos="50000">
              <a:srgbClr val="000000"/>
            </a:gs>
            <a:gs pos="100000">
              <a:srgbClr val="f6f6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FAKTOR-2 YG MEMPENGARUHI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1. SEBAB KEMATI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PAT DINGIN : PERDARAH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EMATU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HAN PANAS : SEPS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N STROK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2. KEAD.UMUM SESEORA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URUS,CACHEXIA &gt;&lt; GEMUK,ATLET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3. LINGKUNGAN  : SUHU,KELEMBAB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IRAN UDA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UTUP TUBU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LM AIR : KOTOR,MENGALIR/TD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PERMUKAAN /DIDAL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049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KEGUNAAN PEM.SUHU JENAZAH 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TUK MEMPERKIRAKAN SAAT  KEMATI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KASAR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RABA DINGIN --- LEBIH  6 – 12 JA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DASAR TURUNNYA SUHU TIAP 3 J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URUS    RATA-2    GEMU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lang="en-US" sz="2800" spc="-1" strike="noStrike">
                <a:solidFill>
                  <a:srgbClr val="ebf25a"/>
                </a:solidFill>
                <a:latin typeface="Tahoma"/>
              </a:rPr>
              <a:t>JAM 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ebf25a"/>
                </a:solidFill>
                <a:latin typeface="Tahoma"/>
              </a:rPr>
              <a:t>1,5  F       1          0,5 – 0,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I            2,6          2             1,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66ff33"/>
                </a:solidFill>
                <a:latin typeface="Tahoma"/>
              </a:rPr>
              <a:t>III            2,3          2             1,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V            1,6         1,5            1,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12-15 JAM        1,3         1,3            1,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6f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Tahoma"/>
              </a:rPr>
              <a:t>3.PENGGUNAAN RUMUS.</a:t>
            </a: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98,4 F – SUHU RECT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= …. JAM Y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,5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15 der.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 8 JAM PERTAMA  ----  8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JENAZAH TELANJA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6f6f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LEBAM MAYAT 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600" spc="-1" strike="noStrike">
                <a:solidFill>
                  <a:srgbClr val="66ff33"/>
                </a:solidFill>
                <a:latin typeface="Tahoma"/>
              </a:rPr>
              <a:t>- LIVOR MORTI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Tahoma"/>
              </a:rPr>
              <a:t>     </a:t>
            </a:r>
            <a:r>
              <a:rPr b="0" lang="en-US" sz="3600" spc="-1" strike="noStrike">
                <a:solidFill>
                  <a:srgbClr val="66ff33"/>
                </a:solidFill>
                <a:latin typeface="Tahoma"/>
              </a:rPr>
              <a:t>- POSTMORTEM STAINING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Tahoma"/>
              </a:rPr>
              <a:t>     </a:t>
            </a:r>
            <a:r>
              <a:rPr b="0" lang="en-US" sz="3600" spc="-1" strike="noStrike">
                <a:solidFill>
                  <a:srgbClr val="66ff33"/>
                </a:solidFill>
                <a:latin typeface="Tahoma"/>
              </a:rPr>
              <a:t>- POSTMORTEM LIVIDIT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EWARNAAN KULIT JENAZAH DIBAG. T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ENDAH DG WARNA MERAH UNGU/KEB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UAN /LIVIDE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6f6"/>
            </a:gs>
            <a:gs pos="50000">
              <a:srgbClr val="000000"/>
            </a:gs>
            <a:gs pos="100000">
              <a:srgbClr val="f6f6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Tahoma"/>
              </a:rPr>
              <a:t>FAKTOR –2  PENYEBAB 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VITAS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RHENTINYA KERJA JANTU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GNASI ALIRAN DARA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M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MBUL 20 –60 MNT STL KEMATI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A-2 DLM BENTUK BINTIK-2YG MAK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LEBAR DAN MENJADI SATU,DG WA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ERAH UNGU / LIVI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6f6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66ff33"/>
                </a:solidFill>
                <a:latin typeface="Tahoma"/>
              </a:rPr>
              <a:t>WARNA  LM  SEPERTI  LUKA MEMAR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KASI DISEMBARANG TEMPA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ADA PEMBENGKAKAN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BATASNYA JELA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WARNA LEBIH GELAP dan TIDAK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ILANG PD PENEKANAN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BL DIIRIS MAKA DARAH NAMPAK D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NTARA JARINGAN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560" y="1294920"/>
            <a:ext cx="88390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# PERKIRAAN SEBAB KEMATI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# PERKIRAAN SAAT  KEMATI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# POSISI JENAZAH STL KEMATIAN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- TETAP / BERUBA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- BILA ADA PERUBAHAN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n-US" sz="3200" spc="-1" strike="noStrike">
                <a:solidFill>
                  <a:srgbClr val="ccff66"/>
                </a:solidFill>
                <a:latin typeface="Tahoma"/>
              </a:rPr>
              <a:t>= POSISI AWALNYA BAGAIMA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Tahoma"/>
              </a:rPr>
              <a:t>         </a:t>
            </a:r>
            <a:r>
              <a:rPr b="1" lang="en-US" sz="3200" spc="-1" strike="noStrike">
                <a:solidFill>
                  <a:srgbClr val="ccff66"/>
                </a:solidFill>
                <a:latin typeface="Tahoma"/>
              </a:rPr>
              <a:t>= KAPAN PERUBAHAN I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Tahoma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WordArt 4"/>
          <p:cNvSpPr txBox="1"/>
          <p:nvPr/>
        </p:nvSpPr>
        <p:spPr>
          <a:xfrm>
            <a:off x="609480" y="228600"/>
            <a:ext cx="7829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KEPENTINGAN  PEMERIKSAAN  LM :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04920" y="14475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Tahoma"/>
              </a:rPr>
              <a:t>1. LOKALISASI  ------ BERUBAH / TIDA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ccff66"/>
                </a:solidFill>
                <a:latin typeface="Tahoma"/>
              </a:rPr>
              <a:t>TERLENTANG --- BAG.BELAKANG TB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2. WARNA 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ORMAL                  : MERAH UNG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SFIKSIA                 : MERAH GELA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,CN,DINGIN        : MERAH TERA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OTAS,CHLORAT     : MERAH COKL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WordArt 4"/>
          <p:cNvSpPr txBox="1"/>
          <p:nvPr/>
        </p:nvSpPr>
        <p:spPr>
          <a:xfrm>
            <a:off x="304920" y="304920"/>
            <a:ext cx="556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EMERIKSAAN   L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9112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Tahoma"/>
              </a:rPr>
              <a:t>3</a:t>
            </a:r>
            <a:r>
              <a:rPr b="1" lang="en-US" sz="3600" spc="-1" strike="noStrike">
                <a:solidFill>
                  <a:srgbClr val="ccff66"/>
                </a:solidFill>
                <a:latin typeface="Tahoma"/>
              </a:rPr>
              <a:t>. DISTRIBUSI :</a:t>
            </a:r>
            <a:r>
              <a:rPr b="0" lang="en-US" sz="29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88390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LUAS / TIDAK 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          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- LUAS             : ASFIKS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          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- TIDAK LUAS : PERDARAH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4. PENEKANAN DI LM : SAAT KEMATI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/60          3 – 4 JAM            6 – 8 J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TRA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TRA + EXTRA        EXTR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Line 8"/>
          <p:cNvSpPr/>
          <p:nvPr/>
        </p:nvSpPr>
        <p:spPr>
          <a:xfrm>
            <a:off x="1219320" y="4495680"/>
            <a:ext cx="0" cy="38124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Line 9"/>
          <p:cNvSpPr/>
          <p:nvPr/>
        </p:nvSpPr>
        <p:spPr>
          <a:xfrm>
            <a:off x="3809880" y="4495680"/>
            <a:ext cx="0" cy="45720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Line 10"/>
          <p:cNvSpPr/>
          <p:nvPr/>
        </p:nvSpPr>
        <p:spPr>
          <a:xfrm>
            <a:off x="7543800" y="4495680"/>
            <a:ext cx="0" cy="38124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Line 11"/>
          <p:cNvSpPr/>
          <p:nvPr/>
        </p:nvSpPr>
        <p:spPr>
          <a:xfrm>
            <a:off x="609480" y="4419720"/>
            <a:ext cx="8001000" cy="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ahoma"/>
              </a:rPr>
              <a:t>PENGERTIAN :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ANATOS     :  M A T 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GOS          :  I L M 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Tanda /perubahan setelah mati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- Faktor-2 yg mempengaruhi  perubahan tsb.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- Manfaat dlm penyidikan suatu kasus pidana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380880" y="2895480"/>
            <a:ext cx="2698920" cy="4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ebf25a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Mempelajari :</a:t>
            </a:r>
            <a:endParaRPr b="0" lang="en-US" sz="1800" spc="1" strike="noStrike">
              <a:ln w="0">
                <a:noFill/>
              </a:ln>
              <a:solidFill>
                <a:srgbClr val="ebf25a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3" name="Picture 5" descr="Cat Playing with Ball"/>
          <p:cNvPicPr/>
          <p:nvPr/>
        </p:nvPicPr>
        <p:blipFill>
          <a:blip r:embed="rId2"/>
          <a:stretch/>
        </p:blipFill>
        <p:spPr>
          <a:xfrm>
            <a:off x="6400800" y="0"/>
            <a:ext cx="1523880" cy="723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2824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ahoma"/>
              </a:rPr>
              <a:t>INTRAVASAL</a:t>
            </a:r>
            <a:r>
              <a:rPr b="0" lang="en-US" sz="36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DITEKAN  HILANG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ahoma"/>
              </a:rPr>
              <a:t>EXTRAVASAL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DITEKAN  TIDAK HILANG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BILA ADA PERUBAHAN POSISI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f25a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ebf25a"/>
                </a:solidFill>
                <a:latin typeface="Tahoma"/>
              </a:rPr>
              <a:t>I  :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LM  LAMA HILANG ,TIMBUL LM BARU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f25a"/>
                </a:solidFill>
                <a:latin typeface="Tahoma"/>
              </a:rPr>
              <a:t>II  :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LM ADA,TIMBUL LM BARU  ( 2 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f25a"/>
                </a:solidFill>
                <a:latin typeface="Tahoma"/>
              </a:rPr>
              <a:t>III :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LM ADA, TIDAK TIMBUL LM BARU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WordArt 4"/>
          <p:cNvSpPr txBox="1"/>
          <p:nvPr/>
        </p:nvSpPr>
        <p:spPr>
          <a:xfrm>
            <a:off x="457200" y="228600"/>
            <a:ext cx="4419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ENJELASAN :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28240" y="18288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IGOR  MOR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TMORTEM RIGID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TMORTEM STIFF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entury Gothic"/>
              </a:rPr>
              <a:t>ADALAH KEKAKUAN PD OTOT-2 SKELET ATAUPUN OTOT-2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entury Gothic"/>
              </a:rPr>
              <a:t>POLOS</a:t>
            </a:r>
            <a:r>
              <a:rPr b="1" lang="en-US" sz="2300" spc="-1" strike="noStrike">
                <a:solidFill>
                  <a:srgbClr val="ffffff"/>
                </a:solidFill>
                <a:latin typeface="Century Gothic"/>
              </a:rPr>
              <a:t> YANG TERJADI  SEKITAR 2 JAM STL KEMATIAN DAN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entury Gothic"/>
              </a:rPr>
              <a:t>TERJADINYA TIDAK SERENTAK MELAINKAN BERURUTAN DIMULAI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entury Gothic"/>
              </a:rPr>
              <a:t>DR OTOT ORBICULARIS OCULI – OTOT-2 WAJAH – LEHER–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entury Gothic"/>
              </a:rPr>
              <a:t>ANGGOTA GERAK ATAS ---DADA – PE RUT – ANGGOTA GERAK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entury Gothic"/>
              </a:rPr>
              <a:t>BAWAH. HILANGNYA JUGA BERURUTAN SPT DIATAS TETAPI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entury Gothic"/>
              </a:rPr>
              <a:t>YANG PALING AKHIR ADALAH OTOT  RAHANG / WAJAH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WordArt 6"/>
          <p:cNvSpPr txBox="1"/>
          <p:nvPr/>
        </p:nvSpPr>
        <p:spPr>
          <a:xfrm>
            <a:off x="685800" y="914400"/>
            <a:ext cx="3733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KAKU MAYAT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28240" y="45684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KAKUAN IN MENCAPAI SELURUH TUBUH SEKIT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 – 8 JAM,KEMUDIAN DIPERTAHANKAN SELAMA 10 –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2 JAM,KEMUDIAN BERANGSUR MENGHILANG BER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AN TIMBULNYA PEMBUSUK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ebf25a"/>
                </a:solidFill>
                <a:latin typeface="Tahoma"/>
              </a:rPr>
              <a:t>6 – 8 JAM                                      16 – 18 J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__________________________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_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_______________________________________________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I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__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ebf25a"/>
                </a:solidFill>
                <a:latin typeface="Tahoma"/>
              </a:rPr>
              <a:t>2 JAM</a:t>
            </a:r>
            <a:r>
              <a:rPr b="0" lang="en-US" sz="2800" spc="-1" strike="noStrike">
                <a:solidFill>
                  <a:srgbClr val="ebf25a"/>
                </a:solidFill>
                <a:latin typeface="Tahoma"/>
              </a:rPr>
              <a:t>                                                 </a:t>
            </a:r>
            <a:r>
              <a:rPr b="1" lang="en-US" sz="2400" spc="-1" strike="noStrike">
                <a:solidFill>
                  <a:srgbClr val="ebf25a"/>
                </a:solidFill>
                <a:latin typeface="Tahoma"/>
              </a:rPr>
              <a:t>24 J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Line 4"/>
          <p:cNvSpPr/>
          <p:nvPr/>
        </p:nvSpPr>
        <p:spPr>
          <a:xfrm flipH="1">
            <a:off x="1219320" y="3505320"/>
            <a:ext cx="838080" cy="838080"/>
          </a:xfrm>
          <a:prstGeom prst="line">
            <a:avLst/>
          </a:prstGeom>
          <a:ln w="57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2057400" y="3505320"/>
            <a:ext cx="0" cy="914400"/>
          </a:xfrm>
          <a:prstGeom prst="line">
            <a:avLst/>
          </a:prstGeom>
          <a:ln w="381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7162920" y="3505320"/>
            <a:ext cx="0" cy="914400"/>
          </a:xfrm>
          <a:prstGeom prst="line">
            <a:avLst/>
          </a:prstGeom>
          <a:ln w="381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7162920" y="3505320"/>
            <a:ext cx="838080" cy="761760"/>
          </a:xfrm>
          <a:prstGeom prst="line">
            <a:avLst/>
          </a:prstGeom>
          <a:ln w="57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560" y="114264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NZALES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PD  SAAT MENINGGAL  --- SARCOPLASMA SIFATNYA MASIH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BASA ----- OTOT MASIH FLEXIBLE  DAN ELASTIS, STL IT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ERJADI METABOLISME ANAEROB --- ASAM --- COAGULAS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SARCOPLASMA --- KAKU DAN MEMENDEK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FLEXIBELITA &amp;  ELASTISITAS  OT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DERAJAT  HYDRASI PROTEIN OT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JUMLAH  ATP YG DISERAP  MYOS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                 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MENINGGAL –SECARA BERTAHAP  ATP HAB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                       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DEHYDRA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                              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KEKAKUAN  ACTOMYOSIN --  K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WordArt 4"/>
          <p:cNvSpPr txBox="1"/>
          <p:nvPr/>
        </p:nvSpPr>
        <p:spPr>
          <a:xfrm>
            <a:off x="228600" y="228600"/>
            <a:ext cx="6991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EORI  PEMBENTUKAN  K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228240" y="15238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Tahoma"/>
              </a:rPr>
              <a:t>RIGOR MORT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Tahoma"/>
              </a:rPr>
              <a:t>POSTMORTEM RIGID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Tahoma"/>
              </a:rPr>
              <a:t>POSTMORTEM STIFF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ADALAH KEKAKUAN OTOT JENAZAH BAIK OTOT SKELE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MAUPUN OTOT POLOS 2 JAM SETELAH DAN TERJADINY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TIDAK SERENTAK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DIMULAI M.ORBICULARIS OCULI – WAJAH – LEHER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ANGGOTA GERAK ATAS – DADA – PERUT – ANGG.GERAK BWH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PROSES INI MEMBUTUHKAN SEKITAS 6 – 8 JA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WordArt 4"/>
          <p:cNvSpPr txBox="1"/>
          <p:nvPr/>
        </p:nvSpPr>
        <p:spPr>
          <a:xfrm>
            <a:off x="2819520" y="304920"/>
            <a:ext cx="37051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KAKU MAYAT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25a"/>
                </a:solidFill>
                <a:latin typeface="Tahoma"/>
              </a:rPr>
              <a:t>KEKUATAN INI AKAN DIPERTAHANKAN SELAMA 1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25a"/>
                </a:solidFill>
                <a:latin typeface="Tahoma"/>
              </a:rPr>
              <a:t>12 JA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MUDIAN OTOT-2 AKAN MELEMAS SESUAI DENGAN URUTAN TADI TETAPI YG TERAKHIR LEMAS ADALAH OTOT RAHANG DENGAN LEMASNYA OTOT TERSEBUT TIMBUL PROSES PEMBUSUKA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1295280" y="5943600"/>
            <a:ext cx="63248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Line 6"/>
          <p:cNvSpPr/>
          <p:nvPr/>
        </p:nvSpPr>
        <p:spPr>
          <a:xfrm>
            <a:off x="2362320" y="5257800"/>
            <a:ext cx="0" cy="6094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6705720" y="5257800"/>
            <a:ext cx="0" cy="6094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5105520" y="5257800"/>
            <a:ext cx="0" cy="6094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Line 9"/>
          <p:cNvSpPr/>
          <p:nvPr/>
        </p:nvSpPr>
        <p:spPr>
          <a:xfrm>
            <a:off x="3657600" y="5257800"/>
            <a:ext cx="0" cy="6094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1066680" y="54864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7467480" y="54864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I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2057400" y="48769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 Ja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3352680" y="48769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6 - 8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4724280" y="48769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6 - 18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6324480" y="48769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4 Ja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25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Tahoma"/>
              </a:rPr>
              <a:t>TEORI PEMBENTUKAN KAKU MAYA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610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ff66"/>
                </a:solidFill>
                <a:latin typeface="Tahoma"/>
              </a:rPr>
              <a:t>1. GONZAL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cc"/>
                </a:solidFill>
                <a:latin typeface="Tahoma"/>
              </a:rPr>
              <a:t>Beberapa saat setelah kematian reaksi sarcoplasma masih basa---otot flexible &amp; elastis. Kemudian terjadi metab. Anaerob---asam---coagulasi sarcoplasma—kaku dan pendek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ff66"/>
                </a:solidFill>
                <a:latin typeface="Tahoma"/>
              </a:rPr>
              <a:t>2. SZENT GYORG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cc"/>
                </a:solidFill>
                <a:latin typeface="Tahoma"/>
              </a:rPr>
              <a:t>Flexibilitas &amp; elastisitas otot tg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cc"/>
                </a:solidFill>
                <a:latin typeface="Tahoma"/>
              </a:rPr>
              <a:t>Derajat hydrasi protein otot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cc"/>
                </a:solidFill>
                <a:latin typeface="Tahoma"/>
              </a:rPr>
              <a:t>Jumlah ATP yg diserap myosin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cc"/>
                </a:solidFill>
                <a:latin typeface="Tahoma"/>
              </a:rPr>
              <a:t>Secara bertahap ATP habi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cc"/>
                </a:solidFill>
                <a:latin typeface="Tahoma"/>
              </a:rPr>
              <a:t>Dehydrasi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cc"/>
                </a:solidFill>
                <a:latin typeface="Tahoma"/>
              </a:rPr>
              <a:t>Kekuatan actomyosin - KM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KEADAAN YG MIRIP KAKU MAYA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1. CADAVERIC SPAS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99ff99"/>
                </a:solidFill>
                <a:latin typeface="Tahoma"/>
              </a:rPr>
              <a:t>- Kekuatan otot yg sudah terjadi sesaat sebelum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99ff99"/>
                </a:solidFill>
                <a:latin typeface="Tahoma"/>
              </a:rPr>
              <a:t>meninggal dunia, dan dipertahankan terus sampai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99ff99"/>
                </a:solidFill>
                <a:latin typeface="Tahoma"/>
              </a:rPr>
              <a:t>proses pembusuk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Terjadi pada sekelompok otot tertentu tetapi dapat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da seluruh tubu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Faktor penyebab : EMOSI YG HEBA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* Rasa sak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* Rasa taku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* Ketegangan / pani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- Posisi cadaveric spasme tidak dapat ditiruk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- Merupakan tanda intravit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53452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2. HEAT STIFFEN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Kekuatan akibat suhu tingg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* Kebakar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* Cairan pan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Coagulasi protein oto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Dapat terjadi pd orang hidup atau pd jenaza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Jenazah dlm posisi boxer hold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3. COLD STIFFEN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Kekuatan akibat suhu dingin (&lt;3,5</a:t>
            </a:r>
            <a:r>
              <a:rPr b="0" lang="en-US" sz="2700" spc="-1" strike="noStrike" baseline="30000">
                <a:solidFill>
                  <a:srgbClr val="ffffcc"/>
                </a:solidFill>
                <a:latin typeface="Tahoma"/>
              </a:rPr>
              <a:t>O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C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etelah keluar dari suhu dingin ---proses K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4. MUMMIFIKAS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77320" cy="650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00"/>
                </a:solidFill>
                <a:latin typeface="Tahoma"/>
              </a:rPr>
              <a:t>FAKTOR-2 YG MEMPERCEPAT TERJADINYA KAKU MAYAT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1. Suh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nas ---- cepat timbul cepat hila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baliknya pd kondisi dingi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2. Jumlah persediaan glycogen oto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jang-2, cachexia, kegiatan otot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rlebihan KM cepat timbul, cepat hila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3. Ukuran/ besar kecilnya oto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4. Sebab kemati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racunan strichnin, alkaloid – cepat asfiksia,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rac.logam berat---lamb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81240" y="-36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Tidak mempelajari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 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ATI 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99ff99"/>
                </a:solidFill>
                <a:latin typeface="Tahoma"/>
              </a:rPr>
              <a:t>Walaupun definisi/pengertian akhir-2 penting sebab</a:t>
            </a:r>
            <a:r>
              <a:rPr b="0" lang="en-US" sz="2800" spc="-1" strike="noStrike">
                <a:solidFill>
                  <a:srgbClr val="99ff99"/>
                </a:solidFill>
                <a:latin typeface="Tahoma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. Kemajuan dlm tehnologi kedokteran –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P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Kapan  alat  ini dihentikan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Euthanasi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Sengaja dihentikan ---- pembunuhan  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25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ERUBAHAN PADA MATA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gunaan : Memperkirakan saat kemati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1. FUNDUSCOPY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mor vitreous keruh---10-12 ja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gmentasi pemb.darah retina---10-15 j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2. TEKANAN BOLA MAT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              :  14 – 25 G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gt;30 Menit  : 3 G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gt;2 ja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: 0 G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3. TACHENOIR D’LA SCLEROTIQU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rna kecoklatan sudut luar bola mata, bentuk segitig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lai tampak : 3 j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mpurna      : 12 j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pertahankan selama 2 har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775640" cy="67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66"/>
                </a:solidFill>
                <a:uFillTx/>
                <a:latin typeface="Tahoma"/>
              </a:rPr>
              <a:t>PERUBAHAN CAIRAN TUBUH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ahoma"/>
              </a:rPr>
              <a:t>Kegunaan : Perkiraan saat kemati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1. Dara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&lt;12 jam --- AS.Amino Nitogen 14 Mg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ine : 5 Mg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 - 28 jam --- Creatine 11 Mg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gt; 24 jam --- PH menjadi alkal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2. Liquor C.S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&lt; 15 jam AS.Laktat  15 – 200 Mg%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PN  15 – 40 Mg%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.Amino 1- 12 Mg%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SCHLEYER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&lt; 10 jam  AS.AMINO NTR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&lt;14Mg%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reatine &lt;5 Mg%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&lt; 24 jam NPN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&lt; 80 Mg%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3. HUMOR VITREOU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T ( jam ) = ( 7,14 X K</a:t>
            </a:r>
            <a:r>
              <a:rPr b="1" lang="en-US" sz="3200" spc="-1" strike="noStrike" baseline="30000">
                <a:solidFill>
                  <a:srgbClr val="ccecff"/>
                </a:solidFill>
                <a:latin typeface="Tahoma"/>
              </a:rPr>
              <a:t>+ 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) – 39,1 JA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K+ ---waktu kematian ada hubungan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linier Artmatic SP 100 jam kemati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99"/>
                </a:solidFill>
                <a:latin typeface="Tahoma"/>
              </a:rPr>
              <a:t>DEKOMPOSISI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6108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1. Putrefaction / Rott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Pembusukan KR pengaruh kuman pembusuk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Timbul gas berbau dan membusu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2. Autolysi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Pembusukan akibat pengaruh enzym proteolyse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penghancuran protein jaringan---steri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Autodiges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mbusukan akibat pengaruh enzym pencernaa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asanya oesophagus bawah, lambu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775640" cy="67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P U T R E F A C T I O 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nda-2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s yg berbau ---- jenazah membengka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lunakan jaring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nghancuran jaring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Warnakehijauan diperut kanan bawah---daerah caecu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lloning waja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Keluar cairan kemerahan dari hidung, mulu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llae dikul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Kuku dan rambut mudah dilepas ---- 1 M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ngga perut dapat pecah---- 1 – 2 mingg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Didapatkan larva lala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868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ahoma"/>
              </a:rPr>
              <a:t>8.</a:t>
            </a: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 Pembusukan organ-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g cepat membusuk, secara berturut-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a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kosa larynx, trache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mbung, usu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en, hepar, uterus postpartu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Proses pembusukannya lambat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esophagus, diafragma, jantung, paru-2, ginjal, VU, uterus non gravi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ahoma"/>
              </a:rPr>
              <a:t>Yang tahan pembusukan  rambut, kuku, gigi, tula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25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FAKTOR YANG MEMPENGARUHI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Faktor dari dalam tubu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1. Adanya bakteri pembusukan dan udar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GI.Tract cepat busu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Mengalami luka-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Terbungkus/ telanja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Tanah padat/ berpasi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Suhu udara dan kelembab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lt;5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0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 ---  7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0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– 10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0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--   &gt;10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0 – 6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7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3.3.JENIS MEDIA</a:t>
            </a:r>
            <a:br>
              <a:rPr sz="2400"/>
            </a:b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Udara ---2x lambat dalam air --- 8x lambat dalam tanah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 CASPER’S DICTUM 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96775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Faktor dari dalam tubu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Umu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Ortu – Jar.lemak sedikit---cepat dingin---lamba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Jenis kelami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Wanita---cepa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Keadaan umum saat meningg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f25a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ebf25a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Edematus – cepat &gt;&lt; Cachex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Sebab kemati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Banyak luka-2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Asam/ basa kua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Sepsis &gt;&lt; Logam bera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MODIFIKASI PROSES PEMBUSUKA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240" y="7617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Jenazah tidak rusak tetapi awet sehingg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menguntung proses penyidik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MUMMIFIKAS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 Kondisi jenazah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- Kuru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- Kulit coklat kehitaman, kaku dan rapu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- Berat badan menuru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- Susunan anatomi utuh, tidak berba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- Tanah bertahun-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osesnya membutuhkan waktu 14 Mg – 12 Bln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Keadaan /lingkunganyg memungkinkan suhu udara sangat pana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Udara yg kering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liran udara terus meneru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Kondisi tubuh jenazah kurang lemak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idak mengalami banyak luka-2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6091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ff99"/>
                </a:solidFill>
                <a:latin typeface="Tahoma"/>
              </a:rPr>
              <a:t>2.Transplantasi  organ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Tahoma"/>
              </a:rPr>
              <a:t>      </a:t>
            </a:r>
            <a:r>
              <a:rPr b="0" lang="en-US" sz="3800" spc="-1" strike="noStrike">
                <a:solidFill>
                  <a:srgbClr val="99ff99"/>
                </a:solidFill>
                <a:latin typeface="Tahoma"/>
              </a:rPr>
              <a:t>Dibutuhkan waktu yg cepat dlm   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ff99"/>
                </a:solidFill>
                <a:latin typeface="Tahoma"/>
              </a:rPr>
              <a:t>    </a:t>
            </a:r>
            <a:r>
              <a:rPr b="0" lang="en-US" sz="3800" spc="-1" strike="noStrike">
                <a:solidFill>
                  <a:srgbClr val="99ff99"/>
                </a:solidFill>
                <a:latin typeface="Tahoma"/>
              </a:rPr>
              <a:t>pengambilan organ,segera stl     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ff99"/>
                </a:solidFill>
                <a:latin typeface="Tahoma"/>
              </a:rPr>
              <a:t>    </a:t>
            </a:r>
            <a:r>
              <a:rPr b="0" lang="en-US" sz="3800" spc="-1" strike="noStrike">
                <a:solidFill>
                  <a:srgbClr val="99ff99"/>
                </a:solidFill>
                <a:latin typeface="Tahoma"/>
              </a:rPr>
              <a:t>pendonor  mati.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f25a"/>
                </a:solidFill>
                <a:latin typeface="Tahoma"/>
              </a:rPr>
              <a:t>3.Penyalahgunaan obat-2an narkotik /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f25a"/>
                </a:solidFill>
                <a:latin typeface="Tahoma"/>
              </a:rPr>
              <a:t>   </a:t>
            </a:r>
            <a:r>
              <a:rPr b="0" lang="en-US" sz="3800" spc="-1" strike="noStrike">
                <a:solidFill>
                  <a:srgbClr val="ebf25a"/>
                </a:solidFill>
                <a:latin typeface="Tahoma"/>
              </a:rPr>
              <a:t>sedative.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f25a"/>
                </a:solidFill>
                <a:latin typeface="Tahoma"/>
              </a:rPr>
              <a:t>   </a:t>
            </a:r>
            <a:r>
              <a:rPr b="0" lang="en-US" sz="3800" spc="-1" strike="noStrike">
                <a:solidFill>
                  <a:srgbClr val="ebf25a"/>
                </a:solidFill>
                <a:latin typeface="Tahoma"/>
              </a:rPr>
              <a:t>Coma –lalai memberi pertolongan---    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f25a"/>
                </a:solidFill>
                <a:latin typeface="Tahoma"/>
              </a:rPr>
              <a:t>   </a:t>
            </a:r>
            <a:r>
              <a:rPr b="0" lang="en-US" sz="3800" spc="-1" strike="noStrike">
                <a:solidFill>
                  <a:srgbClr val="ebf25a"/>
                </a:solidFill>
                <a:latin typeface="Tahoma"/>
              </a:rPr>
              <a:t>mati sungguhan --- sangsi hukum.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25a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ADIPOCERE / SAPONIFIKASI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Terjadi proses menjadi sabun pd lema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tubuh jenazah hidrogenisasi dan hidrolisis Lemak tida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jenuh---lemak jenuh garam alkal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Kondisi jenazah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raba seperti sabun /lilin, tidak berba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panasi melele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rut dalam alkohol, aeth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dak larut di a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Lingkungan : Basah dan reaksi bas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ktu : Bayi--- 6 - 7 M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wasa--- 1 - 1,5 T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yi &lt;7 Bln kandungan tdk dapat mengalami adipoce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ff00"/>
                </a:solidFill>
                <a:uFillTx/>
                <a:latin typeface="Tahoma"/>
              </a:rPr>
              <a:t>LARVA LALAT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Kegunaan : Perkiraan saat kemati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cam-2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1. Blue bottle ( Calliphora Erythrocepalla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2. Green bottle ( Lucilia Caesar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3. Musca Domestik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Cara pemeriksaan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Dibiakkan media---Diamati siklusny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Fiksasi dg alkohol 96% ---microskop --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ntukan jenis dan umurny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ff00"/>
                </a:solidFill>
                <a:uFillTx/>
                <a:latin typeface="Tahoma"/>
              </a:rPr>
              <a:t>SIKLUS HIDUP LARVA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Tahoma"/>
              </a:rPr>
              <a:t>Blue Bottle dan Green Bott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</a:rPr>
              <a:t>Telur didaging segar atau membusu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</a:rPr>
              <a:t>Telur – 8 – 14 jam --- larva I --- 8 – 14 jam --- larva II – 2 – 3 HARI --- LARVA III – 7 – 8 hari ---kepompong --- 12 hari --- lala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ca Domestik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lur disampah atau jenaza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lur – 8 – 12 jam --- larva I --- 36 jam ---larva II --- 2 – 3 HARI --- Larva III --- 3 – 4 hari --- kepompong --- 7 hari --- lala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ccff66"/>
                </a:solidFill>
                <a:uFillTx/>
                <a:latin typeface="Tahoma"/>
              </a:rPr>
              <a:t>PERBEDAAN LARV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Musca.D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Blue botl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nja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¼ inch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½ - ¼ in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igmata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    ( - 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( + )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rac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  lekukan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lur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nj.pup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¼ inch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¾ in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Line 4"/>
          <p:cNvSpPr/>
          <p:nvPr/>
        </p:nvSpPr>
        <p:spPr>
          <a:xfrm>
            <a:off x="2743200" y="2057400"/>
            <a:ext cx="5867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Line 6"/>
          <p:cNvSpPr/>
          <p:nvPr/>
        </p:nvSpPr>
        <p:spPr>
          <a:xfrm>
            <a:off x="2743200" y="2057400"/>
            <a:ext cx="0" cy="236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ff00"/>
                </a:solidFill>
                <a:latin typeface="Tahoma"/>
              </a:rPr>
              <a:t>Kesimpula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Membuktikan seseorang meningg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Adanya konsep kematian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- Brainstem Dea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- Somatic Dea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Ada/ tidaknya perubahan posisi jenaza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Perkiraan saat kematian – saat kejadi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 Perkiraan sebab kemati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. Kondisi pengawetan jenazah secara alam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Line 4"/>
          <p:cNvSpPr/>
          <p:nvPr/>
        </p:nvSpPr>
        <p:spPr>
          <a:xfrm>
            <a:off x="1219320" y="762120"/>
            <a:ext cx="0" cy="5105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Line 5"/>
          <p:cNvSpPr/>
          <p:nvPr/>
        </p:nvSpPr>
        <p:spPr>
          <a:xfrm>
            <a:off x="1219320" y="5867280"/>
            <a:ext cx="655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Freeform 8"/>
          <p:cNvSpPr/>
          <p:nvPr/>
        </p:nvSpPr>
        <p:spPr>
          <a:xfrm>
            <a:off x="1752480" y="2603520"/>
            <a:ext cx="2362320" cy="3263760"/>
          </a:xfrm>
          <a:prstGeom prst="pi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Freeform 10"/>
          <p:cNvSpPr/>
          <p:nvPr/>
        </p:nvSpPr>
        <p:spPr>
          <a:xfrm>
            <a:off x="1066680" y="825480"/>
            <a:ext cx="6400800" cy="4711680"/>
          </a:xfrm>
          <a:prstGeom prst="pi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Line 11"/>
          <p:cNvSpPr/>
          <p:nvPr/>
        </p:nvSpPr>
        <p:spPr>
          <a:xfrm flipV="1">
            <a:off x="762120" y="6019920"/>
            <a:ext cx="30456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Line 12"/>
          <p:cNvSpPr/>
          <p:nvPr/>
        </p:nvSpPr>
        <p:spPr>
          <a:xfrm flipV="1">
            <a:off x="685800" y="1142640"/>
            <a:ext cx="30492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Line 14"/>
          <p:cNvSpPr/>
          <p:nvPr/>
        </p:nvSpPr>
        <p:spPr>
          <a:xfrm>
            <a:off x="2133720" y="57150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Line 19"/>
          <p:cNvSpPr/>
          <p:nvPr/>
        </p:nvSpPr>
        <p:spPr>
          <a:xfrm>
            <a:off x="2895480" y="57150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Line 22"/>
          <p:cNvSpPr/>
          <p:nvPr/>
        </p:nvSpPr>
        <p:spPr>
          <a:xfrm>
            <a:off x="4952880" y="57150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Line 23"/>
          <p:cNvSpPr/>
          <p:nvPr/>
        </p:nvSpPr>
        <p:spPr>
          <a:xfrm>
            <a:off x="3505320" y="57150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Line 24"/>
          <p:cNvSpPr/>
          <p:nvPr/>
        </p:nvSpPr>
        <p:spPr>
          <a:xfrm>
            <a:off x="4114800" y="57150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Line 25"/>
          <p:cNvSpPr/>
          <p:nvPr/>
        </p:nvSpPr>
        <p:spPr>
          <a:xfrm>
            <a:off x="5562720" y="57150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Line 26"/>
          <p:cNvSpPr/>
          <p:nvPr/>
        </p:nvSpPr>
        <p:spPr>
          <a:xfrm>
            <a:off x="6248520" y="57150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Line 28"/>
          <p:cNvSpPr/>
          <p:nvPr/>
        </p:nvSpPr>
        <p:spPr>
          <a:xfrm>
            <a:off x="7010280" y="57150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Line 29"/>
          <p:cNvSpPr/>
          <p:nvPr/>
        </p:nvSpPr>
        <p:spPr>
          <a:xfrm>
            <a:off x="7620120" y="57150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Freeform 30"/>
          <p:cNvSpPr/>
          <p:nvPr/>
        </p:nvSpPr>
        <p:spPr>
          <a:xfrm>
            <a:off x="1752480" y="609480"/>
            <a:ext cx="457200" cy="381240"/>
          </a:xfrm>
          <a:prstGeom prst="pi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Text Box 31"/>
          <p:cNvSpPr/>
          <p:nvPr/>
        </p:nvSpPr>
        <p:spPr>
          <a:xfrm>
            <a:off x="76320" y="144792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6.9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0 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98.4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F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Text Box 32"/>
          <p:cNvSpPr/>
          <p:nvPr/>
        </p:nvSpPr>
        <p:spPr>
          <a:xfrm>
            <a:off x="2286000" y="380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Plateau of variable temperatu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Text Box 33"/>
          <p:cNvSpPr/>
          <p:nvPr/>
        </p:nvSpPr>
        <p:spPr>
          <a:xfrm>
            <a:off x="2362320" y="22860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bf25a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ebf25a"/>
                </a:solidFill>
                <a:latin typeface="Tahoma"/>
              </a:rPr>
              <a:t>Rig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Text Box 34"/>
          <p:cNvSpPr/>
          <p:nvPr/>
        </p:nvSpPr>
        <p:spPr>
          <a:xfrm>
            <a:off x="1981080" y="14479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Temperature </a:t>
            </a:r>
            <a:r>
              <a:rPr b="0" lang="en-US" sz="1800" spc="-1" strike="noStrike" baseline="30000">
                <a:solidFill>
                  <a:srgbClr val="ffffcc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35"/>
          <p:cNvSpPr/>
          <p:nvPr/>
        </p:nvSpPr>
        <p:spPr>
          <a:xfrm>
            <a:off x="4800600" y="1752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ecomposi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36"/>
          <p:cNvSpPr/>
          <p:nvPr/>
        </p:nvSpPr>
        <p:spPr>
          <a:xfrm>
            <a:off x="2209680" y="53341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eel Col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37"/>
          <p:cNvSpPr/>
          <p:nvPr/>
        </p:nvSpPr>
        <p:spPr>
          <a:xfrm>
            <a:off x="152280" y="63244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Temperature of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38"/>
          <p:cNvSpPr/>
          <p:nvPr/>
        </p:nvSpPr>
        <p:spPr>
          <a:xfrm>
            <a:off x="3505320" y="63244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Tahoma"/>
              </a:rPr>
              <a:t>Hours after deat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Text Box 39"/>
          <p:cNvSpPr/>
          <p:nvPr/>
        </p:nvSpPr>
        <p:spPr>
          <a:xfrm>
            <a:off x="1219320" y="58672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Text Box 40"/>
          <p:cNvSpPr/>
          <p:nvPr/>
        </p:nvSpPr>
        <p:spPr>
          <a:xfrm>
            <a:off x="1981080" y="5867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Text Box 41"/>
          <p:cNvSpPr/>
          <p:nvPr/>
        </p:nvSpPr>
        <p:spPr>
          <a:xfrm>
            <a:off x="2666880" y="5867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Text Box 42"/>
          <p:cNvSpPr/>
          <p:nvPr/>
        </p:nvSpPr>
        <p:spPr>
          <a:xfrm>
            <a:off x="3276720" y="5867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Text Box 43"/>
          <p:cNvSpPr/>
          <p:nvPr/>
        </p:nvSpPr>
        <p:spPr>
          <a:xfrm>
            <a:off x="3886200" y="5867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Text Box 44"/>
          <p:cNvSpPr/>
          <p:nvPr/>
        </p:nvSpPr>
        <p:spPr>
          <a:xfrm>
            <a:off x="4724280" y="5867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Text Box 45"/>
          <p:cNvSpPr/>
          <p:nvPr/>
        </p:nvSpPr>
        <p:spPr>
          <a:xfrm>
            <a:off x="5334120" y="5867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Text Box 46"/>
          <p:cNvSpPr/>
          <p:nvPr/>
        </p:nvSpPr>
        <p:spPr>
          <a:xfrm>
            <a:off x="6019920" y="5867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Text Box 47"/>
          <p:cNvSpPr/>
          <p:nvPr/>
        </p:nvSpPr>
        <p:spPr>
          <a:xfrm>
            <a:off x="6705720" y="58672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Text Box 49"/>
          <p:cNvSpPr/>
          <p:nvPr/>
        </p:nvSpPr>
        <p:spPr>
          <a:xfrm>
            <a:off x="7467480" y="5867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Freeform 58"/>
          <p:cNvSpPr/>
          <p:nvPr/>
        </p:nvSpPr>
        <p:spPr>
          <a:xfrm>
            <a:off x="4191120" y="2209680"/>
            <a:ext cx="1447560" cy="3657600"/>
          </a:xfrm>
          <a:prstGeom prst="pi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Freeform 59"/>
          <p:cNvSpPr/>
          <p:nvPr/>
        </p:nvSpPr>
        <p:spPr>
          <a:xfrm>
            <a:off x="1600200" y="3416400"/>
            <a:ext cx="5715000" cy="2450880"/>
          </a:xfrm>
          <a:prstGeom prst="pi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Text Box 60"/>
          <p:cNvSpPr/>
          <p:nvPr/>
        </p:nvSpPr>
        <p:spPr>
          <a:xfrm>
            <a:off x="6019920" y="31240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iv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Text Box 39"/>
          <p:cNvSpPr/>
          <p:nvPr/>
        </p:nvSpPr>
        <p:spPr>
          <a:xfrm>
            <a:off x="1447920" y="58672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Straight Connector 51"/>
          <p:cNvSpPr/>
          <p:nvPr/>
        </p:nvSpPr>
        <p:spPr>
          <a:xfrm>
            <a:off x="2286000" y="3429000"/>
            <a:ext cx="1143000" cy="144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Straight Connector 54"/>
          <p:cNvSpPr/>
          <p:nvPr/>
        </p:nvSpPr>
        <p:spPr>
          <a:xfrm>
            <a:off x="2286000" y="3200400"/>
            <a:ext cx="1066680" cy="144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Straight Connector 56"/>
          <p:cNvSpPr/>
          <p:nvPr/>
        </p:nvSpPr>
        <p:spPr>
          <a:xfrm>
            <a:off x="2362320" y="2895480"/>
            <a:ext cx="914400" cy="1800"/>
          </a:xfrm>
          <a:prstGeom prst="line">
            <a:avLst/>
          </a:prstGeom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Straight Connector 58"/>
          <p:cNvSpPr/>
          <p:nvPr/>
        </p:nvSpPr>
        <p:spPr>
          <a:xfrm>
            <a:off x="2209680" y="3733920"/>
            <a:ext cx="129564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Straight Connector 60"/>
          <p:cNvSpPr/>
          <p:nvPr/>
        </p:nvSpPr>
        <p:spPr>
          <a:xfrm>
            <a:off x="2133720" y="4038480"/>
            <a:ext cx="1447560" cy="1800"/>
          </a:xfrm>
          <a:prstGeom prst="line">
            <a:avLst/>
          </a:prstGeom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Straight Connector 62"/>
          <p:cNvSpPr/>
          <p:nvPr/>
        </p:nvSpPr>
        <p:spPr>
          <a:xfrm>
            <a:off x="2057400" y="4343400"/>
            <a:ext cx="1600200" cy="144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Straight Connector 64"/>
          <p:cNvSpPr/>
          <p:nvPr/>
        </p:nvSpPr>
        <p:spPr>
          <a:xfrm>
            <a:off x="1981080" y="4724280"/>
            <a:ext cx="1752840" cy="1800"/>
          </a:xfrm>
          <a:prstGeom prst="line">
            <a:avLst/>
          </a:prstGeom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Straight Connector 67"/>
          <p:cNvSpPr/>
          <p:nvPr/>
        </p:nvSpPr>
        <p:spPr>
          <a:xfrm>
            <a:off x="1905120" y="5105520"/>
            <a:ext cx="1981080" cy="144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Straight Connector 69"/>
          <p:cNvSpPr/>
          <p:nvPr/>
        </p:nvSpPr>
        <p:spPr>
          <a:xfrm>
            <a:off x="1828800" y="5410080"/>
            <a:ext cx="2133720" cy="1800"/>
          </a:xfrm>
          <a:prstGeom prst="line">
            <a:avLst/>
          </a:prstGeom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4.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KONSEP BRAINSTEM DEATH</a:t>
            </a:r>
            <a:br>
              <a:rPr sz="3200"/>
            </a:br>
            <a:r>
              <a:rPr b="0" lang="en-US" sz="3200" spc="-1" strike="noStrike">
                <a:solidFill>
                  <a:srgbClr val="99ff99"/>
                </a:solidFill>
                <a:latin typeface="Tahoma"/>
              </a:rPr>
              <a:t>  (MATI  BATANG  OTAK = MBO 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9ff99"/>
                </a:solidFill>
                <a:latin typeface="Tahoma"/>
              </a:rPr>
              <a:t>MBO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cff99"/>
                </a:solidFill>
                <a:latin typeface="Tahoma"/>
              </a:rPr>
              <a:t>SEJAK 1981 -----  1990.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f25a"/>
                </a:solidFill>
                <a:latin typeface="Tahoma"/>
              </a:rPr>
              <a:t>1. ADA PRAKONDISI :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- KOMA,HENTI NAFAS ,TDK RESPONSIF 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DAN   PERLU DIBANTU VENTILATOR.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- PENYEBABNYA KERUSAKAN OTAK.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f25a"/>
                </a:solidFill>
                <a:latin typeface="Tahoma"/>
              </a:rPr>
              <a:t>2. MENYINGKIRKAN PENYBB : GGN</a:t>
            </a: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METABOLIK HIPOTERMIA, INTOXICASI  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OBAT2-AN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f25a"/>
                </a:solidFill>
                <a:latin typeface="Tahoma"/>
              </a:rPr>
              <a:t>3.REFLEK-2 BO,HENTI NAFAS IRREVERSIBLE.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bf25a"/>
                </a:solidFill>
                <a:latin typeface="Tahoma"/>
              </a:rPr>
              <a:t>K E S I M P U L A N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f25a"/>
                </a:solidFill>
                <a:latin typeface="Tahoma"/>
              </a:rPr>
              <a:t>MBO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KO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TIDAK ADA SIKAP ABNORMAL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DEKORTIKASI,DECEREBRASI 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TDAK ADA HENTAKAN EPILEPS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TIDAK ADA NAFAS SPONT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. TIDAK ADA REFLEK-2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TDK RESPON PD CAHAY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TDK ADA REFLEK CORNE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- TDK ADA REFLEK VESTIBULO-OKUL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- TDK ADA REFLEK MUNTAH/BATU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- TDK ADA RESPON MOTORIK THD RA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ANGAN YG ADEKUAT DIAREA SOMATI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6f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cc"/>
                </a:solidFill>
                <a:latin typeface="Tahoma"/>
              </a:rPr>
              <a:t>PERUBAHAN STL  KEMATIAN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7617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 SEGERA  :   - SOMATIC DEAT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CELLULAR DEAT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LAMBAT :  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ANDA KEMATIAN </a:t>
            </a:r>
            <a:r>
              <a:rPr b="1" lang="en-US" sz="2800" spc="-1" strike="noStrike">
                <a:solidFill>
                  <a:srgbClr val="ccecff"/>
                </a:solidFill>
                <a:latin typeface="Tahoma"/>
              </a:rPr>
              <a:t>PA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- HILANGNYA SUHU TUBUH JENAZA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- LEBAM MAYA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- KAKU MAYA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- PERUBAHAN PD MA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- PERUBAHAN KIMIAWI CAIRAN TUBU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- DEKOMPOSISI / PEMBUSSUK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. AKHIR : 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HANCURNYA JARINGAN LUNA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6f6"/>
            </a:gs>
            <a:gs pos="50000">
              <a:srgbClr val="000000"/>
            </a:gs>
            <a:gs pos="100000">
              <a:srgbClr val="f6f6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80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SOMATIC DEATH :              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ahoma"/>
              </a:rPr>
              <a:t>TANDA KEMATIAN KLINI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ahoma"/>
              </a:rPr>
              <a:t>TANDA KEMATIAN </a:t>
            </a:r>
            <a:r>
              <a:rPr b="1" lang="en-US" sz="2800" spc="-1" strike="noStrike">
                <a:solidFill>
                  <a:srgbClr val="99ff99"/>
                </a:solidFill>
                <a:latin typeface="Tahoma"/>
              </a:rPr>
              <a:t>TIDAK PA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INDIVIDU DIAM,TDK ADA GERAK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OTOT-2 LEMAS (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DK ADA TONU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) ---  CONTACT FLATTEN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TDK ADA GERAK PERNAFASAN  SPONTAN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DIPERIKSA 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-INSPEKSI,PALPASI,AUSCULTA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                     </a:t>
            </a: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-TEST :CERMIN,WINSLOW,BUL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BERHENTINYA CIRCULASI DARAH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DIPERIKSA : </a:t>
            </a:r>
            <a:r>
              <a:rPr b="0" i="1" lang="en-US" sz="2400" spc="-1" strike="noStrike">
                <a:solidFill>
                  <a:srgbClr val="ebf25a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INSPEKSI,PALPASI,AUSCULTA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                     </a:t>
            </a: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- TEST : MAGNUS,FINGER NAIL TEST,IPCARD       TES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PERUBAHAN PADA MATA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- REFLEX CAHAYA DAN CORNEA TDK ADA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f25a"/>
                </a:solidFill>
                <a:latin typeface="Tahoma"/>
              </a:rPr>
              <a:t>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2000"/>
            </a:gs>
            <a:gs pos="50000">
              <a:srgbClr val="f6f6f6"/>
            </a:gs>
            <a:gs pos="100000">
              <a:srgbClr val="602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cc"/>
                </a:solidFill>
                <a:latin typeface="Tahoma"/>
              </a:rPr>
              <a:t>HILANGNYA  PANAS/SUHU TUBUH.</a:t>
            </a:r>
            <a:endParaRPr b="0" lang="en-US" sz="3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8390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ccff66"/>
                </a:solidFill>
                <a:latin typeface="Tahoma"/>
              </a:rPr>
              <a:t>AWAL KEMATIAN SUHU TUBUH MASIH DPERTAHANK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Tahoma"/>
              </a:rPr>
              <a:t>                                   </a:t>
            </a:r>
            <a:r>
              <a:rPr b="0" lang="en-US" sz="2400" spc="-1" strike="noStrike">
                <a:solidFill>
                  <a:srgbClr val="ccff66"/>
                </a:solidFill>
                <a:latin typeface="Tahoma"/>
              </a:rPr>
              <a:t>ANAERO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YCOGEN  HAB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DAK ADA PEMBENTUKAN PAN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PORAS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DIAS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ONDUKS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NAS TUBUH HILA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 I N G I 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4343400" y="2438280"/>
            <a:ext cx="0" cy="457200"/>
          </a:xfrm>
          <a:prstGeom prst="line">
            <a:avLst/>
          </a:prstGeom>
          <a:ln w="7632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1905120" y="41148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15:51:04Z</dcterms:created>
  <dc:creator>TJ 2000</dc:creator>
  <dc:description/>
  <dc:language>en-US</dc:language>
  <cp:lastModifiedBy>forensik</cp:lastModifiedBy>
  <dcterms:modified xsi:type="dcterms:W3CDTF">2013-09-16T04:35:26Z</dcterms:modified>
  <cp:revision>29</cp:revision>
  <dc:subject/>
  <dc:title>PowerPoint Presentation</dc:title>
</cp:coreProperties>
</file>