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gif" ContentType="image/gif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Jenkins v2.0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Jenkins v2.0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nkins v2.0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Jenkins v2.0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Jenkins v2.0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27F-415F-4AE1-8A95-AD8C17908A14}" type="slidenum">
              <a:rPr b="0" lang="es-ES" sz="1200" spc="-1" strike="noStrike">
                <a:solidFill>
                  <a:srgbClr val="000000"/>
                </a:solidFill>
                <a:latin typeface="Jenkins v2.0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01A-4A15-4CF0-8D11-99376CC2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A7E-4C40-45D1-99DD-A008FE2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BA1-8333-4691-96ED-50F8A217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FF3-C086-4774-B522-5683C785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EED-A7F7-44B2-8EC7-BDFDB66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D7B-E28D-4441-82DC-2DF7FC9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04B-E735-4466-B5F7-C29CEFBD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8FB-9ED6-4148-8141-8ABB9F8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BCC-40D8-4269-89E6-59EF13F6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022-6E0A-4C33-B101-9F500D5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A68-0239-4FE1-8AD9-946C886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96C-D8CF-48AB-B277-45F35F66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nkins v2.0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Jenkins v2.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Jenkins v2.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Jenkins v2.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Jenkins v2.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Jenkins v2.0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Jenkins v2.0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Jenkins v2.0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enkins v2.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Jenkins v2.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Jenkins v2.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Jenkins v2.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5C44-C70D-4FF2-A592-B2F2002542A4}" type="slidenum">
              <a:rPr b="0" lang="es-ES" sz="1400" spc="-1" strike="noStrike">
                <a:solidFill>
                  <a:srgbClr val="000000"/>
                </a:solidFill>
                <a:latin typeface="Jenkins v2.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99"/>
                </a:solidFill>
                <a:latin typeface="Jenkins v2.0"/>
              </a:rPr>
              <a:t>Eigen-Aardige,</a:t>
            </a:r>
            <a:br>
              <a:rPr sz="9600"/>
            </a:br>
            <a:r>
              <a:rPr b="1" lang="es-ES_tradnl" sz="9600" spc="-1" strike="noStrike">
                <a:solidFill>
                  <a:srgbClr val="ffff99"/>
                </a:solidFill>
                <a:latin typeface="Jenkins v2.0"/>
              </a:rPr>
              <a:t>FOTOS  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49" name=""/>
          <p:cNvSpPr/>
          <p:nvPr/>
        </p:nvSpPr>
        <p:spPr>
          <a:xfrm>
            <a:off x="5311440" y="5348160"/>
            <a:ext cx="350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99"/>
                </a:solidFill>
                <a:latin typeface="Jenkins v2.0"/>
              </a:rPr>
              <a:t>MMVII + HH</a:t>
            </a:r>
            <a:endParaRPr b="0" lang="en-US" sz="44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Rekenfoutj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Muziek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Ongelukj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Politie  in volle   </a:t>
            </a:r>
            <a:br>
              <a:rPr sz="9600"/>
            </a:b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 acti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Toiletten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Wanhoop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remmen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Vergeten ..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Zonder uitleg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99"/>
                </a:solidFill>
                <a:latin typeface="Jenkins v2.0"/>
              </a:rPr>
              <a:t>Ironische waarschuwing</a:t>
            </a:r>
            <a:endParaRPr b="0" lang="en-US" sz="88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Ontbijt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Buren-ruzi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52280" y="228600"/>
            <a:ext cx="9296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Waarom beter in Pyama slapen ?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-6480"/>
            <a:ext cx="70106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tatouag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004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Opwarming planeet</a:t>
            </a:r>
            <a:br>
              <a:rPr sz="9600"/>
            </a:b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bewezen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Jenkins v2.0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Spijt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103320"/>
            <a:ext cx="70866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99"/>
                </a:solidFill>
                <a:latin typeface="Jenkins v2.0"/>
              </a:rPr>
              <a:t>Liefd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9080"/>
            <a:ext cx="76201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1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99"/>
                </a:solidFill>
                <a:latin typeface="Jenkins v2.0"/>
              </a:rPr>
              <a:t>Foutje</a:t>
            </a:r>
            <a:endParaRPr b="0" lang="en-US" sz="9600" spc="-1" strike="noStrike">
              <a:solidFill>
                <a:srgbClr val="000000"/>
              </a:solidFill>
              <a:latin typeface="Jenkins v2.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q</dc:creator>
  <dc:description/>
  <dc:language>en-US</dc:language>
  <cp:lastModifiedBy>Smets</cp:lastModifiedBy>
  <dcterms:modified xsi:type="dcterms:W3CDTF">2011-10-09T18:46:56Z</dcterms:modified>
  <cp:revision>4</cp:revision>
  <dc:subject/>
  <dc:title>Divertidas 2007</dc:title>
</cp:coreProperties>
</file>