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1181-F9FB-428B-9E24-8CDA971F3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BF0A-FA95-40A2-A040-790237AB52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4EFB-A9AB-4200-8BB9-736F41CFFF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AEAF-18E9-447A-A1DA-D85072EDE9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E85B-BE82-4DAE-AE49-D28661C3DB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2066-8089-425E-85D6-0621605F21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530E-61D3-4F1B-9174-9A01DBE4F7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229B-9660-4E8C-9ECD-FB45173B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31521-3FFB-4DDF-9EBC-D1723D7A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80984-43E3-4351-81DD-BDA2697C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E3612-36DC-4692-A041-C5D7142F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84A8-5851-4E65-BEDC-CB2C99B8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2892-C486-4005-B0D7-1AA0C094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C092-D64E-4BEE-B0C4-62D6FDFF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C782-4254-44DB-ABA2-8886B104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9122-66F4-464D-A3DA-F47D602C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666D-6026-460F-BD0C-EA0C43C7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EE2C-E618-44D9-BA0B-6E84AC3B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DAAEB-3C44-47A3-95FA-564C7BA5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DD13-DEBA-48C6-85B1-3F3C34D4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916D-D7D8-49E4-9984-72883DDD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8354-CDA6-4941-BFA4-89B041BF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EB73-CF51-4336-B5AA-B7B3DA4F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CFCE-5C85-4DAD-A5E2-F3CCC9A3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E13E0-2CA5-41BA-8846-5D125987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45F36-0CEA-4AEC-82CC-8AB8BA93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FD317-EF12-4B6F-AEF2-C03DF16D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A3E55-47A7-457F-954C-7B252263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2E313-3CCC-4789-AE2A-A31099A5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E43CA-4D1E-43D8-91E5-68D4EC45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37C11-D59E-4204-BD78-23EE6186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4251-33AC-4325-9513-1D0940FB85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949E-3C38-4AB1-B22F-AC5BAE0F3B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66ff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ff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520" y="259092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Meningococcemia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at is Your Diagnosis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Content Placeholder 6" descr="meningiococcimemia 7.bmp"/>
          <p:cNvPicPr/>
          <p:nvPr/>
        </p:nvPicPr>
        <p:blipFill>
          <a:blip r:embed="rId1"/>
          <a:stretch/>
        </p:blipFill>
        <p:spPr>
          <a:xfrm>
            <a:off x="3571920" y="2690640"/>
            <a:ext cx="3182760" cy="22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at is Your Diagnosis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Content Placeholder 5" descr="meningiococcimemia 9.bmp"/>
          <p:cNvPicPr/>
          <p:nvPr/>
        </p:nvPicPr>
        <p:blipFill>
          <a:blip r:embed="rId1"/>
          <a:stretch/>
        </p:blipFill>
        <p:spPr>
          <a:xfrm>
            <a:off x="3076560" y="2247840"/>
            <a:ext cx="346536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eningococcemi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Content Placeholder 5" descr="meningiococcimemia 8.bmp"/>
          <p:cNvPicPr/>
          <p:nvPr/>
        </p:nvPicPr>
        <p:blipFill>
          <a:blip r:embed="rId1"/>
          <a:stretch/>
        </p:blipFill>
        <p:spPr>
          <a:xfrm>
            <a:off x="1944720" y="2627280"/>
            <a:ext cx="2617920" cy="2371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5181120" y="1371600"/>
            <a:ext cx="344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. meningitid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in lesions occur with acute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tech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chymosis and ischemic necrosis usually follo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asionallly bullous hemorrhagic lesions occ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nk and extre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eningiococcemi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Content Placeholder 8" descr="meningiococcimemia 10.bmp"/>
          <p:cNvPicPr/>
          <p:nvPr/>
        </p:nvPicPr>
        <p:blipFill>
          <a:blip r:embed="rId1"/>
          <a:stretch/>
        </p:blipFill>
        <p:spPr>
          <a:xfrm>
            <a:off x="1873080" y="2754360"/>
            <a:ext cx="2617920" cy="1960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245200" y="1981080"/>
            <a:ext cx="3441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/ch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ingioencephal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neumo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hr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card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ession to D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eningiococcemi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Content Placeholder 5" descr="meningiococcimemia 7.bmp"/>
          <p:cNvPicPr/>
          <p:nvPr/>
        </p:nvPicPr>
        <p:blipFill>
          <a:blip r:embed="rId1"/>
          <a:stretch/>
        </p:blipFill>
        <p:spPr>
          <a:xfrm>
            <a:off x="2016000" y="2943360"/>
            <a:ext cx="2687760" cy="2023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181120" y="1600200"/>
            <a:ext cx="344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nic meningiococcem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3920" indent="-31392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and recur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3920" indent="-31392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3920" indent="-31392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hralg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3920" indent="-31392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ythematous macules, papules and plaques 12-24h after 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3920" indent="-31392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der nodules, ecchymosis, petech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eningiococcemi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Content Placeholder 9" descr="meningiococcimemia 1.bmp"/>
          <p:cNvPicPr/>
          <p:nvPr/>
        </p:nvPicPr>
        <p:blipFill>
          <a:blip r:embed="rId1"/>
          <a:stretch/>
        </p:blipFill>
        <p:spPr>
          <a:xfrm>
            <a:off x="1600200" y="1981080"/>
            <a:ext cx="3505320" cy="3095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5257800" y="1676520"/>
            <a:ext cx="3441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dose IV penicill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loramphenicol in PCN allergic 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generation cephalosporin in areas of high PCN resi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close contacts need rifamp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ccine against serotypes A,C,Y and W-1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42:58Z</dcterms:created>
  <dc:creator>o</dc:creator>
  <dc:description/>
  <dc:language>en-US</dc:language>
  <cp:lastModifiedBy>o</cp:lastModifiedBy>
  <dcterms:modified xsi:type="dcterms:W3CDTF">2011-02-27T01:50:18Z</dcterms:modified>
  <cp:revision>8</cp:revision>
  <dc:subject/>
  <dc:title>Meningococcemia</dc:title>
</cp:coreProperties>
</file>