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045-B402-4A7C-B8CC-D4D2133F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CC9C-221D-40DA-8E77-966420C814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4210-32A0-46FF-9F33-EE3A6742CE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406-78D7-477F-84F6-B0C6CB8C00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3C99-4839-47B1-B673-35C77D0181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C3D-8DA5-442A-A357-073140613D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659B-C8D8-488D-B53C-279188576A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87DA-1647-4663-B501-CCD3EFD6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8180-5CAD-4DA8-B4FF-D8C2130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ADEE-17A5-4B85-8AF0-D40F8089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00DA-FE86-4C5C-8D57-C985A1DE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6A6-4A7D-42A8-B3F4-B3F6C2D1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73C-938C-48B8-8A23-7979631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5D4-6F1A-4D1B-8BC7-331F868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248-4D77-4C4C-81F6-35B6B7A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BDD-DA47-4F21-8E61-B5F7C6DD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5BC-8D94-4432-A095-23C3479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C94D-BE15-4F28-BC1A-B435552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8B94-4AAF-4050-8C43-5208083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32E4-91BA-4A0F-9DCC-1716E71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CCC0-07AC-4A51-9854-A0FD5AF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F09C-F80E-4D19-88B6-E3955983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2AAA-C58C-4FB8-8E54-4CC5CD75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8428-D854-4721-AAC4-BFC865AF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95F3-EAF4-428E-AC92-05D4C2EA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D451-1624-4BD1-BFAE-6830E7E0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4EDB-E575-49CC-8B52-CB25E5C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CEB1-9EFB-484F-AC0D-AFF29699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5403-0886-49B5-A845-6081CB0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92AA-D08D-4703-B4D9-0DE2244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4C4D-F296-4FBB-B9AD-B0C2335F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EF61-6C64-4A7E-A8E5-B38187F68A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25B-FBCE-437A-A59A-D08992D28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520" y="25909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ningococcemi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Content Placeholder 6" descr="meningiococcimemia 7.bmp"/>
          <p:cNvPicPr/>
          <p:nvPr/>
        </p:nvPicPr>
        <p:blipFill>
          <a:blip r:embed="rId1"/>
          <a:stretch/>
        </p:blipFill>
        <p:spPr>
          <a:xfrm>
            <a:off x="3571920" y="2690640"/>
            <a:ext cx="318276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Content Placeholder 5" descr="meningiococcimemia 9.bmp"/>
          <p:cNvPicPr/>
          <p:nvPr/>
        </p:nvPicPr>
        <p:blipFill>
          <a:blip r:embed="rId1"/>
          <a:stretch/>
        </p:blipFill>
        <p:spPr>
          <a:xfrm>
            <a:off x="3076560" y="2247840"/>
            <a:ext cx="3465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Content Placeholder 5" descr="meningiococcimemia 8.bmp"/>
          <p:cNvPicPr/>
          <p:nvPr/>
        </p:nvPicPr>
        <p:blipFill>
          <a:blip r:embed="rId1"/>
          <a:stretch/>
        </p:blipFill>
        <p:spPr>
          <a:xfrm>
            <a:off x="1944720" y="2627280"/>
            <a:ext cx="2617920" cy="237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81120" y="1371600"/>
            <a:ext cx="34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. meningitid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lesions occur with acut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ec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chymosis and ischemic necrosis usually fol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lly bullous hemorrhagic les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and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Content Placeholder 8" descr="meningiococcimemia 10.bmp"/>
          <p:cNvPicPr/>
          <p:nvPr/>
        </p:nvPicPr>
        <p:blipFill>
          <a:blip r:embed="rId1"/>
          <a:stretch/>
        </p:blipFill>
        <p:spPr>
          <a:xfrm>
            <a:off x="1873080" y="2754360"/>
            <a:ext cx="2617920" cy="196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245200" y="1981080"/>
            <a:ext cx="344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/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ingioencepha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on to D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Content Placeholder 5" descr="meningiococcimemia 7.bmp"/>
          <p:cNvPicPr/>
          <p:nvPr/>
        </p:nvPicPr>
        <p:blipFill>
          <a:blip r:embed="rId1"/>
          <a:stretch/>
        </p:blipFill>
        <p:spPr>
          <a:xfrm>
            <a:off x="2016000" y="2943360"/>
            <a:ext cx="2687760" cy="20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81120" y="1600200"/>
            <a:ext cx="34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meningiococc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and re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ral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ythematous macules, papules and plaques 12-24h after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 nodules, ecchymosis, petec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eningiococcem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9" descr="meningiococcimemia 1.bmp"/>
          <p:cNvPicPr/>
          <p:nvPr/>
        </p:nvPicPr>
        <p:blipFill>
          <a:blip r:embed="rId1"/>
          <a:stretch/>
        </p:blipFill>
        <p:spPr>
          <a:xfrm>
            <a:off x="1600200" y="1981080"/>
            <a:ext cx="3505320" cy="3095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257800" y="1676520"/>
            <a:ext cx="344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dose IV penicil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amphenicol in PCN allergi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generation cephalosporin in areas of high PCN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lose contacts need rifam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cine against serotypes A,C,Y and W-1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42:58Z</dcterms:created>
  <dc:creator>o</dc:creator>
  <dc:description/>
  <dc:language>en-US</dc:language>
  <cp:lastModifiedBy>o</cp:lastModifiedBy>
  <dcterms:modified xsi:type="dcterms:W3CDTF">2011-02-27T01:50:18Z</dcterms:modified>
  <cp:revision>8</cp:revision>
  <dc:subject/>
  <dc:title>Meningococcemia</dc:title>
</cp:coreProperties>
</file>