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pct" ContentType="image/x-pict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26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2.pct" ContentType="image/x-pict"/>
  <Override PartName="/ppt/media/image24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64800" bIns="64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BA13F40-B6CC-4FFD-9A8C-DA16800BD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1D02DAA-5835-48B6-984A-C83447DC8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9865EED-A76D-4A18-B534-DEF7481AAD9D}" type="slidenum">
              <a:rPr b="0" lang="en-GB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9902AF0-6FF6-4E53-AF41-60FC43E4C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69644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520" y="3444840"/>
            <a:ext cx="769644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243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520" y="34448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24320" y="34448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2600" y="12952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84680" y="12952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520" y="34448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2600" y="34448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84680" y="34448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24320" y="12952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24320" y="12952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520" y="34448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243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324320" y="34448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243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520" y="3444840"/>
            <a:ext cx="769644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69644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0520" y="3444840"/>
            <a:ext cx="769644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243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0520" y="34448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324320" y="34448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982600" y="12952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584680" y="12952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80520" y="34448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2982600" y="34448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584680" y="34448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24320" y="12952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24320" y="12952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520" y="34448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243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324320" y="34448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243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520" y="3444840"/>
            <a:ext cx="769644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69644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520" y="3444840"/>
            <a:ext cx="769644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3243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80520" y="34448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324320" y="34448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82600" y="12952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584680" y="12952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80520" y="34448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82600" y="34448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584680" y="34448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24320" y="12952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324320" y="12952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324320" y="12952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520" y="34448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3243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324320" y="34448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3243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80520" y="3444840"/>
            <a:ext cx="769644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69644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80520" y="3444840"/>
            <a:ext cx="769644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3243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80520" y="34448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324320" y="34448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982600" y="12952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584680" y="12952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380520" y="34448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982600" y="34448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584680" y="34448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24320" y="12952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520" y="34448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243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24320" y="34448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243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520" y="3444840"/>
            <a:ext cx="769644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ct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ct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ct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1141560"/>
            <a:ext cx="8002440" cy="5716440"/>
          </a:xfrm>
          <a:custGeom>
            <a:avLst/>
            <a:gdLst/>
            <a:ahLst/>
            <a:rect l="l" t="t" r="r" b="b"/>
            <a:pathLst>
              <a:path w="840" h="600">
                <a:moveTo>
                  <a:pt x="840" y="36"/>
                </a:moveTo>
                <a:cubicBezTo>
                  <a:pt x="840" y="16"/>
                  <a:pt x="824" y="0"/>
                  <a:pt x="804" y="0"/>
                </a:cubicBezTo>
                <a:lnTo>
                  <a:pt x="0" y="0"/>
                </a:lnTo>
                <a:lnTo>
                  <a:pt x="0" y="600"/>
                </a:lnTo>
                <a:lnTo>
                  <a:pt x="840" y="600"/>
                </a:lnTo>
                <a:lnTo>
                  <a:pt x="840" y="36"/>
                </a:lnTo>
                <a:close/>
              </a:path>
            </a:pathLst>
          </a:custGeom>
          <a:solidFill>
            <a:srgbClr val="d5e9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0"/>
            <a:ext cx="8002440" cy="914400"/>
          </a:xfrm>
          <a:custGeom>
            <a:avLst/>
            <a:gdLst/>
            <a:ahLst/>
            <a:rect l="l" t="t" r="r" b="b"/>
            <a:pathLst>
              <a:path w="840" h="96">
                <a:moveTo>
                  <a:pt x="804" y="96"/>
                </a:moveTo>
                <a:cubicBezTo>
                  <a:pt x="824" y="96"/>
                  <a:pt x="840" y="80"/>
                  <a:pt x="840" y="60"/>
                </a:cubicBezTo>
                <a:lnTo>
                  <a:pt x="840" y="0"/>
                </a:lnTo>
                <a:lnTo>
                  <a:pt x="0" y="0"/>
                </a:lnTo>
                <a:lnTo>
                  <a:pt x="0" y="96"/>
                </a:lnTo>
                <a:lnTo>
                  <a:pt x="804" y="96"/>
                </a:lnTo>
                <a:close/>
              </a:path>
            </a:pathLst>
          </a:custGeom>
          <a:solidFill>
            <a:srgbClr val="e913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80520" y="12952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601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028880" indent="-324000">
              <a:spcBef>
                <a:spcPts val="601"/>
              </a:spcBef>
              <a:buClr>
                <a:srgbClr val="000066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17600" indent="-279360">
              <a:spcBef>
                <a:spcPts val="601"/>
              </a:spcBef>
              <a:buClr>
                <a:srgbClr val="000066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1549440" indent="-219240">
              <a:spcBef>
                <a:spcPts val="601"/>
              </a:spcBef>
              <a:buClr>
                <a:srgbClr val="000066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1549440" indent="-219240">
              <a:spcBef>
                <a:spcPts val="601"/>
              </a:spcBef>
              <a:buClr>
                <a:srgbClr val="000066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1549440" indent="-219240">
              <a:spcBef>
                <a:spcPts val="601"/>
              </a:spcBef>
              <a:buClr>
                <a:srgbClr val="000066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298000" y="6605640"/>
            <a:ext cx="541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13C2-7AC9-4F16-85C4-42F70CE5CE13}" type="slidenum">
              <a:rPr b="0" lang="en-US" sz="9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366040" y="517680"/>
            <a:ext cx="425520" cy="42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56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5486400"/>
            <a:ext cx="7088040" cy="1371600"/>
          </a:xfrm>
          <a:custGeom>
            <a:avLst/>
            <a:gdLst/>
            <a:ahLst/>
            <a:rect l="l" t="t" r="r" b="b"/>
            <a:pathLst>
              <a:path w="744" h="144">
                <a:moveTo>
                  <a:pt x="744" y="36"/>
                </a:moveTo>
                <a:cubicBezTo>
                  <a:pt x="744" y="16"/>
                  <a:pt x="728" y="0"/>
                  <a:pt x="708" y="0"/>
                </a:cubicBezTo>
                <a:lnTo>
                  <a:pt x="0" y="0"/>
                </a:lnTo>
                <a:lnTo>
                  <a:pt x="0" y="144"/>
                </a:lnTo>
                <a:lnTo>
                  <a:pt x="744" y="144"/>
                </a:lnTo>
                <a:lnTo>
                  <a:pt x="744" y="36"/>
                </a:lnTo>
                <a:close/>
              </a:path>
            </a:pathLst>
          </a:custGeom>
          <a:solidFill>
            <a:srgbClr val="d5e9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3886200"/>
            <a:ext cx="7088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6843600" y="3892680"/>
            <a:ext cx="2057400" cy="1361880"/>
            <a:chOff x="6843600" y="3892680"/>
            <a:chExt cx="2057400" cy="1361880"/>
          </a:xfrm>
        </p:grpSpPr>
        <p:grpSp>
          <p:nvGrpSpPr>
            <p:cNvPr id="47" name=""/>
            <p:cNvGrpSpPr/>
            <p:nvPr/>
          </p:nvGrpSpPr>
          <p:grpSpPr>
            <a:xfrm>
              <a:off x="6843600" y="3892680"/>
              <a:ext cx="2057400" cy="1361880"/>
              <a:chOff x="6843600" y="3892680"/>
              <a:chExt cx="2057400" cy="1361880"/>
            </a:xfrm>
          </p:grpSpPr>
          <p:sp>
            <p:nvSpPr>
              <p:cNvPr id="48" name=""/>
              <p:cNvSpPr/>
              <p:nvPr/>
            </p:nvSpPr>
            <p:spPr>
              <a:xfrm>
                <a:off x="6843600" y="3892680"/>
                <a:ext cx="2057400" cy="342720"/>
              </a:xfrm>
              <a:custGeom>
                <a:avLst/>
                <a:gdLst/>
                <a:ahLst/>
                <a:rect l="l" t="t" r="r" b="b"/>
                <a:pathLst>
                  <a:path w="216" h="36">
                    <a:moveTo>
                      <a:pt x="0" y="0"/>
                    </a:moveTo>
                    <a:lnTo>
                      <a:pt x="180" y="0"/>
                    </a:lnTo>
                    <a:cubicBezTo>
                      <a:pt x="200" y="0"/>
                      <a:pt x="216" y="16"/>
                      <a:pt x="216" y="36"/>
                    </a:cubicBezTo>
                  </a:path>
                </a:pathLst>
              </a:custGeom>
              <a:noFill/>
              <a:ln w="12600">
                <a:solidFill>
                  <a:srgbClr val="e9153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V="1">
                <a:off x="6843600" y="4911840"/>
                <a:ext cx="2057400" cy="342720"/>
              </a:xfrm>
              <a:custGeom>
                <a:avLst/>
                <a:gdLst/>
                <a:ahLst/>
                <a:rect l="l" t="t" r="r" b="b"/>
                <a:pathLst>
                  <a:path w="216" h="36">
                    <a:moveTo>
                      <a:pt x="0" y="0"/>
                    </a:moveTo>
                    <a:lnTo>
                      <a:pt x="180" y="0"/>
                    </a:lnTo>
                    <a:cubicBezTo>
                      <a:pt x="200" y="0"/>
                      <a:pt x="216" y="16"/>
                      <a:pt x="216" y="36"/>
                    </a:cubicBezTo>
                  </a:path>
                </a:pathLst>
              </a:custGeom>
              <a:noFill/>
              <a:ln w="12600">
                <a:solidFill>
                  <a:srgbClr val="e9153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01000" y="4232520"/>
                <a:ext cx="0" cy="679320"/>
              </a:xfrm>
              <a:prstGeom prst="line">
                <a:avLst/>
              </a:prstGeom>
              <a:ln w="12600">
                <a:solidFill>
                  <a:srgbClr val="e91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7549920" y="4032000"/>
              <a:ext cx="1067040" cy="108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/>
          <p:nvPr/>
        </p:nvSpPr>
        <p:spPr>
          <a:xfrm>
            <a:off x="228600" y="0"/>
            <a:ext cx="7088040" cy="3657600"/>
          </a:xfrm>
          <a:custGeom>
            <a:avLst/>
            <a:gdLst/>
            <a:ahLst/>
            <a:rect l="l" t="t" r="r" b="b"/>
            <a:pathLst>
              <a:path w="744" h="384">
                <a:moveTo>
                  <a:pt x="744" y="348"/>
                </a:moveTo>
                <a:cubicBezTo>
                  <a:pt x="744" y="368"/>
                  <a:pt x="728" y="384"/>
                  <a:pt x="708" y="384"/>
                </a:cubicBezTo>
                <a:lnTo>
                  <a:pt x="0" y="384"/>
                </a:lnTo>
                <a:lnTo>
                  <a:pt x="0" y="0"/>
                </a:lnTo>
                <a:lnTo>
                  <a:pt x="744" y="0"/>
                </a:lnTo>
                <a:lnTo>
                  <a:pt x="744" y="348"/>
                </a:lnTo>
                <a:close/>
              </a:path>
            </a:pathLst>
          </a:custGeom>
          <a:solidFill>
            <a:srgbClr val="d5e9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467120" y="230040"/>
            <a:ext cx="1676520" cy="0"/>
          </a:xfrm>
          <a:prstGeom prst="line">
            <a:avLst/>
          </a:prstGeom>
          <a:ln w="12600">
            <a:solidFill>
              <a:srgbClr val="e913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7448400" y="338040"/>
            <a:ext cx="522360" cy="219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4147920"/>
            <a:ext cx="6476760" cy="749160"/>
          </a:xfrm>
          <a:prstGeom prst="rect">
            <a:avLst/>
          </a:prstGeom>
          <a:solidFill>
            <a:srgbClr val="e9132f"/>
          </a:solidFill>
          <a:ln w="0">
            <a:noFill/>
          </a:ln>
        </p:spPr>
        <p:txBody>
          <a:bodyPr lIns="73080" rIns="90000" tIns="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44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2" marL="511200" indent="193680" algn="ctr">
              <a:spcBef>
                <a:spcPts val="499"/>
              </a:spcBef>
              <a:buClr>
                <a:srgbClr val="000066"/>
              </a:buClr>
              <a:buSzPct val="70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573120" indent="465120" algn="ctr">
              <a:spcBef>
                <a:spcPts val="451"/>
              </a:spcBef>
              <a:buClr>
                <a:srgbClr val="000066"/>
              </a:buClr>
              <a:buSzPct val="70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1185840" indent="144360" algn="ctr">
              <a:spcBef>
                <a:spcPts val="400"/>
              </a:spcBef>
              <a:buClr>
                <a:srgbClr val="000066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1185840" indent="144360">
              <a:spcBef>
                <a:spcPts val="400"/>
              </a:spcBef>
              <a:buClr>
                <a:srgbClr val="000066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1185840" indent="144360">
              <a:spcBef>
                <a:spcPts val="400"/>
              </a:spcBef>
              <a:buClr>
                <a:srgbClr val="000066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141560"/>
            <a:ext cx="8002440" cy="5716440"/>
          </a:xfrm>
          <a:custGeom>
            <a:avLst/>
            <a:gdLst/>
            <a:ahLst/>
            <a:rect l="l" t="t" r="r" b="b"/>
            <a:pathLst>
              <a:path w="840" h="600">
                <a:moveTo>
                  <a:pt x="840" y="36"/>
                </a:moveTo>
                <a:cubicBezTo>
                  <a:pt x="840" y="16"/>
                  <a:pt x="824" y="0"/>
                  <a:pt x="804" y="0"/>
                </a:cubicBezTo>
                <a:lnTo>
                  <a:pt x="0" y="0"/>
                </a:lnTo>
                <a:lnTo>
                  <a:pt x="0" y="600"/>
                </a:lnTo>
                <a:lnTo>
                  <a:pt x="840" y="600"/>
                </a:lnTo>
                <a:lnTo>
                  <a:pt x="840" y="36"/>
                </a:lnTo>
                <a:close/>
              </a:path>
            </a:pathLst>
          </a:custGeom>
          <a:solidFill>
            <a:srgbClr val="d5e9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0"/>
            <a:ext cx="8002440" cy="914400"/>
          </a:xfrm>
          <a:custGeom>
            <a:avLst/>
            <a:gdLst/>
            <a:ahLst/>
            <a:rect l="l" t="t" r="r" b="b"/>
            <a:pathLst>
              <a:path w="840" h="96">
                <a:moveTo>
                  <a:pt x="804" y="96"/>
                </a:moveTo>
                <a:cubicBezTo>
                  <a:pt x="824" y="96"/>
                  <a:pt x="840" y="80"/>
                  <a:pt x="840" y="60"/>
                </a:cubicBezTo>
                <a:lnTo>
                  <a:pt x="840" y="0"/>
                </a:lnTo>
                <a:lnTo>
                  <a:pt x="0" y="0"/>
                </a:lnTo>
                <a:lnTo>
                  <a:pt x="0" y="96"/>
                </a:lnTo>
                <a:lnTo>
                  <a:pt x="804" y="96"/>
                </a:lnTo>
                <a:close/>
              </a:path>
            </a:pathLst>
          </a:custGeom>
          <a:solidFill>
            <a:srgbClr val="e913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80520" y="12952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601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028880" indent="-324000">
              <a:spcBef>
                <a:spcPts val="601"/>
              </a:spcBef>
              <a:buClr>
                <a:srgbClr val="000066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17600" indent="-279360">
              <a:spcBef>
                <a:spcPts val="601"/>
              </a:spcBef>
              <a:buClr>
                <a:srgbClr val="000066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1549440" indent="-219240">
              <a:spcBef>
                <a:spcPts val="601"/>
              </a:spcBef>
              <a:buClr>
                <a:srgbClr val="000066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1549440" indent="-219240">
              <a:spcBef>
                <a:spcPts val="601"/>
              </a:spcBef>
              <a:buClr>
                <a:srgbClr val="000066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1549440" indent="-219240">
              <a:spcBef>
                <a:spcPts val="601"/>
              </a:spcBef>
              <a:buClr>
                <a:srgbClr val="000066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98000" y="6605640"/>
            <a:ext cx="541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3511-B729-4F1C-B4B5-768446DE78A2}" type="slidenum">
              <a:rPr b="0" lang="en-US" sz="9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450280" y="473040"/>
            <a:ext cx="466560" cy="46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56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28600" y="3886200"/>
            <a:ext cx="7088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6843600" y="3902040"/>
            <a:ext cx="1581120" cy="1342800"/>
            <a:chOff x="6843600" y="3902040"/>
            <a:chExt cx="1581120" cy="1342800"/>
          </a:xfrm>
        </p:grpSpPr>
        <p:sp>
          <p:nvSpPr>
            <p:cNvPr id="139" name=""/>
            <p:cNvSpPr/>
            <p:nvPr/>
          </p:nvSpPr>
          <p:spPr>
            <a:xfrm>
              <a:off x="6843600" y="3902040"/>
              <a:ext cx="1581120" cy="337680"/>
            </a:xfrm>
            <a:custGeom>
              <a:avLst/>
              <a:gdLst/>
              <a:ahLst/>
              <a:rect l="l" t="t" r="r" b="b"/>
              <a:pathLst>
                <a:path w="216" h="36">
                  <a:moveTo>
                    <a:pt x="0" y="0"/>
                  </a:moveTo>
                  <a:lnTo>
                    <a:pt x="180" y="0"/>
                  </a:lnTo>
                  <a:cubicBezTo>
                    <a:pt x="200" y="0"/>
                    <a:pt x="216" y="16"/>
                    <a:pt x="216" y="36"/>
                  </a:cubicBezTo>
                </a:path>
              </a:pathLst>
            </a:custGeom>
            <a:noFill/>
            <a:ln w="12600">
              <a:solidFill>
                <a:srgbClr val="e915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843600" y="4907160"/>
              <a:ext cx="1581120" cy="337680"/>
            </a:xfrm>
            <a:custGeom>
              <a:avLst/>
              <a:gdLst/>
              <a:ahLst/>
              <a:rect l="l" t="t" r="r" b="b"/>
              <a:pathLst>
                <a:path w="216" h="36">
                  <a:moveTo>
                    <a:pt x="0" y="0"/>
                  </a:moveTo>
                  <a:lnTo>
                    <a:pt x="180" y="0"/>
                  </a:lnTo>
                  <a:cubicBezTo>
                    <a:pt x="200" y="0"/>
                    <a:pt x="216" y="16"/>
                    <a:pt x="216" y="36"/>
                  </a:cubicBezTo>
                </a:path>
              </a:pathLst>
            </a:custGeom>
            <a:noFill/>
            <a:ln w="12600">
              <a:solidFill>
                <a:srgbClr val="e915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4720" y="4237200"/>
              <a:ext cx="0" cy="669960"/>
            </a:xfrm>
            <a:prstGeom prst="line">
              <a:avLst/>
            </a:prstGeom>
            <a:ln w="12600">
              <a:solidFill>
                <a:srgbClr val="e91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310520" y="4032360"/>
            <a:ext cx="1060200" cy="1081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28600" y="0"/>
            <a:ext cx="7088040" cy="3657600"/>
          </a:xfrm>
          <a:custGeom>
            <a:avLst/>
            <a:gdLst/>
            <a:ahLst/>
            <a:rect l="l" t="t" r="r" b="b"/>
            <a:pathLst>
              <a:path w="744" h="384">
                <a:moveTo>
                  <a:pt x="744" y="348"/>
                </a:moveTo>
                <a:cubicBezTo>
                  <a:pt x="744" y="368"/>
                  <a:pt x="728" y="384"/>
                  <a:pt x="708" y="384"/>
                </a:cubicBezTo>
                <a:lnTo>
                  <a:pt x="0" y="384"/>
                </a:lnTo>
                <a:lnTo>
                  <a:pt x="0" y="0"/>
                </a:lnTo>
                <a:lnTo>
                  <a:pt x="744" y="0"/>
                </a:lnTo>
                <a:lnTo>
                  <a:pt x="744" y="348"/>
                </a:lnTo>
                <a:close/>
              </a:path>
            </a:pathLst>
          </a:custGeom>
          <a:solidFill>
            <a:srgbClr val="d5e9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467120" y="230040"/>
            <a:ext cx="1676520" cy="0"/>
          </a:xfrm>
          <a:prstGeom prst="line">
            <a:avLst/>
          </a:prstGeom>
          <a:ln w="12600">
            <a:solidFill>
              <a:srgbClr val="e913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7448400" y="338040"/>
            <a:ext cx="522360" cy="2192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4147920"/>
            <a:ext cx="6476760" cy="749160"/>
          </a:xfrm>
          <a:prstGeom prst="rect">
            <a:avLst/>
          </a:prstGeom>
          <a:solidFill>
            <a:srgbClr val="e9132f"/>
          </a:solidFill>
          <a:ln w="0">
            <a:noFill/>
          </a:ln>
        </p:spPr>
        <p:txBody>
          <a:bodyPr lIns="73080" rIns="90000" tIns="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233280" y="0"/>
            <a:ext cx="7083360" cy="3656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6858000" y="2057400"/>
            <a:ext cx="2286000" cy="48006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5244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2" marL="704880" algn="ctr">
              <a:spcBef>
                <a:spcPts val="499"/>
              </a:spcBef>
              <a:buClr>
                <a:srgbClr val="000066"/>
              </a:buClr>
              <a:buSzPct val="70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038240" algn="ctr">
              <a:spcBef>
                <a:spcPts val="451"/>
              </a:spcBef>
              <a:buClr>
                <a:srgbClr val="000066"/>
              </a:buClr>
              <a:buSzPct val="7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1330200" algn="ctr">
              <a:spcBef>
                <a:spcPts val="400"/>
              </a:spcBef>
              <a:buClr>
                <a:srgbClr val="000066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1330200">
              <a:spcBef>
                <a:spcPts val="400"/>
              </a:spcBef>
              <a:buClr>
                <a:srgbClr val="000066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1330200">
              <a:spcBef>
                <a:spcPts val="400"/>
              </a:spcBef>
              <a:buClr>
                <a:srgbClr val="000066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ncredible.simplenumbersgame.info/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160" y="4147920"/>
            <a:ext cx="6476760" cy="749160"/>
          </a:xfrm>
          <a:prstGeom prst="rect">
            <a:avLst/>
          </a:prstGeom>
          <a:solidFill>
            <a:srgbClr val="e9132f"/>
          </a:solidFill>
          <a:ln w="0">
            <a:noFill/>
          </a:ln>
        </p:spPr>
        <p:txBody>
          <a:bodyPr lIns="73080" rIns="90000" tIns="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orking Together to Transform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Newspaper Indust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31360" y="5589720"/>
            <a:ext cx="6481800" cy="91440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drew Gord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nager, Business Intelligenc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46880" y="849240"/>
            <a:ext cx="1797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G Annual Conferenc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mpa, F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pt. 23-35, 2008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1776" t="0" r="3553" b="0"/>
          <a:stretch/>
        </p:blipFill>
        <p:spPr>
          <a:xfrm>
            <a:off x="7343640" y="2637000"/>
            <a:ext cx="1800360" cy="89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oducing the Océ JetStream Family of Pr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437920" y="1218960"/>
            <a:ext cx="5784840" cy="563868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5 models, single and twin engine configuration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51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30, 500 and 660 feet per minute (100,150 and 200 m/m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00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Supports a duty cycle(s) of up to 86 Million letter images per month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00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p to 3.000 24-p broadsheet newspapers / h 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(~ 6.000 newspapers half format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66"/>
                </a:solidFill>
                <a:latin typeface="Arial"/>
              </a:rPr>
              <a:t>* Actual speed is 328, 492 and 656 feet per minute</a:t>
            </a:r>
            <a:endParaRPr b="0" lang="en-US" sz="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ide range of media options;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51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p to 21.4” paper widt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51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kjet, laser, recycled, premium, newspri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045280" y="781200"/>
            <a:ext cx="92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33280" y="1143000"/>
          <a:ext cx="198432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1143000"/>
                    <a:ext cx="1984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3036960" y="4346640"/>
            <a:ext cx="3946320" cy="20383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066680" y="6308640"/>
            <a:ext cx="8077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ltra High Speed - Full Process Color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Exceptional Quality – Fully Varia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siness Opportunity of Digital Prin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industry needs to focus on the business opportunity of digital printing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550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Not cost to print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550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Direct mail generates 4X revenue per 1000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550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Newspapers are ideal advertising vehicle because they are read, while DM is often thrown away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550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Relevant, customized content yields longer reading duration, higher retention and higher response rates (for advertising)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mmary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 - Why digital newspaper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12682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marL="457200" indent="-457200">
              <a:spcBef>
                <a:spcPts val="451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66"/>
                </a:solidFill>
                <a:latin typeface="Arial"/>
                <a:ea typeface="Arial"/>
              </a:rPr>
              <a:t>Computer-to-Print Technology</a:t>
            </a:r>
            <a:r>
              <a:rPr b="0" lang="en-AU" sz="1800" spc="-1" strike="noStrike">
                <a:solidFill>
                  <a:srgbClr val="000066"/>
                </a:solidFill>
                <a:latin typeface="Arial"/>
                <a:ea typeface="Arial"/>
              </a:rPr>
              <a:t> – dynamic imaging proces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66"/>
                </a:solidFill>
                <a:latin typeface="Arial"/>
                <a:ea typeface="Arial"/>
              </a:rPr>
              <a:t>Customization of content – </a:t>
            </a:r>
            <a:r>
              <a:rPr b="0" lang="en-AU" sz="1800" spc="-1" strike="noStrike">
                <a:solidFill>
                  <a:srgbClr val="000066"/>
                </a:solidFill>
                <a:latin typeface="Arial"/>
                <a:ea typeface="Arial"/>
              </a:rPr>
              <a:t>variable data on every pa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66"/>
                </a:solidFill>
                <a:latin typeface="Arial"/>
                <a:ea typeface="Arial"/>
              </a:rPr>
              <a:t>New business opportunities – </a:t>
            </a:r>
            <a:r>
              <a:rPr b="0" lang="en-AU" sz="1800" spc="-1" strike="noStrike">
                <a:solidFill>
                  <a:srgbClr val="000066"/>
                </a:solidFill>
                <a:latin typeface="Arial"/>
                <a:ea typeface="Arial"/>
              </a:rPr>
              <a:t>hyperlocal, micromarketing, newsprom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66"/>
                </a:solidFill>
                <a:latin typeface="Arial"/>
                <a:ea typeface="Arial"/>
              </a:rPr>
              <a:t>Simplified workflow – </a:t>
            </a:r>
            <a:r>
              <a:rPr b="0" lang="en-AU" sz="1800" spc="-1" strike="noStrike">
                <a:solidFill>
                  <a:srgbClr val="000066"/>
                </a:solidFill>
                <a:latin typeface="Arial"/>
                <a:ea typeface="Arial"/>
              </a:rPr>
              <a:t>no plates, no change-over times, no wasta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66"/>
                </a:solidFill>
                <a:latin typeface="Arial"/>
                <a:ea typeface="Arial"/>
              </a:rPr>
              <a:t>Color where you want it – </a:t>
            </a:r>
            <a:r>
              <a:rPr b="0" lang="en-AU" sz="1800" spc="-1" strike="noStrike">
                <a:solidFill>
                  <a:srgbClr val="000066"/>
                </a:solidFill>
                <a:latin typeface="Arial"/>
                <a:ea typeface="Arial"/>
              </a:rPr>
              <a:t>no plat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66"/>
                </a:solidFill>
                <a:latin typeface="Arial"/>
                <a:ea typeface="Arial"/>
              </a:rPr>
              <a:t>Logistics savings – </a:t>
            </a:r>
            <a:r>
              <a:rPr b="0" lang="en-AU" sz="1800" spc="-1" strike="noStrike">
                <a:solidFill>
                  <a:srgbClr val="000066"/>
                </a:solidFill>
                <a:latin typeface="Arial"/>
                <a:ea typeface="Arial"/>
              </a:rPr>
              <a:t>through distribute and print mod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66"/>
                </a:solidFill>
                <a:latin typeface="Arial"/>
                <a:ea typeface="Arial"/>
              </a:rPr>
              <a:t>Late news – </a:t>
            </a:r>
            <a:r>
              <a:rPr b="0" lang="en-AU" sz="1800" spc="-1" strike="noStrike">
                <a:solidFill>
                  <a:srgbClr val="000066"/>
                </a:solidFill>
                <a:latin typeface="Arial"/>
                <a:ea typeface="Arial"/>
              </a:rPr>
              <a:t>can run almost immediatel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66"/>
                </a:solidFill>
                <a:latin typeface="Arial"/>
                <a:ea typeface="Arial"/>
              </a:rPr>
              <a:t>Late advertising</a:t>
            </a:r>
            <a:r>
              <a:rPr b="0" lang="en-AU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AU" sz="18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AU" sz="1800" spc="-1" strike="noStrike">
                <a:solidFill>
                  <a:srgbClr val="000066"/>
                </a:solidFill>
                <a:latin typeface="Arial"/>
                <a:ea typeface="Arial"/>
              </a:rPr>
              <a:t> changes, classifieds etc. accepted right up to press ti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324000" y="4941720"/>
            <a:ext cx="2447640" cy="16513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281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580000" y="4941720"/>
            <a:ext cx="2448000" cy="16513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2916360" y="4941720"/>
            <a:ext cx="2519280" cy="16513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é Leads in Complex Manufacturing Environ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696440" cy="195588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cé customers expect efficient and reliable solutions matched with premium customer servi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e look forward to working together with you to transform the Newspaper industry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493560" y="3070080"/>
            <a:ext cx="4718160" cy="33703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027760" y="3189240"/>
            <a:ext cx="31129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Lightning Sour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0+ systems producing 3+ billion pag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Thanks for your attention!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317080" y="338040"/>
            <a:ext cx="550800" cy="776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943360" y="1717560"/>
            <a:ext cx="2571480" cy="26067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371680" y="4659480"/>
            <a:ext cx="371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ndrew Gordo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anager, Business Intelligenc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cé North Americ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ndrew.gordon@oce.com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onsoring Thought Leadership Activ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772400" cy="535968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usiness development activities, such as efforts to develop digital newspaper busine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550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Océ</a:t>
            </a:r>
            <a:r>
              <a:rPr b="0" lang="de-DE" sz="2200" spc="-1" strike="noStrike">
                <a:solidFill>
                  <a:srgbClr val="000066"/>
                </a:solidFill>
                <a:latin typeface="Arial"/>
              </a:rPr>
              <a:t> Digital Newspaper Network (DNN) - 2001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550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WAN, NAA, NEXPO, ING, etc…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550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Global Conference on the Individuated Newspaper - June 2008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2" marL="1028880" indent="-324000">
              <a:spcBef>
                <a:spcPts val="499"/>
              </a:spcBef>
              <a:buClr>
                <a:srgbClr val="000066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 conjunction with MediaNews Group and Accrisof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28880" indent="-324000">
              <a:spcBef>
                <a:spcPts val="499"/>
              </a:spcBef>
              <a:buClr>
                <a:srgbClr val="000066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cused on content creation input, processing and outpu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550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Individuated Newspaper Roundtable - January 2009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2" marL="1028880" indent="-324000">
              <a:spcBef>
                <a:spcPts val="499"/>
              </a:spcBef>
              <a:buClr>
                <a:srgbClr val="000066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reate synergies with thought leaders and visionaries, publishers, print providers to develop new profitable applications and business model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160" y="4147920"/>
            <a:ext cx="6476760" cy="749160"/>
          </a:xfrm>
          <a:prstGeom prst="rect">
            <a:avLst/>
          </a:prstGeom>
          <a:solidFill>
            <a:srgbClr val="e9132f"/>
          </a:solidFill>
          <a:ln w="0">
            <a:noFill/>
          </a:ln>
        </p:spPr>
        <p:txBody>
          <a:bodyPr lIns="73080" rIns="90000" tIns="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dustry Trends and Opportunit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31360" y="5589720"/>
            <a:ext cx="6481800" cy="91440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ustry Under Thre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473720" cy="54151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ad ne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Paid circulation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↓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Weekly readership ↓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Newspaper advertising spend ↓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Classifieds ↓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Margins and profitability ↓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Internet advertising spend ↑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Good ne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Online newspapers - percent of internet advertising ↑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Direct mail revenues ↑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Growth in free weeklies and niche products↑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373720" y="1365120"/>
            <a:ext cx="2438280" cy="45608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396040" y="6008760"/>
            <a:ext cx="244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Source: TNS Media Intelligence, 9/24/08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int Moving From Quantity to Qua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Universal view that newspapers will be smaller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99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Few pag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99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maller circulation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99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maller forma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99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Fewer days – not an issu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Most publishers seeing NPD as a solution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99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Niche products a major agenda ite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99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ommunity edition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99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Free daili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99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pecialist publishing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Gannett, Cox, Morris leading drive for new print produc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5840" y="6002280"/>
            <a:ext cx="671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Source: 2008, The Future of the North American Newspaper Industry,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rint Industries Market Information and Research Organization (PRIMIR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hallen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f you could distribute internationally and print locally?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f you could use the same techniques of personalized messaging that you find on the web?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f you could produce customized newspapers for each neighborhood or special interest group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f you could compete with Direct Mail and earn 4X your typical cost per thousand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99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ould you?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99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hat’s stopping you?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08640" y="4986360"/>
            <a:ext cx="2379600" cy="15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Do You Do Tha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53420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 traditional press isn’t really designed to do either short runs or variable content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92000" y="2541600"/>
            <a:ext cx="2784600" cy="406872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730760" y="2093760"/>
            <a:ext cx="4425840" cy="476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Océ Business Development Program: Digital Newspaper Network (DNN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9280" y="1268280"/>
            <a:ext cx="1459080" cy="27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New York Times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Guardian/Ob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Nikkei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NZZ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Borsen Dagblad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Borsen Zietung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L’Agefi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Sydney Morning Herald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LA Times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International Herald Tribun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Arial"/>
              </a:rPr>
              <a:t>Daily Telegraph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Arial"/>
              </a:rPr>
              <a:t>Globe and Mail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Arial"/>
              </a:rPr>
              <a:t>Handelsblatt „News am Abend“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Arial"/>
              </a:rPr>
              <a:t>Wall Street Journal Europ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572000" y="2457360"/>
            <a:ext cx="4370400" cy="3807000"/>
            <a:chOff x="4572000" y="2457360"/>
            <a:chExt cx="4370400" cy="3807000"/>
          </a:xfrm>
        </p:grpSpPr>
        <p:pic>
          <p:nvPicPr>
            <p:cNvPr id="218" name="" descr=""/>
            <p:cNvPicPr/>
            <p:nvPr/>
          </p:nvPicPr>
          <p:blipFill>
            <a:blip r:embed="rId1"/>
            <a:stretch/>
          </p:blipFill>
          <p:spPr>
            <a:xfrm>
              <a:off x="4572000" y="2457360"/>
              <a:ext cx="4370400" cy="380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2"/>
            <a:stretch/>
          </p:blipFill>
          <p:spPr>
            <a:xfrm>
              <a:off x="5256000" y="2457360"/>
              <a:ext cx="3491640" cy="380700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220" name=""/>
          <p:cNvCxnSpPr>
            <a:stCxn id="221" idx="3"/>
            <a:endCxn id="222" idx="0"/>
          </p:cNvCxnSpPr>
          <p:nvPr/>
        </p:nvCxnSpPr>
        <p:spPr>
          <a:xfrm>
            <a:off x="5360760" y="2692440"/>
            <a:ext cx="151560" cy="1007280"/>
          </a:xfrm>
          <a:prstGeom prst="straightConnector1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21" idx="3"/>
            <a:endCxn id="224" idx="0"/>
          </p:cNvCxnSpPr>
          <p:nvPr/>
        </p:nvCxnSpPr>
        <p:spPr>
          <a:xfrm>
            <a:off x="5361120" y="2692440"/>
            <a:ext cx="3224880" cy="753120"/>
          </a:xfrm>
          <a:prstGeom prst="straightConnector1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21" idx="3"/>
            <a:endCxn id="226" idx="0"/>
          </p:cNvCxnSpPr>
          <p:nvPr/>
        </p:nvCxnSpPr>
        <p:spPr>
          <a:xfrm>
            <a:off x="5360760" y="2692440"/>
            <a:ext cx="1167480" cy="2378880"/>
          </a:xfrm>
          <a:prstGeom prst="straightConnector1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1" idx="3"/>
            <a:endCxn id="228" idx="1"/>
          </p:cNvCxnSpPr>
          <p:nvPr/>
        </p:nvCxnSpPr>
        <p:spPr>
          <a:xfrm>
            <a:off x="5361120" y="2692080"/>
            <a:ext cx="977040" cy="492840"/>
          </a:xfrm>
          <a:prstGeom prst="straightConnector1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1535040" y="1241280"/>
            <a:ext cx="1295640" cy="365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Publisher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35040" y="1851120"/>
            <a:ext cx="1295640" cy="365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Publisher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35040" y="2496960"/>
            <a:ext cx="1295640" cy="365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Publisher 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35040" y="3070080"/>
            <a:ext cx="1295640" cy="365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Publisher 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35040" y="3679920"/>
            <a:ext cx="1295640" cy="365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Publisher 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830320" y="1423800"/>
            <a:ext cx="1067040" cy="2438640"/>
            <a:chOff x="2830320" y="1423800"/>
            <a:chExt cx="1067040" cy="2438640"/>
          </a:xfrm>
        </p:grpSpPr>
        <p:cxnSp>
          <p:nvCxnSpPr>
            <p:cNvPr id="235" name=""/>
            <p:cNvCxnSpPr>
              <a:stCxn id="229" idx="3"/>
              <a:endCxn id="221" idx="1"/>
            </p:cNvCxnSpPr>
            <p:nvPr/>
          </p:nvCxnSpPr>
          <p:spPr>
            <a:xfrm>
              <a:off x="2830320" y="1423800"/>
              <a:ext cx="1067400" cy="126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</p:cxnSp>
        <p:cxnSp>
          <p:nvCxnSpPr>
            <p:cNvPr id="236" name=""/>
            <p:cNvCxnSpPr>
              <a:stCxn id="233" idx="3"/>
              <a:endCxn id="221" idx="1"/>
            </p:cNvCxnSpPr>
            <p:nvPr/>
          </p:nvCxnSpPr>
          <p:spPr>
            <a:xfrm flipV="1">
              <a:off x="2830320" y="2685600"/>
              <a:ext cx="1067400" cy="1177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</p:cxnSp>
        <p:cxnSp>
          <p:nvCxnSpPr>
            <p:cNvPr id="237" name=""/>
            <p:cNvCxnSpPr>
              <a:stCxn id="232" idx="3"/>
              <a:endCxn id="221" idx="1"/>
            </p:cNvCxnSpPr>
            <p:nvPr/>
          </p:nvCxnSpPr>
          <p:spPr>
            <a:xfrm flipV="1">
              <a:off x="2830320" y="2685240"/>
              <a:ext cx="1067400" cy="567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</p:cxnSp>
        <p:cxnSp>
          <p:nvCxnSpPr>
            <p:cNvPr id="238" name=""/>
            <p:cNvCxnSpPr>
              <a:stCxn id="231" idx="3"/>
              <a:endCxn id="221" idx="1"/>
            </p:cNvCxnSpPr>
            <p:nvPr/>
          </p:nvCxnSpPr>
          <p:spPr>
            <a:xfrm>
              <a:off x="2830320" y="2679480"/>
              <a:ext cx="1067400" cy="6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</p:cxnSp>
        <p:cxnSp>
          <p:nvCxnSpPr>
            <p:cNvPr id="239" name=""/>
            <p:cNvCxnSpPr>
              <a:stCxn id="230" idx="3"/>
              <a:endCxn id="221" idx="1"/>
            </p:cNvCxnSpPr>
            <p:nvPr/>
          </p:nvCxnSpPr>
          <p:spPr>
            <a:xfrm>
              <a:off x="2830320" y="2033640"/>
              <a:ext cx="1067400" cy="653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</p:cxnSp>
      </p:grpSp>
      <p:sp>
        <p:nvSpPr>
          <p:cNvPr id="221" name=""/>
          <p:cNvSpPr/>
          <p:nvPr/>
        </p:nvSpPr>
        <p:spPr>
          <a:xfrm>
            <a:off x="3884760" y="2340000"/>
            <a:ext cx="1476360" cy="704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e9132f"/>
                </a:solidFill>
                <a:latin typeface="Arial"/>
              </a:rPr>
              <a:t>Océ DN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21" idx="3"/>
            <a:endCxn id="241" idx="0"/>
          </p:cNvCxnSpPr>
          <p:nvPr/>
        </p:nvCxnSpPr>
        <p:spPr>
          <a:xfrm>
            <a:off x="5361120" y="2692080"/>
            <a:ext cx="3072240" cy="2785320"/>
          </a:xfrm>
          <a:prstGeom prst="straightConnector1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</p:cxnSp>
      <p:grpSp>
        <p:nvGrpSpPr>
          <p:cNvPr id="242" name=""/>
          <p:cNvGrpSpPr/>
          <p:nvPr/>
        </p:nvGrpSpPr>
        <p:grpSpPr>
          <a:xfrm>
            <a:off x="6337440" y="3063960"/>
            <a:ext cx="1117440" cy="644040"/>
            <a:chOff x="6337440" y="3063960"/>
            <a:chExt cx="1117440" cy="644040"/>
          </a:xfrm>
        </p:grpSpPr>
        <p:sp>
          <p:nvSpPr>
            <p:cNvPr id="228" name=""/>
            <p:cNvSpPr/>
            <p:nvPr/>
          </p:nvSpPr>
          <p:spPr>
            <a:xfrm>
              <a:off x="6337440" y="3063960"/>
              <a:ext cx="1117440" cy="23976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Print Site 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37440" y="3283560"/>
              <a:ext cx="1117440" cy="25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istributor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37440" y="3503160"/>
              <a:ext cx="1117440" cy="2048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00ff"/>
                </a:gs>
                <a:gs pos="100000">
                  <a:srgbClr val="3333cc"/>
                </a:gs>
              </a:gsLst>
              <a:lin ang="81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Reader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969160" y="5070600"/>
            <a:ext cx="1117440" cy="644040"/>
            <a:chOff x="5969160" y="5070600"/>
            <a:chExt cx="1117440" cy="644040"/>
          </a:xfrm>
        </p:grpSpPr>
        <p:sp>
          <p:nvSpPr>
            <p:cNvPr id="226" name=""/>
            <p:cNvSpPr/>
            <p:nvPr/>
          </p:nvSpPr>
          <p:spPr>
            <a:xfrm>
              <a:off x="5969160" y="5070600"/>
              <a:ext cx="1117440" cy="2397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Print Site 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969160" y="5290200"/>
              <a:ext cx="1117440" cy="25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istributor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69160" y="5509800"/>
              <a:ext cx="1117440" cy="2048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00ff"/>
                </a:gs>
                <a:gs pos="100000">
                  <a:srgbClr val="3333cc"/>
                </a:gs>
              </a:gsLst>
              <a:lin ang="81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Reader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7873920" y="5477040"/>
            <a:ext cx="1117800" cy="644040"/>
            <a:chOff x="7873920" y="5477040"/>
            <a:chExt cx="1117800" cy="644040"/>
          </a:xfrm>
        </p:grpSpPr>
        <p:sp>
          <p:nvSpPr>
            <p:cNvPr id="241" name=""/>
            <p:cNvSpPr/>
            <p:nvPr/>
          </p:nvSpPr>
          <p:spPr>
            <a:xfrm>
              <a:off x="7873920" y="5477040"/>
              <a:ext cx="1117800" cy="2397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Print Site 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873920" y="5696640"/>
              <a:ext cx="1117800" cy="25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istributor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73920" y="5916240"/>
              <a:ext cx="1117800" cy="2048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00ff"/>
                </a:gs>
                <a:gs pos="100000">
                  <a:srgbClr val="3333cc"/>
                </a:gs>
              </a:gsLst>
              <a:lin ang="81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Reader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8026560" y="3444840"/>
            <a:ext cx="1117440" cy="644040"/>
            <a:chOff x="8026560" y="3444840"/>
            <a:chExt cx="1117440" cy="644040"/>
          </a:xfrm>
        </p:grpSpPr>
        <p:sp>
          <p:nvSpPr>
            <p:cNvPr id="224" name=""/>
            <p:cNvSpPr/>
            <p:nvPr/>
          </p:nvSpPr>
          <p:spPr>
            <a:xfrm>
              <a:off x="8026560" y="3444840"/>
              <a:ext cx="1117440" cy="2397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Print Site 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26560" y="3664440"/>
              <a:ext cx="1117440" cy="25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istributor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26560" y="3884040"/>
              <a:ext cx="1117440" cy="2048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00ff"/>
                </a:gs>
                <a:gs pos="100000">
                  <a:srgbClr val="3333cc"/>
                </a:gs>
              </a:gsLst>
              <a:lin ang="81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Reader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952880" y="3699000"/>
            <a:ext cx="1117800" cy="644040"/>
            <a:chOff x="4952880" y="3699000"/>
            <a:chExt cx="1117800" cy="644040"/>
          </a:xfrm>
        </p:grpSpPr>
        <p:sp>
          <p:nvSpPr>
            <p:cNvPr id="222" name=""/>
            <p:cNvSpPr/>
            <p:nvPr/>
          </p:nvSpPr>
          <p:spPr>
            <a:xfrm>
              <a:off x="4952880" y="3699000"/>
              <a:ext cx="1117800" cy="2397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Print Site 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952880" y="3918600"/>
              <a:ext cx="1117800" cy="25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istributor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52880" y="4138200"/>
              <a:ext cx="1117800" cy="2048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00ff"/>
                </a:gs>
                <a:gs pos="100000">
                  <a:srgbClr val="3333cc"/>
                </a:gs>
              </a:gsLst>
              <a:lin ang="81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Reader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324000" y="5045040"/>
            <a:ext cx="4176720" cy="121932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90000" tIns="0" bIns="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6 sites operational worldwide </a:t>
            </a:r>
            <a:r>
              <a:rPr b="1" lang="de-DE" sz="1600" spc="-1" strike="noStrike">
                <a:solidFill>
                  <a:srgbClr val="000066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15 newspaper titl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~5.000 copies per da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43280" y="6524640"/>
            <a:ext cx="55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Arial"/>
              </a:rPr>
              <a:t>* DNN Print Sites: Sydney, Singapore, Zurich, London, NYC, L.A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92360" y="201312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66"/>
                </a:solidFill>
                <a:latin typeface="Arial"/>
              </a:rPr>
              <a:t>Facilitator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712296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cé Solutions for Newspaper Prod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43280" y="1270080"/>
            <a:ext cx="5688000" cy="54720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66"/>
                </a:solidFill>
                <a:latin typeface="Arial"/>
              </a:rPr>
              <a:t>Entry solution – sheet-fed presses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99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2110, 3165, 8465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99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Océ CS seri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99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Océ VarioPrint 6000 seri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66"/>
                </a:solidFill>
                <a:latin typeface="Arial"/>
              </a:rPr>
              <a:t>Mid-volume solution – web-fed presses (Electrophotography)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99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Océ VarioStream 7000/8000 seri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99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Océ VarioStream 9000 seri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99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Océ ColorStream 1000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e9132f"/>
                </a:solidFill>
                <a:latin typeface="Arial"/>
              </a:rPr>
              <a:t>NEW !</a:t>
            </a:r>
            <a:r>
              <a:rPr b="1" lang="de-DE" sz="2200" spc="-1" strike="noStrike">
                <a:solidFill>
                  <a:srgbClr val="000066"/>
                </a:solidFill>
                <a:latin typeface="Arial"/>
              </a:rPr>
              <a:t> High-volume solution – </a:t>
            </a:r>
            <a:br>
              <a:rPr sz="2200"/>
            </a:br>
            <a:r>
              <a:rPr b="1" lang="de-DE" sz="2200" spc="-1" strike="noStrike">
                <a:solidFill>
                  <a:srgbClr val="000066"/>
                </a:solidFill>
                <a:latin typeface="Arial"/>
              </a:rPr>
              <a:t>inkjet web-fed presses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99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Océ JetStream famil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rcRect l="7204" t="0" r="24492" b="0"/>
          <a:stretch/>
        </p:blipFill>
        <p:spPr>
          <a:xfrm>
            <a:off x="395280" y="3141720"/>
            <a:ext cx="1800360" cy="9381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95280" y="4076640"/>
            <a:ext cx="1512720" cy="8524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396720" y="1987560"/>
            <a:ext cx="1295640" cy="7999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395280" y="1320840"/>
            <a:ext cx="1008000" cy="592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393840" y="5373720"/>
            <a:ext cx="2377800" cy="11523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50920" y="2852640"/>
            <a:ext cx="79930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0920" y="5013360"/>
            <a:ext cx="79930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5:49:39Z</dcterms:created>
  <dc:creator>gordona</dc:creator>
  <dc:description/>
  <dc:language>en-US</dc:language>
  <cp:lastModifiedBy>Mary Van Meter</cp:lastModifiedBy>
  <cp:lastPrinted>2008-09-29T16:36:28Z</cp:lastPrinted>
  <dcterms:modified xsi:type="dcterms:W3CDTF">2008-09-29T16:38:16Z</dcterms:modified>
  <cp:revision>17</cp:revision>
  <dc:subject/>
  <dc:title>Slide 1</dc:title>
</cp:coreProperties>
</file>