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6FB-2B58-45B0-9E7C-A54A58D8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2C9-4EFE-47B9-83ED-C77B3E94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92C-4B8C-408C-BFC2-9C89A1BB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EE3-1513-4DE9-AE65-8573B8ED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C8F2-8BD5-4043-8489-9FC8025C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E745-4877-422C-88A4-3BD173E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B8DA-EFC3-4F24-85B6-32145B03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A690-51ED-4577-A9D6-91446D4C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0ED6-1CD8-4E5E-AF8F-E641D92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2A8C-C0BE-4FDE-9A7A-61894B6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24F0-5D41-4831-A7ED-BB1A336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5E3-5830-4FB2-9B93-7A6D288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087B-A2E9-41AE-935C-CFD0F4E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70A8-738E-4D2C-9271-9C2C7005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0AB1-E50C-451F-B81E-8B4F9F54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E996-0946-4B03-AC27-8C6987DC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8CC3-1B47-463A-B03A-E9CFCCCE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B10-E0D1-4DC9-B036-B86D63F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2B8-A6AB-49DE-8D52-4FBD3A8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9E1-DAE1-42DC-A169-C2181433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62F-3346-4FE5-87DA-AF9E613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918-5554-486E-B843-D90DB03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331-CE90-4E38-B550-8D802D4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9A4-A5EE-418E-B26C-7E3258C2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7358-3309-4100-8D22-EFF7FAE7A2FD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28FD-85B3-4FA3-936F-5B187A59F80F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382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Dr. Sasitorn Roojanavec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           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RN., Ph.D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          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Sep, 7, 2013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535_51885"/>
          <p:cNvPicPr/>
          <p:nvPr/>
        </p:nvPicPr>
        <p:blipFill>
          <a:blip r:embed="rId2"/>
          <a:stretch/>
        </p:blipFill>
        <p:spPr>
          <a:xfrm>
            <a:off x="755640" y="2637000"/>
            <a:ext cx="1770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506520" y="2279520"/>
            <a:ext cx="7888320" cy="2676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rinciples of community participation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822240" y="2279520"/>
            <a:ext cx="7572600" cy="267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ethods of particip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822240" y="2279520"/>
            <a:ext cx="7572600" cy="2670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articipation ladder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755640" y="907920"/>
            <a:ext cx="7561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4. for material incentives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5. functional participation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6. interactive participation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7. self - mobi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11280" y="4365720"/>
            <a:ext cx="756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Note : people can participate any level as r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79376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84360" y="33336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971640" y="1773360"/>
            <a:ext cx="7561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90720" indent="-9907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. Feel ownership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. Compliance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3. commit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11280" y="1125360"/>
            <a:ext cx="820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unity Health Nurse’s rol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50920" y="2060640"/>
            <a:ext cx="842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90720" indent="-9907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. Mediator/Negotia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90720" indent="-9907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. Change ag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Calibri"/>
              </a:rPr>
              <a:t>Thank you for your att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9" name="Picture 3" descr="DSC00409_resize"/>
          <p:cNvPicPr/>
          <p:nvPr/>
        </p:nvPicPr>
        <p:blipFill>
          <a:blip r:embed="rId1"/>
          <a:stretch/>
        </p:blipFill>
        <p:spPr>
          <a:xfrm>
            <a:off x="2556000" y="2205000"/>
            <a:ext cx="4464000" cy="392112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0BD5-37E0-4954-9452-8FBDC476E2CB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360360" y="596880"/>
            <a:ext cx="74613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276640"/>
            <a:ext cx="70563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Community  particip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26920" y="3500280"/>
            <a:ext cx="777744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. Process related to community action and mass population to join community development pro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255600" y="63972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55640" y="1773000"/>
            <a:ext cx="7416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2.  give chances of people to participate in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26920" y="3284640"/>
            <a:ext cx="748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reating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ecison making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on / intervention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nd responsi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11280" y="692280"/>
            <a:ext cx="28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3.  process that let people participate in critical thinking, decison making, solving their own problems, using appropiate Technolog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611280" y="692280"/>
            <a:ext cx="28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4.  participation  in decision making process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5.  willing to do / volunteer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6.  assure continuity to project developmen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11280" y="69228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y participate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1. human resources development, people can realize critical thinking, solving the problem, personality, group working and people attitudes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.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holistic development and happines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676440" y="2255760"/>
            <a:ext cx="7211880" cy="2913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39640" y="69228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How to particip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684360" y="476280"/>
            <a:ext cx="7632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. by individual, group of people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3. formal group or informal group.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4. be a partner or colleagu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609480" y="2127240"/>
            <a:ext cx="7858080" cy="3621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rocess of participation and steps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3:06:23Z</dcterms:created>
  <dc:creator>Window Xp</dc:creator>
  <dc:description/>
  <dc:language>en-US</dc:language>
  <cp:lastModifiedBy>iLLuSioN</cp:lastModifiedBy>
  <dcterms:modified xsi:type="dcterms:W3CDTF">2013-09-16T12:16:07Z</dcterms:modified>
  <cp:revision>23</cp:revision>
  <dc:subject/>
  <dc:title>การมีส่วนร่วมของชุมชน (Community participatio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