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8CD-00CC-4DAD-8D5C-0E8854F0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8A8-CAD1-4360-BD86-A883592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999-355C-4E86-84DE-1EBE9E42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3FD-8E68-44FD-9735-DD0C3A00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E6C-5E2A-48B1-99B8-6A3DA30C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503-9259-4CCA-9480-C161D9D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C50-6F59-4B25-8705-C4A2D44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39C-4426-4267-88E5-05AB35D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04E-CE87-4C64-A206-A99397C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1825-01CF-4F60-B184-E7574D6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ECED-8001-4F4C-AEDD-EE803A5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23D-D6E3-40A0-A6BB-2DEAEA3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5531-C584-489F-8D11-4E9B451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3487-B2FE-4CBE-9426-C982B57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F12-2997-464B-8527-046CA1E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CBFC-F629-48A0-AA3B-15409EE9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DCF-DAB7-4730-A105-E0DBE87D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D7B-D8A4-45B3-B165-819AB068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684-311B-41A0-A819-57B0D652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AE4-83F4-43A8-A7FC-4B5E0B8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F60-82A1-4F69-82F9-4F64C05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F6E-D9E9-4935-9C9E-34B3EA75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2F8-95D5-4ECA-BFFB-E6BB466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A77-2559-4A86-9FB2-07934B8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4CBF-4B13-477D-8D2A-372DC326E6F1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1CC-AE3A-4275-B049-DD85F20632E4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382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Dr. Sasitorn Roojanavec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           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RN., Ph.D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                                    </a:t>
            </a:r>
            <a:r>
              <a:rPr b="1" lang="en-US" sz="3200" spc="-1" strike="noStrike">
                <a:solidFill>
                  <a:srgbClr val="ff0066"/>
                </a:solidFill>
                <a:latin typeface="Constantia"/>
              </a:rPr>
              <a:t>Sep, 7, 2013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535_51885"/>
          <p:cNvPicPr/>
          <p:nvPr/>
        </p:nvPicPr>
        <p:blipFill>
          <a:blip r:embed="rId2"/>
          <a:stretch/>
        </p:blipFill>
        <p:spPr>
          <a:xfrm>
            <a:off x="755640" y="2637000"/>
            <a:ext cx="1770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506520" y="2279520"/>
            <a:ext cx="7888320" cy="26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rinciples of community participation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822240" y="2279520"/>
            <a:ext cx="7572600" cy="26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ethods of particip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822240" y="2279520"/>
            <a:ext cx="7572600" cy="2670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articipation ladder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755640" y="907920"/>
            <a:ext cx="7561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4. for material incentives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5. functional participation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6. interactive participation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7. self - mobi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11280" y="4365720"/>
            <a:ext cx="756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Note : people can participate any level as r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937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84360" y="33336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71640" y="1773360"/>
            <a:ext cx="7561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Feel ownership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Compliance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3. commit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1280" y="1125360"/>
            <a:ext cx="820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unity Health Nurse’s ro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50920" y="2060640"/>
            <a:ext cx="842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Mediator/Negotia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90720" indent="-99072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Change ag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Calibri"/>
              </a:rPr>
              <a:t>Thank you for your atten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Picture 3" descr="DSC00409_resize"/>
          <p:cNvPicPr/>
          <p:nvPr/>
        </p:nvPicPr>
        <p:blipFill>
          <a:blip r:embed="rId1"/>
          <a:stretch/>
        </p:blipFill>
        <p:spPr>
          <a:xfrm>
            <a:off x="2556000" y="2205000"/>
            <a:ext cx="4464000" cy="392112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5541-FD7F-45E5-A4BE-C7703FA03060}" type="slidenum">
              <a:rPr b="0" lang="en-US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60360" y="596880"/>
            <a:ext cx="74613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0563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Community  particip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26920" y="3500280"/>
            <a:ext cx="777744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. Process related to community action and mass population to join community development pro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255600" y="63972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55640" y="1773000"/>
            <a:ext cx="7416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.  give chances of people to participate in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26920" y="3284640"/>
            <a:ext cx="7488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reating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ecison making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on / intervention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nd responsi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11280" y="692280"/>
            <a:ext cx="28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3.  process that let people participate in critical thinking, decison making, solving their own problems, using appropiate Technolog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611280" y="692280"/>
            <a:ext cx="28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4.  participation  in decision making process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5.  willing to do / volunteer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6.  assure continuity to project developmen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11280" y="69228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y participate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1. human resources development, people can realize critical thinking, solving the problem, personality, group working and people attitudes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th-TH" sz="4000" spc="-1" strike="noStrike">
                <a:solidFill>
                  <a:srgbClr val="0033cc"/>
                </a:solidFill>
                <a:latin typeface="Times New Roman"/>
              </a:rPr>
              <a:t>.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holistic development and happines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676440" y="2255760"/>
            <a:ext cx="7211880" cy="2913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39640" y="69228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How to particip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684360" y="476280"/>
            <a:ext cx="7632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. by individual, group of people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3. formal group or informal group.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4. be a partner or colleagu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609480" y="2127240"/>
            <a:ext cx="7858080" cy="3621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611280" y="692280"/>
            <a:ext cx="75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rocess of participation and steps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3:06:23Z</dcterms:created>
  <dc:creator>Window Xp</dc:creator>
  <dc:description/>
  <dc:language>en-US</dc:language>
  <cp:lastModifiedBy>iLLuSioN</cp:lastModifiedBy>
  <dcterms:modified xsi:type="dcterms:W3CDTF">2013-09-16T12:16:07Z</dcterms:modified>
  <cp:revision>23</cp:revision>
  <dc:subject/>
  <dc:title>การมีส่วนร่วมของชุมชน (Community participa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