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2.png" ContentType="image/png"/>
  <Override PartName="/ppt/media/image1.jpeg" ContentType="image/jpeg"/>
  <Override PartName="/ppt/media/image20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99FF-0638-40BD-8316-4D01DAC0460D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D135-A5EB-412B-9A8D-FE43C614B9CD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17C4-ED21-4C16-BF17-8223F01620EB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6D3D-4570-42FE-BA4C-6B108F0714A1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0747-5A91-4E8F-97C1-BA1A1866BDAC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A479-B491-475F-89B8-5EF2FDB92F72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31A1-C863-4802-82B1-28A99FD1B429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6218-036E-452B-B793-1B0D82064B52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53C4-9FF5-4728-A7C8-EEB7010019DB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B70F-637B-41B3-935E-0236114B82A3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B7F8-002F-4607-8BB9-AE9BC21A3581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85C8-C5D3-4004-B382-E959683E48EE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6062-0E92-4D07-8392-BBC5E636A2A3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99A6-0201-462F-AAE6-C36754A0620B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32B0-B1A4-468E-9115-F707606B4F56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8B9C-54E6-4683-BBF6-6C4CFAFB1F62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2567-394F-4C16-9E81-2A48D8CE240C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B435-659F-4102-876F-D4562EE1856F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58B3-8302-46B9-9BA4-89DD81A99C26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1634-51D5-457E-84A4-F8D376C73ACA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E5DF-F2EC-47E9-BD2A-82494BA45B35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5D88-35F5-4F28-8476-7BBEBA3862FD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1367-32C2-4491-9131-5C0DAFAE1E68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253F-490B-4B9C-AE4B-70792E1AB31C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F017-C426-4080-BCFB-09D650894455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A2F9-CCDF-4A1E-B03C-69B8310AD8BC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372D-EB77-4367-B996-3CA8B62DFA72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4601-98DF-4864-B31B-3A3A6A770D61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FB0F-D2B3-44E8-BF70-C213B15A0AF8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4FE5-DA1A-4755-9FF1-31C2A0D973CF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8872-97A8-4243-A0D8-01A301211F05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6BBC-A01C-45DE-903F-423277DB6A8E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3EC0-97BD-44DB-9D2A-962BB52E9824}" type="slidenum">
              <a:rPr b="0" lang="id-ID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8C99-24FC-4615-A262-9BF37E6B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A291-0AA0-4F30-9CAF-41DF108F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FA6-652A-41B5-BFE5-D2C80033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3D0-A38B-4552-A0E3-B8C48185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D2F3-FB7B-4F22-82C7-B0D432C7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3643-6456-4DFC-A2AF-00EDEB14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F4E4-D3D8-41CA-BBA4-4838F3C4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A14B-5371-4C6B-817D-4CB9EBAE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6B31-4CE6-4998-ABC8-7F35D1D8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A7C0-19A5-49C4-8938-63476F44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8E44-5559-4C45-B25C-CDBC661C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F70D-D371-48AD-952E-05902098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3B7E-39FD-4064-8D24-FC8AAC2B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7C8F-3FCC-4929-ACF5-63088E3F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54FE-FA06-4276-9953-4082200C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C3FE-93B7-4BDD-B6A0-5BF5D789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9D07-5F7E-4B07-BD28-117507B1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844A3-1564-4012-86B5-5D00CC22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4D4DB-F465-4CCE-BF2C-BF88389D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ACBA7-7C8F-4536-BB29-F88F52F3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61722-16A7-4E28-8AEC-AB3A6086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52613-1076-4343-BC1D-9C463BCD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B69-D983-429D-BC0F-8D05A7AE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CF0D3-2652-4E09-9A6C-BC712347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C2A8C-017E-4490-8816-D3C4896A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D50E9-41A1-407D-B211-F4D8D53B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0FAD5-7606-4463-9D74-91ECBBDD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210F3-C37F-4B94-9B28-AA199829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792B9-DB7D-4AD5-AB98-6A54B7ED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B0293-7861-40AC-AD8B-931B55DB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10216-D7F7-4EE7-9D2E-3372A13A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C9E03-B6F6-42CC-B83C-B5DCC6BE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6B8D5-9494-41E3-B93A-DBFD26C7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FDE-60B1-4096-80CC-8C061E5C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21DFC-00F9-4627-B0FA-3A270178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497DC-F43D-4D44-87AF-CA4B1BDF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B6BDA-7D1E-4ABB-BA53-2461C2CA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EF357-77F9-462F-B6CE-6696D491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CB614-01F3-40C6-900D-041CBFD9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99C63-8192-49C0-A27F-6CFE8673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05592-65AA-443B-9BB9-F363C11E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6A0D5-4CEE-4EDF-B18C-5AE3C32C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DEF84-C5D1-4F13-B032-9B473C82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73C18-6084-42C6-9213-F9D1FD1D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5D33-5987-42B2-B096-628019F2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3CB38-F9F2-4164-9F4E-CFFE39DA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B370C-B234-4F61-AAF5-2CC4C040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48B6C-FFC2-46F1-9048-148CC6F1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6BDE3-B39C-4111-AF55-53BC5A49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CE7BD-148E-4AA5-AE34-EECE9B64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75B58-D277-410E-A8F6-E9FC8139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FEC8A-24A2-4F8F-8820-4131D106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94909-5E0A-4C5F-B231-28C6E725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4C730-4C4D-4A6B-AFA4-C90D9164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45880-D32B-4F21-B3D3-EE9AED43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83C-6DFB-45F3-BBD4-B750F666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33C8F-F92D-4531-BA2B-B38756E6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ADFE7-3D71-4FEB-8DAC-FAF9D6CF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B256E-FDF1-4CA1-BFC1-67B94C9A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D1533-8F9B-4240-A00A-2F5722C8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F9B38-F2C4-4B1D-89AA-1353C3CD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892C1-BC3B-48A1-8691-CAB773A7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18984-E5E0-4DF8-9CCA-44D4F488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68FBA-854E-48CE-8C80-842ACDBF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A7BAC-D076-4056-94CA-D862E583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A6053-238C-4E42-8CF7-C880875F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DC8-6FBB-462D-B57C-7259266B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A4940-822E-4A25-AC7D-39AE163C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8BEE6-38F7-412E-8A8F-61DDE2A9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7D4BB-8151-4C86-B0AD-469771DB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8EFF6-2C81-4D0A-9491-93C4A44B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9D852-CD59-43A0-B1A4-1F9A0E8C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FDCB5-7BDB-42F0-B594-166A6B6D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1A33F-2ABF-4187-ADD1-4709152D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DE304-E4C5-4C3D-814F-69350722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7C494-6143-4B78-9B74-1B5F217D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D575C-C60A-49E3-938E-F04C37F0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1709-3E36-4599-A51D-98D3C684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767DE-1BFF-4CC0-B2E2-ED22C312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C536E-B4E7-4EC5-88CD-69E6839A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D9ABC-B983-4457-A8D6-3676DEA1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51492-6B2C-4A0D-B209-FD807168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9838A-0374-40AE-A040-AFF16B98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C50-2919-4788-B1B0-33FC4634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BC8D-9143-49B3-BAAA-76BB236C6AB9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F3D8-1C3D-4831-9183-8D2B075C3ABE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C26D-CBD2-407B-8E10-2E48838487CD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5EA8-5D6E-4A93-91CC-A7D42D38231D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827C-30A1-4910-832A-3F5DCBC19A6B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FB0A-7E63-4892-B22F-B1A25F770ED9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96800" y="1217520"/>
              <a:ext cx="482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68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96800" y="1282320"/>
              <a:ext cx="482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49800" y="1370160"/>
              <a:ext cx="48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687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49800" y="1434960"/>
              <a:ext cx="48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401680" y="1473120"/>
              <a:ext cx="482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68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401680" y="1537920"/>
              <a:ext cx="482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4720-AE76-43B7-8C53-F87399431CAC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5257800" cy="57150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"/>
          <p:cNvSpPr/>
          <p:nvPr/>
        </p:nvSpPr>
        <p:spPr>
          <a:xfrm>
            <a:off x="5386320" y="1371600"/>
            <a:ext cx="371016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Agency FB"/>
              </a:rPr>
              <a:t>EFUSI</a:t>
            </a:r>
            <a:br>
              <a:rPr sz="7200"/>
            </a:br>
            <a:r>
              <a:rPr b="1" lang="en-US" sz="7200" spc="-1" strike="noStrike">
                <a:solidFill>
                  <a:srgbClr val="00ff00"/>
                </a:solidFill>
                <a:latin typeface="Agency FB"/>
              </a:rPr>
              <a:t>PLEURA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33cc"/>
                </a:solidFill>
                <a:latin typeface="Agency FB"/>
              </a:rPr>
              <a:t>Dr. Arimbi,Sp.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33cc"/>
                </a:solidFill>
                <a:latin typeface="Agency FB"/>
              </a:rPr>
              <a:t>Ilmu Penyakit </a:t>
            </a:r>
            <a:r>
              <a:rPr b="1" lang="en-US" sz="2000" spc="-1" strike="noStrike">
                <a:solidFill>
                  <a:srgbClr val="ff33cc"/>
                </a:solidFill>
                <a:latin typeface="Agency FB"/>
              </a:rPr>
              <a:t>Pa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33cc"/>
                </a:solidFill>
                <a:latin typeface="Agency FB"/>
              </a:rPr>
              <a:t>FK  UW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33cc"/>
                </a:solidFill>
                <a:latin typeface="Agency FB"/>
              </a:rPr>
              <a:t>Surabay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afgan_terima kasih cinta 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5715000" cy="76212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gency FB"/>
              </a:rPr>
              <a:t>Pemeriksaan Fisik Efusi Pleura</a:t>
            </a: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0880" y="1599840"/>
            <a:ext cx="876312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Ins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eksi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33cc"/>
                </a:solidFill>
                <a:latin typeface="Agency FB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gency FB"/>
              </a:rPr>
              <a:t>gerak dada sisi sakit tertinggal,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gency FB"/>
              </a:rPr>
              <a:t>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gency FB"/>
              </a:rPr>
              <a:t>dada sisis sakit lebih cembun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Palpasi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33cc"/>
                </a:solidFill>
                <a:latin typeface="Agency FB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Agency FB"/>
              </a:rPr>
              <a:t>gerak dada sisi sakit tertinggal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gency FB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Agency FB"/>
              </a:rPr>
              <a:t>	</a:t>
            </a:r>
            <a:r>
              <a:rPr b="0" lang="id-ID" sz="2800" spc="-1" strike="noStrike">
                <a:solidFill>
                  <a:srgbClr val="00ff00"/>
                </a:solidFill>
                <a:latin typeface="Agency FB"/>
              </a:rPr>
              <a:t>        </a:t>
            </a:r>
            <a:r>
              <a:rPr b="0" lang="en-US" sz="2800" spc="-1" strike="noStrike">
                <a:solidFill>
                  <a:srgbClr val="00ff00"/>
                </a:solidFill>
                <a:latin typeface="Agency FB"/>
              </a:rPr>
              <a:t>Fremitus raba sisi sakit turu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Perkusi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gency FB"/>
              </a:rPr>
              <a:t>suara ketok sisi sakit redup</a:t>
            </a:r>
            <a:r>
              <a:rPr b="0" lang="id-ID" sz="2800" spc="-1" strike="noStrike">
                <a:solidFill>
                  <a:srgbClr val="ffff00"/>
                </a:solidFill>
                <a:latin typeface="Agency FB"/>
              </a:rPr>
              <a:t> di </a:t>
            </a:r>
            <a:r>
              <a:rPr b="0" lang="en-US" sz="2800" spc="-1" strike="noStrike">
                <a:solidFill>
                  <a:srgbClr val="ffff00"/>
                </a:solidFill>
                <a:latin typeface="Agency FB"/>
              </a:rPr>
              <a:t>bawah g</a:t>
            </a:r>
            <a:r>
              <a:rPr b="0" lang="id-ID" sz="2800" spc="-1" strike="noStrike">
                <a:solidFill>
                  <a:srgbClr val="ffff00"/>
                </a:solidFill>
                <a:latin typeface="Agency FB"/>
              </a:rPr>
              <a:t>rs.</a:t>
            </a:r>
            <a:r>
              <a:rPr b="0" lang="id-ID" sz="2800" spc="-1" strike="noStrike">
                <a:solidFill>
                  <a:srgbClr val="ff33cc"/>
                </a:solidFill>
                <a:latin typeface="Agency FB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Agency FB"/>
              </a:rPr>
              <a:t>Ellis</a:t>
            </a:r>
            <a:r>
              <a:rPr b="0" lang="id-ID" sz="2800" spc="-1" strike="noStrike">
                <a:solidFill>
                  <a:srgbClr val="ff33cc"/>
                </a:solidFill>
                <a:latin typeface="Agency FB"/>
              </a:rPr>
              <a:t> Da</a:t>
            </a:r>
            <a:r>
              <a:rPr b="0" lang="en-US" sz="2800" spc="-1" strike="noStrike">
                <a:solidFill>
                  <a:srgbClr val="ff33cc"/>
                </a:solidFill>
                <a:latin typeface="Agency FB"/>
              </a:rPr>
              <a:t>moiseau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33cc"/>
                </a:solidFill>
                <a:latin typeface="Agency FB"/>
              </a:rPr>
              <a:t>	</a:t>
            </a:r>
            <a:r>
              <a:rPr b="0" lang="id-ID" sz="2800" spc="-1" strike="noStrike">
                <a:solidFill>
                  <a:srgbClr val="ff33cc"/>
                </a:solidFill>
                <a:latin typeface="Agency FB"/>
              </a:rPr>
              <a:t>	</a:t>
            </a:r>
            <a:r>
              <a:rPr b="0" lang="id-ID" sz="2800" spc="-1" strike="noStrike">
                <a:solidFill>
                  <a:srgbClr val="ff33cc"/>
                </a:solidFill>
                <a:latin typeface="Agency FB"/>
              </a:rPr>
              <a:t>          </a:t>
            </a:r>
            <a:r>
              <a:rPr b="0" lang="id-ID" sz="2800" spc="-1" strike="noStrike">
                <a:solidFill>
                  <a:srgbClr val="ff33cc"/>
                </a:solidFill>
                <a:latin typeface="Agency FB"/>
              </a:rPr>
              <a:t>Mediastinum di dorong ke sisi sehat ( Cairan </a:t>
            </a:r>
            <a:r>
              <a:rPr b="0" lang="id-ID" sz="2800" spc="-1" strike="noStrike" u="sng">
                <a:solidFill>
                  <a:srgbClr val="ff33cc"/>
                </a:solidFill>
                <a:uFillTx/>
                <a:latin typeface="Agency FB"/>
              </a:rPr>
              <a:t>&gt;</a:t>
            </a:r>
            <a:r>
              <a:rPr b="0" lang="id-ID" sz="2800" spc="-1" strike="noStrike">
                <a:solidFill>
                  <a:srgbClr val="ff33cc"/>
                </a:solidFill>
                <a:latin typeface="Agency FB"/>
              </a:rPr>
              <a:t> 1000cc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5715000" cy="7617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gency FB"/>
              </a:rPr>
              <a:t>Pemeriksaan Fisik Efusi Pleura</a:t>
            </a: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0880" y="1523880"/>
            <a:ext cx="876312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Ausku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lt </a:t>
            </a:r>
            <a:r>
              <a:rPr b="0" lang="id-ID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ccff"/>
                </a:solidFill>
                <a:latin typeface="Agency FB"/>
              </a:rPr>
              <a:t> </a:t>
            </a:r>
            <a:r>
              <a:rPr b="0" lang="id-ID" sz="2800" spc="-1" strike="noStrike">
                <a:solidFill>
                  <a:srgbClr val="00ccff"/>
                </a:solidFill>
                <a:latin typeface="Agency FB"/>
              </a:rPr>
              <a:t> </a:t>
            </a:r>
            <a:r>
              <a:rPr b="0" lang="en-US" sz="2800" spc="-1" strike="noStrike">
                <a:solidFill>
                  <a:srgbClr val="06fa06"/>
                </a:solidFill>
                <a:latin typeface="Agency FB"/>
              </a:rPr>
              <a:t>suara napas sisi sakit turun /hilan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</a:rPr>
              <a:t>E</a:t>
            </a:r>
            <a:r>
              <a:rPr b="0" lang="en-US" sz="2800" spc="-1" strike="noStrike">
                <a:solidFill>
                  <a:srgbClr val="06fa06"/>
                </a:solidFill>
                <a:latin typeface="Agency FB"/>
              </a:rPr>
              <a:t>gophoni positip ( </a:t>
            </a:r>
            <a:r>
              <a:rPr b="0" lang="id-ID" sz="2800" spc="-1" strike="noStrike">
                <a:solidFill>
                  <a:srgbClr val="06fa06"/>
                </a:solidFill>
                <a:latin typeface="Agency FB"/>
              </a:rPr>
              <a:t>percakapan d</a:t>
            </a:r>
            <a:r>
              <a:rPr b="0" lang="en-US" sz="2800" spc="-1" strike="noStrike">
                <a:solidFill>
                  <a:srgbClr val="06fa06"/>
                </a:solidFill>
                <a:latin typeface="Agency FB"/>
              </a:rPr>
              <a:t>iatas </a:t>
            </a:r>
            <a:r>
              <a:rPr b="0" lang="id-ID" sz="2800" spc="-1" strike="noStrike">
                <a:solidFill>
                  <a:srgbClr val="06fa06"/>
                </a:solidFill>
                <a:latin typeface="Agency FB"/>
              </a:rPr>
              <a:t>b</a:t>
            </a:r>
            <a:r>
              <a:rPr b="0" lang="en-US" sz="2800" spc="-1" strike="noStrike">
                <a:solidFill>
                  <a:srgbClr val="06fa06"/>
                </a:solidFill>
                <a:latin typeface="Agency FB"/>
              </a:rPr>
              <a:t>atas cairan terdengar</a:t>
            </a:r>
            <a:r>
              <a:rPr b="0" lang="id-ID" sz="2800" spc="-1" strike="noStrike">
                <a:solidFill>
                  <a:srgbClr val="06fa06"/>
                </a:solidFill>
                <a:latin typeface="Agency FB"/>
              </a:rPr>
              <a:t> sengau</a:t>
            </a:r>
            <a:r>
              <a:rPr b="0" lang="en-US" sz="2800" spc="-1" strike="noStrike">
                <a:solidFill>
                  <a:srgbClr val="06fa06"/>
                </a:solidFill>
                <a:latin typeface="Agency F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</a:rPr>
              <a:t>Pleural friction rub / sura gesek pleura  +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Pemeriksaan lain yang sering dijumpai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</a:rPr>
              <a:t>Edema tungkai, JVP meningkat, S3 gallop ( Decomp cordis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</a:rPr>
              <a:t>Ascites, spider naevi, icterus ( liver diseases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</a:rPr>
              <a:t>Lymphadenopathy  ( TB, malignancy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68580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00"/>
                </a:solidFill>
                <a:latin typeface="Agency FB"/>
              </a:rPr>
              <a:t>Berdasarkan hasil tes Rivalta ,dibedakan ata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1.Transudat </a:t>
            </a:r>
            <a:r>
              <a:rPr b="0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Putih jernih sepert air ( tes Rivalta -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Akibat gangguan yang bersifat sistemi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2.Eksudat  </a:t>
            </a:r>
            <a:r>
              <a:rPr b="0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Keruh s/d berwarna ( tes Rivalta +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Sering kita jumpai dengan berbagai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penyebab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5560" indent="-212400"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1066680" y="457200"/>
            <a:ext cx="7162920" cy="6588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Pemeriksaan cairan Pleura ( M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a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kroskopis 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5410440" cy="7617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 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Cairan Pleura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 TRANSUDAT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33520" y="1447920"/>
            <a:ext cx="838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ff00"/>
                </a:solidFill>
                <a:latin typeface="Agency FB"/>
              </a:rPr>
              <a:t>Terbentuknya Cairan Pleura Transudat, akibat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5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Ketidak seimbangan tekanan hidrostatik dan tekanan onkotik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5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Perpindahan cairan dari ruang peritoneum ke ruang intrapleur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5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5410440" cy="7617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 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Cairan Pleura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 TRANSUDAT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33520" y="1447920"/>
            <a:ext cx="8385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ff00"/>
                </a:solidFill>
                <a:latin typeface="Agency FB"/>
              </a:rPr>
              <a:t>Berbagai  contoh penyakit denga efusi pleura Transudat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-    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Gangguan jantung ( Decompensatio cordis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Gangguan fungsi ginjal ( Nefrotik sindr, GGK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Gangguan fungsi hati ( SH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 Ascites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Gangguan kandungan (  Meigs sindr / tumor ovariu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5410440" cy="7617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Cairan Pleura EKSUDAT  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33520" y="2057040"/>
            <a:ext cx="83851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ff00"/>
                </a:solidFill>
                <a:latin typeface="Agency FB"/>
              </a:rPr>
              <a:t>Terbentuknya Cairan Pleura Eksudat , akibat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Inflamasi paru atau pleur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Gangguan aliran limfe  pada cavum pleura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Gangguan permeabilitas membran cavum pleur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eningkatan permeabilitas pembuluh darah dinding dad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5410440" cy="7617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Cairan Pleura EKSUDAT  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33520" y="1752120"/>
            <a:ext cx="8385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ff00"/>
                </a:solidFill>
                <a:latin typeface="Agency FB"/>
              </a:rPr>
              <a:t>Berbagai  contoh penyakit  dengan  cairan pleura  Eksudat  </a:t>
            </a:r>
            <a:r>
              <a:rPr b="0" lang="id-ID" sz="2800" spc="-1" strike="noStrike">
                <a:solidFill>
                  <a:srgbClr val="00ff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Malignancy ( kanker paru / mamae, metastase proses ke paru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Infeksi (  TB, Pneumonia,jamur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Emboli paru , ARD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Abses intra abdome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Pancreatit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Pericardial disea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Reumatoid pleuristis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Lupus eritrematosu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5410440" cy="7617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Macam Cairan Pleura EKSUDAT  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533160" y="1371240"/>
            <a:ext cx="83055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Haemorhagic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( merah bata dan cair )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, mis: tumor, trauma, infeksi spesifik / non spesifik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C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h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ylotoraks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(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Putih seperti susu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 ),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mis: t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rauma ductus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t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oracicus, Limfangit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Empyema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( K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ental, keruh, bau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,berupa nanah ),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mis:  infeksi oleh bakteri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anaerob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Malignat mesotelioma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( K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ental dan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m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e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n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gandung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debris ),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mis: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jaringan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tumor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yang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rapuh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Amoebiasis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( K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uning hijau abu-abu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 /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anchory colour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dan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berba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u)</a:t>
            </a:r>
            <a:r>
              <a:rPr b="0" lang="id-ID" sz="3000" spc="-1" strike="noStrike">
                <a:solidFill>
                  <a:srgbClr val="06fa06"/>
                </a:solidFill>
                <a:latin typeface="Agency FB"/>
              </a:rPr>
              <a:t>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mis: Infeksi oleh Amoeb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6858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Perbedaan Transudat &amp;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 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Eksudat dengan metode LIGHT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685800" y="1219320"/>
          <a:ext cx="7924680" cy="5189400"/>
        </p:xfrm>
        <a:graphic>
          <a:graphicData uri="http://schemas.openxmlformats.org/drawingml/2006/table">
            <a:tbl>
              <a:tblPr/>
              <a:tblGrid>
                <a:gridCol w="2449440"/>
                <a:gridCol w="2719440"/>
                <a:gridCol w="2755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Keterangan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Transudat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Eksudat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22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Rival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Berat jen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Kadar prote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b880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33cc"/>
                          </a:solidFill>
                          <a:uFillTx/>
                          <a:latin typeface="Agency FB"/>
                        </a:rPr>
                        <a:t>Protein pleura</a:t>
                      </a:r>
                      <a:r>
                        <a:rPr b="0" lang="id-ID" sz="2800" spc="-1" strike="noStrike" u="sng">
                          <a:solidFill>
                            <a:srgbClr val="ff33cc"/>
                          </a:solidFill>
                          <a:uFillTx/>
                          <a:latin typeface="Agency FB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Protein se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LD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2800" spc="-1" strike="noStrike" u="sng">
                          <a:solidFill>
                            <a:srgbClr val="ff33cc"/>
                          </a:solidFill>
                          <a:uFillTx/>
                          <a:latin typeface="Agency FB"/>
                        </a:rPr>
                        <a:t>LDH pleura</a:t>
                      </a:r>
                      <a:r>
                        <a:rPr b="0" lang="id-ID" sz="2800" spc="-1" strike="noStrike" u="sng">
                          <a:solidFill>
                            <a:srgbClr val="ff33cc"/>
                          </a:solidFill>
                          <a:uFillTx/>
                          <a:latin typeface="Agency FB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LDH se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Lekos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&lt; 1,0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&lt; 3 gr / 100 c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&lt; 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&lt; 200 I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&lt; 0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&lt; 1000 / mm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gency FB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gency FB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 1,0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gency FB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 3 gr / 100 c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gency FB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 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gency FB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 200 I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gency FB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 0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gency FB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 1000 / mm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gency FB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6629400" cy="60948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B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eda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H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aemorhagic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&amp;  H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ematotoraks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1295280"/>
          <a:ext cx="8512200" cy="5237280"/>
        </p:xfrm>
        <a:graphic>
          <a:graphicData uri="http://schemas.openxmlformats.org/drawingml/2006/table">
            <a:tbl>
              <a:tblPr/>
              <a:tblGrid>
                <a:gridCol w="2666880"/>
                <a:gridCol w="2895840"/>
                <a:gridCol w="294948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Keterangan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Haemorhagic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Hematotoraks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eb880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33cc"/>
                          </a:solidFill>
                          <a:uFillTx/>
                          <a:latin typeface="Agency FB"/>
                        </a:rPr>
                        <a:t> </a:t>
                      </a:r>
                      <a:r>
                        <a:rPr b="0" lang="en-US" sz="3200" spc="-1" strike="noStrike" u="sng">
                          <a:solidFill>
                            <a:srgbClr val="ff33cc"/>
                          </a:solidFill>
                          <a:uFillTx/>
                          <a:latin typeface="Agency FB"/>
                        </a:rPr>
                        <a:t>HB cair pleura </a:t>
                      </a:r>
                      <a:r>
                        <a:rPr b="0" lang="id-ID" sz="3200" spc="-1" strike="noStrike" u="sng">
                          <a:solidFill>
                            <a:srgbClr val="ff33cc"/>
                          </a:solidFill>
                          <a:uFillTx/>
                          <a:latin typeface="Agency FB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HB darah tep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06fa06"/>
                          </a:solidFill>
                          <a:latin typeface="Agency FB"/>
                        </a:rPr>
                        <a:t>*</a:t>
                      </a:r>
                      <a:r>
                        <a:rPr b="0" lang="en-US" sz="3200" spc="-1" strike="noStrike">
                          <a:solidFill>
                            <a:srgbClr val="06fa06"/>
                          </a:solidFill>
                          <a:latin typeface="Agency FB"/>
                        </a:rPr>
                        <a:t>Dibiarkan </a:t>
                      </a:r>
                      <a:r>
                        <a:rPr b="0" lang="en-US" sz="3200" spc="-1" strike="noStrike" u="sng">
                          <a:solidFill>
                            <a:srgbClr val="06fa06"/>
                          </a:solidFill>
                          <a:uFillTx/>
                          <a:latin typeface="Agency FB"/>
                        </a:rPr>
                        <a:t>+</a:t>
                      </a:r>
                      <a:r>
                        <a:rPr b="0" lang="en-US" sz="3200" spc="-1" strike="noStrike">
                          <a:solidFill>
                            <a:srgbClr val="06fa06"/>
                          </a:solidFill>
                          <a:latin typeface="Agency FB"/>
                        </a:rPr>
                        <a:t>10 </a:t>
                      </a:r>
                      <a:r>
                        <a:rPr b="0" lang="id-ID" sz="3200" spc="-1" strike="noStrike">
                          <a:solidFill>
                            <a:srgbClr val="06fa06"/>
                          </a:solidFill>
                          <a:latin typeface="Agency FB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06fa06"/>
                          </a:solidFill>
                          <a:latin typeface="Agency FB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6fa06"/>
                          </a:solidFill>
                          <a:latin typeface="Agency FB"/>
                        </a:rPr>
                        <a:t>menit membeku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Contoh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Penangan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&lt; 50 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6fa06"/>
                          </a:solidFill>
                          <a:latin typeface="Agency FB"/>
                        </a:rPr>
                        <a:t>Tidak membeku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Keganasan, infeks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Pasang </a:t>
                      </a:r>
                      <a:r>
                        <a:rPr b="0" lang="id-ID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Thoracal Dra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 </a:t>
                      </a:r>
                      <a:r>
                        <a:rPr b="0" lang="en-US" sz="3200" spc="-1" strike="noStrike" u="sng">
                          <a:solidFill>
                            <a:srgbClr val="ff33cc"/>
                          </a:solidFill>
                          <a:uFillTx/>
                          <a:latin typeface="Agency FB"/>
                        </a:rPr>
                        <a:t>&gt;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 5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6fa06"/>
                          </a:solidFill>
                          <a:latin typeface="Agency FB"/>
                        </a:rPr>
                        <a:t>Membeku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Trauma dada, infark paru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Pasang </a:t>
                      </a:r>
                      <a:r>
                        <a:rPr b="0" lang="id-ID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 Thoracal Dra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2584440" y="291960"/>
            <a:ext cx="3908520" cy="10494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4"/>
          <p:cNvSpPr/>
          <p:nvPr/>
        </p:nvSpPr>
        <p:spPr>
          <a:xfrm>
            <a:off x="914400" y="2057400"/>
            <a:ext cx="7620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fa06"/>
                </a:solidFill>
                <a:latin typeface="Agency FB"/>
              </a:rPr>
              <a:t>Terkumpulnya Cairan Pleura di dalam cavum</a:t>
            </a:r>
            <a:r>
              <a:rPr b="0" lang="id-ID" sz="4000" spc="-1" strike="noStrike">
                <a:solidFill>
                  <a:srgbClr val="06fa06"/>
                </a:solidFill>
                <a:latin typeface="Agency FB"/>
              </a:rPr>
              <a:t> p</a:t>
            </a:r>
            <a:r>
              <a:rPr b="0" lang="en-US" sz="4000" spc="-1" strike="noStrike">
                <a:solidFill>
                  <a:srgbClr val="06fa06"/>
                </a:solidFill>
                <a:latin typeface="Agency FB"/>
              </a:rPr>
              <a:t>leura</a:t>
            </a:r>
            <a:r>
              <a:rPr b="0" lang="id-ID" sz="4000" spc="-1" strike="noStrike">
                <a:solidFill>
                  <a:srgbClr val="06fa06"/>
                </a:solidFill>
                <a:latin typeface="Agency FB"/>
              </a:rPr>
              <a:t> yang merupakan hasil dari </a:t>
            </a:r>
            <a:r>
              <a:rPr b="0" lang="id-ID" sz="4000" spc="-1" strike="noStrike">
                <a:solidFill>
                  <a:srgbClr val="ffff00"/>
                </a:solidFill>
                <a:latin typeface="Agency FB"/>
              </a:rPr>
              <a:t>peningkatan produksi</a:t>
            </a:r>
            <a:r>
              <a:rPr b="0" lang="id-ID" sz="4000" spc="-1" strike="noStrike">
                <a:solidFill>
                  <a:srgbClr val="06fa06"/>
                </a:solidFill>
                <a:latin typeface="Agency FB"/>
              </a:rPr>
              <a:t> atau </a:t>
            </a:r>
            <a:r>
              <a:rPr b="0" lang="id-ID" sz="4000" spc="-1" strike="noStrike">
                <a:solidFill>
                  <a:srgbClr val="ffff00"/>
                </a:solidFill>
                <a:latin typeface="Agency FB"/>
              </a:rPr>
              <a:t>penurunan absorbsi</a:t>
            </a:r>
            <a:r>
              <a:rPr b="0" lang="id-ID" sz="4000" spc="-1" strike="noStrike">
                <a:solidFill>
                  <a:srgbClr val="06fa06"/>
                </a:solidFill>
                <a:latin typeface="Agency FB"/>
              </a:rPr>
              <a:t> cairan pleur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5257800" cy="76212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B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eda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C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hylotoraks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&amp;  C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hiliform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633240" y="1236600"/>
          <a:ext cx="8053560" cy="4935600"/>
        </p:xfrm>
        <a:graphic>
          <a:graphicData uri="http://schemas.openxmlformats.org/drawingml/2006/table">
            <a:tbl>
              <a:tblPr/>
              <a:tblGrid>
                <a:gridCol w="2686320"/>
                <a:gridCol w="2679480"/>
                <a:gridCol w="26877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Keterangan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Chylotoraks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</a:rPr>
                        <a:t>Chiliform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32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Kadar</a:t>
                      </a:r>
                      <a:r>
                        <a:rPr b="0" lang="en-US" sz="3200" spc="-1" strike="noStrike">
                          <a:solidFill>
                            <a:srgbClr val="66ff66"/>
                          </a:solidFill>
                          <a:latin typeface="Agency FB"/>
                        </a:rPr>
                        <a:t> neutral f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66ff66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3200" spc="-1" strike="noStrike">
                          <a:solidFill>
                            <a:srgbClr val="66ff66"/>
                          </a:solidFill>
                          <a:latin typeface="Agency FB"/>
                        </a:rPr>
                        <a:t>Cholester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Lechit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Fatty aci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Penyebab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babaff"/>
                          </a:solidFill>
                          <a:latin typeface="Agency FB"/>
                        </a:rPr>
                        <a:t>* </a:t>
                      </a:r>
                      <a:r>
                        <a:rPr b="0" lang="en-US" sz="3200" spc="-1" strike="noStrike">
                          <a:solidFill>
                            <a:srgbClr val="babaff"/>
                          </a:solidFill>
                          <a:latin typeface="Agency FB"/>
                        </a:rPr>
                        <a:t>Penangan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66ff66"/>
                          </a:solidFill>
                          <a:latin typeface="Agency FB"/>
                        </a:rPr>
                        <a:t>Menuru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66ff66"/>
                          </a:solidFill>
                          <a:latin typeface="Agency FB"/>
                        </a:rPr>
                        <a:t>Meningk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Menuru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Norm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TBC,keganasan,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pleurits reumatik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babaff"/>
                          </a:solidFill>
                          <a:latin typeface="Agency FB"/>
                        </a:rPr>
                        <a:t>Pasang WS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Meningk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00"/>
                          </a:solidFill>
                          <a:latin typeface="Agency FB"/>
                        </a:rPr>
                        <a:t>Mennuru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Norm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gency FB"/>
                        </a:rPr>
                        <a:t>Meningka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gency FB"/>
                        </a:rPr>
                        <a:t>Obstruksi duct. Torachicu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babaff"/>
                          </a:solidFill>
                          <a:latin typeface="Agency FB"/>
                        </a:rPr>
                        <a:t>Pasang WS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858000" cy="6858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Gambaran Radiologi ≈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 Pemeriksaan Fisik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9036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gency FB"/>
              </a:rPr>
              <a:t>&lt; 300 CC : Secara fisik tak ada perubahan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gency FB"/>
              </a:rPr>
              <a:t>                  </a:t>
            </a:r>
            <a:r>
              <a:rPr b="0" lang="en-US" sz="3200" spc="-1" strike="noStrike">
                <a:solidFill>
                  <a:srgbClr val="66ff66"/>
                </a:solidFill>
                <a:latin typeface="Agency FB"/>
              </a:rPr>
              <a:t>Foto PA: sinus masih nampak lancip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66ff66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66ff66"/>
                </a:solidFill>
                <a:latin typeface="Agency FB"/>
              </a:rPr>
              <a:t>         </a:t>
            </a:r>
            <a:r>
              <a:rPr b="0" lang="en-US" sz="3200" spc="-1" strike="noStrike">
                <a:solidFill>
                  <a:srgbClr val="66ff66"/>
                </a:solidFill>
                <a:latin typeface="Agency FB"/>
              </a:rPr>
              <a:t>Foto Lat: sinus nampak mulai tumpul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&gt; 500 cc  : Gerak dada/ fremitus suara/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                  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fremitus raba menurun,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        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suara ketok redup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Agency FB"/>
              </a:rPr>
              <a:t>&gt; 1000 cc: dada cembung, egofoni positip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Agency FB"/>
              </a:rPr>
              <a:t>2000 cc: mediastinum terdoron</a:t>
            </a:r>
            <a:r>
              <a:rPr b="0" lang="id-ID" sz="3200" spc="-1" strike="noStrike">
                <a:solidFill>
                  <a:srgbClr val="f2f2f2"/>
                </a:solidFill>
                <a:latin typeface="Agency FB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Air-fluid level ( Fluidopneumotorak ) </a:t>
            </a:r>
            <a:r>
              <a:rPr b="0" lang="id-ID" sz="3200" spc="-1" strike="noStrike">
                <a:solidFill>
                  <a:srgbClr val="ffff00"/>
                </a:solidFill>
                <a:latin typeface="Corbel"/>
                <a:ea typeface="Arial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4628880" cy="5553000"/>
          </a:xfrm>
          <a:prstGeom prst="rect">
            <a:avLst/>
          </a:prstGeom>
          <a:ln w="9360">
            <a:solidFill>
              <a:srgbClr val="7fd13b"/>
            </a:solidFill>
            <a:miter/>
          </a:ln>
        </p:spPr>
      </p:pic>
      <p:pic>
        <p:nvPicPr>
          <p:cNvPr id="419" name="Picture 2" descr="F:\foto 14.jpeg"/>
          <p:cNvPicPr/>
          <p:nvPr/>
        </p:nvPicPr>
        <p:blipFill>
          <a:blip r:embed="rId2"/>
          <a:stretch/>
        </p:blipFill>
        <p:spPr>
          <a:xfrm>
            <a:off x="4800600" y="685800"/>
            <a:ext cx="4267080" cy="5486400"/>
          </a:xfrm>
          <a:prstGeom prst="rect">
            <a:avLst/>
          </a:prstGeom>
          <a:ln w="9360">
            <a:solidFill>
              <a:srgbClr val="7fd13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495680" cy="5562360"/>
          </a:xfrm>
          <a:prstGeom prst="rect">
            <a:avLst/>
          </a:prstGeom>
          <a:ln w="9360">
            <a:solidFill>
              <a:srgbClr val="7fd13b"/>
            </a:solidFill>
            <a:miter/>
          </a:ln>
        </p:spPr>
      </p:pic>
      <p:pic>
        <p:nvPicPr>
          <p:cNvPr id="421" name="Picture 2" descr=""/>
          <p:cNvPicPr/>
          <p:nvPr/>
        </p:nvPicPr>
        <p:blipFill>
          <a:blip r:embed="rId2"/>
          <a:stretch/>
        </p:blipFill>
        <p:spPr>
          <a:xfrm>
            <a:off x="4724280" y="533520"/>
            <a:ext cx="4343400" cy="5562360"/>
          </a:xfrm>
          <a:prstGeom prst="rect">
            <a:avLst/>
          </a:prstGeom>
          <a:ln w="9360">
            <a:solidFill>
              <a:srgbClr val="7fd13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4648320" cy="5689440"/>
          </a:xfrm>
          <a:prstGeom prst="rect">
            <a:avLst/>
          </a:prstGeom>
          <a:ln w="9360">
            <a:solidFill>
              <a:srgbClr val="7fd13b"/>
            </a:solidFill>
            <a:miter/>
          </a:ln>
        </p:spPr>
      </p:pic>
      <p:pic>
        <p:nvPicPr>
          <p:cNvPr id="423" name="Picture 2" descr=""/>
          <p:cNvPicPr/>
          <p:nvPr/>
        </p:nvPicPr>
        <p:blipFill>
          <a:blip r:embed="rId2"/>
          <a:stretch/>
        </p:blipFill>
        <p:spPr>
          <a:xfrm>
            <a:off x="4724280" y="685800"/>
            <a:ext cx="4343400" cy="5638680"/>
          </a:xfrm>
          <a:prstGeom prst="rect">
            <a:avLst/>
          </a:prstGeom>
          <a:ln w="9360">
            <a:solidFill>
              <a:srgbClr val="7fd13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4572000" cy="5486400"/>
          </a:xfrm>
          <a:prstGeom prst="rect">
            <a:avLst/>
          </a:prstGeom>
          <a:ln w="9360">
            <a:solidFill>
              <a:srgbClr val="7fd13b"/>
            </a:solidFill>
            <a:miter/>
          </a:ln>
        </p:spPr>
      </p:pic>
      <p:pic>
        <p:nvPicPr>
          <p:cNvPr id="425" name="Picture 2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4572000" cy="5486400"/>
          </a:xfrm>
          <a:prstGeom prst="rect">
            <a:avLst/>
          </a:prstGeom>
          <a:ln w="9360">
            <a:solidFill>
              <a:srgbClr val="7fd13b"/>
            </a:solidFill>
            <a:miter/>
          </a:ln>
        </p:spPr>
      </p:pic>
      <p:sp>
        <p:nvSpPr>
          <p:cNvPr id="426" name="TextBox 3"/>
          <p:cNvSpPr/>
          <p:nvPr/>
        </p:nvSpPr>
        <p:spPr>
          <a:xfrm>
            <a:off x="5350680" y="5116680"/>
            <a:ext cx="29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0000"/>
                </a:solidFill>
                <a:latin typeface="Arial"/>
              </a:rPr>
              <a:t>Fluidopneumothorak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1100160" y="4419720"/>
            <a:ext cx="27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0000"/>
                </a:solidFill>
                <a:latin typeface="Arial"/>
              </a:rPr>
              <a:t>Efusi Pleura Bilat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30480" y="456840"/>
            <a:ext cx="5108400" cy="6858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Gambaran Radiologi ...........  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Minimal Efusi Pleura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( sinus nampak tumpul dengan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tinggi cairan 1 – 2  ICS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Bi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lateral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 Efusi Pleura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( sinus nampak tumpul pada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kedua sisi paru ) </a:t>
            </a:r>
            <a:r>
              <a:rPr b="0" lang="id-ID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Decom cordis, Nefrotik sindr,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Ascites,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LE, Tumor, TBC, Infark paru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Uni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lateral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 Efusi  Pleura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( sinus nampak tumpul pada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satu sisi paru 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Infeksi spes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ifik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/ non spes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ifik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5181480" cy="6858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Gambaran Radiologi ..........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0520" y="1599840"/>
            <a:ext cx="8690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Phantom tumor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cairan yang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mengantung / seperti tumor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yg letaknya di fisura paru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, akibat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edema paru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( DC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Subfrenik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Efusi pleura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mengantung pada basal paru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Pocketed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 Efusi pleur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membentuk kantung yang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terpisah – pisah / bersekat - sek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Efusi Pleuran yang mengalami organisasi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Efusi pleura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yang memadat / sudah tidak cair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5410080" cy="6858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P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enatalaksanaan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E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fusi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P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leura  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85440" y="18288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60080" indent="-406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T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orakosentesis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 / 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Evakuasi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 /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Pungsi /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60080" indent="-40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Pengambilan Cairan Pleura secara bertahap, yaitu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60080" indent="-40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volume pengambilan maksimal 1000 cc  setiap kali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60080" indent="-40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     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pe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ngambilan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, untuk mencegah terjadinya edema pa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60080" indent="-40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     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akibat  evacuasi yang terlalu cepat dan banyak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60080" indent="-40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      </a:t>
            </a: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Evakuasi / Pungsi / Torakosintesis ( merupakan saran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60080" indent="-40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       </a:t>
            </a: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Diagnostik dan Terapi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60080" indent="-40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gency FB"/>
              </a:rPr>
              <a:t>P</a:t>
            </a: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enatalaksanaan </a:t>
            </a:r>
            <a:r>
              <a:rPr b="0" lang="en-US" sz="4000" spc="-1" strike="noStrike">
                <a:solidFill>
                  <a:srgbClr val="ff33cc"/>
                </a:solidFill>
                <a:latin typeface="Agency FB"/>
              </a:rPr>
              <a:t>E</a:t>
            </a: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fusi ..............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9144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2.  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Pemasangan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Bullau Drainage / Thoracal Drain / WS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     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di indikasikan pada 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-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Efusi Pleura massive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&amp; produtif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-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Efusi Pleura haemorhagic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( keganasan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-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Hematotoraks, Empyem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- </a:t>
            </a:r>
            <a:r>
              <a:rPr b="0" lang="en-US" sz="3000" spc="-1" strike="noStrike">
                <a:solidFill>
                  <a:srgbClr val="ffffff"/>
                </a:solidFill>
                <a:latin typeface="Agency FB"/>
              </a:rPr>
              <a:t>Chylotoraks, Chilifor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987480" y="291960"/>
            <a:ext cx="7095960" cy="10494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4"/>
          <p:cNvSpPr/>
          <p:nvPr/>
        </p:nvSpPr>
        <p:spPr>
          <a:xfrm>
            <a:off x="838080" y="1981080"/>
            <a:ext cx="7696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6fa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Cavum Pleura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adalah ruangan diantara pleura parietal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dan pleura viscerali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6fa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Pleura parietalis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menyelimuti bagian dalam dari cav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thoraks, termasuk mediastinum, diafragma &amp; tulang  ig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6fa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Pleura visceralis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menyelimuti seluruh permukaan paru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termasuk fisura inrelobari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2495520" cy="28195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"/>
          <p:cNvPicPr/>
          <p:nvPr/>
        </p:nvPicPr>
        <p:blipFill>
          <a:blip r:embed="rId3"/>
          <a:stretch/>
        </p:blipFill>
        <p:spPr>
          <a:xfrm>
            <a:off x="6324480" y="3733920"/>
            <a:ext cx="2590920" cy="272412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7"/>
          <p:cNvSpPr/>
          <p:nvPr/>
        </p:nvSpPr>
        <p:spPr>
          <a:xfrm>
            <a:off x="443160" y="954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12"/>
          <p:cNvSpPr/>
          <p:nvPr/>
        </p:nvSpPr>
        <p:spPr>
          <a:xfrm>
            <a:off x="898560" y="125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3"/>
          <p:cNvSpPr/>
          <p:nvPr/>
        </p:nvSpPr>
        <p:spPr>
          <a:xfrm>
            <a:off x="3567240" y="24494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4"/>
          <p:cNvSpPr/>
          <p:nvPr/>
        </p:nvSpPr>
        <p:spPr>
          <a:xfrm>
            <a:off x="3567240" y="2373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15"/>
          <p:cNvSpPr/>
          <p:nvPr/>
        </p:nvSpPr>
        <p:spPr>
          <a:xfrm>
            <a:off x="6615000" y="3897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7"/>
          <p:cNvSpPr/>
          <p:nvPr/>
        </p:nvSpPr>
        <p:spPr>
          <a:xfrm>
            <a:off x="2113560" y="1066680"/>
            <a:ext cx="7061760" cy="5814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T</a:t>
            </a:r>
            <a:r>
              <a:rPr b="0" lang="id-ID" sz="3200" spc="-1" strike="noStrike">
                <a:solidFill>
                  <a:srgbClr val="ff33cc"/>
                </a:solidFill>
                <a:latin typeface="Agency FB"/>
              </a:rPr>
              <a:t>orakosintesis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ff33cc"/>
                </a:solidFill>
                <a:latin typeface="Agency FB"/>
              </a:rPr>
              <a:t>/ Pungsi 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 Efusi Ple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2"/>
          <p:cNvSpPr/>
          <p:nvPr/>
        </p:nvSpPr>
        <p:spPr>
          <a:xfrm>
            <a:off x="898560" y="125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7"/>
          <p:cNvSpPr/>
          <p:nvPr/>
        </p:nvSpPr>
        <p:spPr>
          <a:xfrm>
            <a:off x="1156680" y="533520"/>
            <a:ext cx="7310160" cy="5814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gency FB"/>
              </a:rPr>
              <a:t>T</a:t>
            </a:r>
            <a:r>
              <a:rPr b="0" lang="id-ID" sz="3200" spc="-1" strike="noStrike">
                <a:solidFill>
                  <a:srgbClr val="ff33cc"/>
                </a:solidFill>
                <a:latin typeface="Agency FB"/>
              </a:rPr>
              <a:t>orakosintesis</a:t>
            </a:r>
            <a:r>
              <a:rPr b="1" lang="en-US" sz="3200" spc="-1" strike="noStrike">
                <a:solidFill>
                  <a:srgbClr val="ff33cc"/>
                </a:solidFill>
                <a:latin typeface="Agency FB"/>
              </a:rPr>
              <a:t> </a:t>
            </a:r>
            <a:r>
              <a:rPr b="1" lang="id-ID" sz="3200" spc="-1" strike="noStrike">
                <a:solidFill>
                  <a:srgbClr val="ff33cc"/>
                </a:solidFill>
                <a:latin typeface="Agency FB"/>
              </a:rPr>
              <a:t>/ Pungsi </a:t>
            </a:r>
            <a:r>
              <a:rPr b="1" lang="en-US" sz="3200" spc="-1" strike="noStrike">
                <a:solidFill>
                  <a:srgbClr val="ff33cc"/>
                </a:solidFill>
                <a:latin typeface="Agency FB"/>
              </a:rPr>
              <a:t> Efusi Ple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505320" cy="28954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448" name="Picture 3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3886200" cy="4267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449" name="TextBox 5"/>
          <p:cNvSpPr/>
          <p:nvPr/>
        </p:nvSpPr>
        <p:spPr>
          <a:xfrm>
            <a:off x="3920760" y="4572000"/>
            <a:ext cx="567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</a:rPr>
              <a:t>Evacuasi cairan pleura deng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</a:rPr>
              <a:t>Memakai alat  “three way sela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</a:rPr>
              <a:t>Panjang 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2"/>
          <p:cNvSpPr/>
          <p:nvPr/>
        </p:nvSpPr>
        <p:spPr>
          <a:xfrm>
            <a:off x="898560" y="125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1085040" y="304920"/>
            <a:ext cx="7061760" cy="5814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T</a:t>
            </a:r>
            <a:r>
              <a:rPr b="0" lang="id-ID" sz="3200" spc="-1" strike="noStrike">
                <a:solidFill>
                  <a:srgbClr val="ff33cc"/>
                </a:solidFill>
                <a:latin typeface="Agency FB"/>
              </a:rPr>
              <a:t>orakosintesis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ff33cc"/>
                </a:solidFill>
                <a:latin typeface="Agency FB"/>
              </a:rPr>
              <a:t>/ Pungsi 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 Efusi Ple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848720" cy="51814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734080" cy="597240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5"/>
          <p:cNvSpPr/>
          <p:nvPr/>
        </p:nvSpPr>
        <p:spPr>
          <a:xfrm>
            <a:off x="6248520" y="2357280"/>
            <a:ext cx="2743200" cy="350604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Pemasang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33cc"/>
                </a:solidFill>
                <a:latin typeface="Agency FB"/>
              </a:rPr>
              <a:t>Bullau Drainage / Thoracal Drain / WSD  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Pada efusi Ple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0920" y="380880"/>
            <a:ext cx="4114800" cy="60984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gency FB"/>
              </a:rPr>
              <a:t>P</a:t>
            </a: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enatalaksanaan  ........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8380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28680" indent="-273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3. 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Pleurodesis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, yaitu: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melekatkan Pleura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arietalis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&amp;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28680" indent="-273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Pleura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Visceralis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( dilakukan pada Efusi yang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28680" indent="-273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  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produkstif walau sudah dipasang bullau drainag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28680" indent="-273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   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( Malignancy 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28680" indent="-273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4. 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Terapi penyakit dasarnya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ntibiotika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28680" indent="-273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5. 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Terapi Paliatif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, yaitu: t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erapi untuk mengurangi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keluhan / gejala ) pada Malignancy /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Kanker Paru, mis: Kemoterapi Intrapleura ( Anti kanker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52480" y="380880"/>
            <a:ext cx="5639040" cy="60984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Komplikasi Pasca Torakosintesis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990360" y="1752480"/>
            <a:ext cx="7391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66"/>
                </a:solidFill>
                <a:latin typeface="Agency FB"/>
              </a:rPr>
              <a:t>Pneumotorak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Edema par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 </a:t>
            </a:r>
            <a:r>
              <a:rPr b="0" lang="en-US" sz="3000" spc="-1" strike="noStrike">
                <a:solidFill>
                  <a:srgbClr val="ff33cc"/>
                </a:solidFill>
                <a:latin typeface="Agency FB"/>
              </a:rPr>
              <a:t>Kram, kemeng, pusing s/d shock neurogenik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33cc"/>
                </a:solidFill>
                <a:latin typeface="Agency FB"/>
              </a:rPr>
              <a:t>         </a:t>
            </a:r>
            <a:r>
              <a:rPr b="0" lang="id-ID" sz="3300" spc="-1" strike="noStrike">
                <a:solidFill>
                  <a:srgbClr val="ffffff"/>
                </a:solidFill>
                <a:latin typeface="Arial Narrow"/>
              </a:rPr>
              <a:t>↓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gency FB"/>
              </a:rPr>
              <a:t>Bila terjadi hal – hal diatas maka  hentikan tindaka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gency FB"/>
                <a:ea typeface="Times New Roman"/>
              </a:rPr>
              <a:t>torakosentesis  untuk sementara dan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gency FB"/>
                <a:ea typeface="Times New Roman"/>
              </a:rPr>
              <a:t>dapat dilanjutka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gency FB"/>
                <a:ea typeface="Times New Roman"/>
              </a:rPr>
              <a:t>setelah keadaan penderita stabil</a:t>
            </a:r>
            <a:r>
              <a:rPr b="0" lang="id-ID" sz="3000" spc="-1" strike="noStrike">
                <a:solidFill>
                  <a:srgbClr val="ffff00"/>
                </a:solidFill>
                <a:latin typeface="Agency FB"/>
                <a:ea typeface="Times New Roman"/>
              </a:rPr>
              <a:t> / membai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00200" y="512280"/>
            <a:ext cx="6019920" cy="70668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Diagnose banding  Efusi Pleur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914400" y="1936800"/>
            <a:ext cx="7772400" cy="25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Konsolidasi Paru, akibat: Pneumoni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Neoplasma paru dengan Kolaps Paru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Fibrosis Pleur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23880" y="512280"/>
            <a:ext cx="6019920" cy="70668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Prognose Efusi Pleur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838080" y="175212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24720" indent="-270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Prognose tergantung </a:t>
            </a:r>
            <a:r>
              <a:rPr b="0" lang="id-ID" sz="3200" spc="-1" strike="noStrike">
                <a:solidFill>
                  <a:srgbClr val="00ff00"/>
                </a:solidFill>
                <a:latin typeface="Agency FB"/>
              </a:rPr>
              <a:t>Penyakit dasar ny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Biasa nya sembuh setelah di beri Pengobatan adekwat terhadap Penyakit dasar nya </a:t>
            </a:r>
            <a:r>
              <a:rPr b="0" lang="id-ID" sz="3200" spc="-1" strike="noStrike">
                <a:solidFill>
                  <a:srgbClr val="00ff00"/>
                </a:solidFill>
                <a:latin typeface="Agency FB"/>
              </a:rPr>
              <a:t>( pada kasus infeksi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Pada efusi Pleura akibat suatu proses keganasan / kanker dalam paru atau di luar paru, bila telah dijumpai Efusi Pleura , maka kanker sudah mengalami</a:t>
            </a:r>
            <a:r>
              <a:rPr b="0" lang="id-ID" sz="3200" spc="-1" strike="noStrike">
                <a:solidFill>
                  <a:srgbClr val="00ff00"/>
                </a:solidFill>
                <a:latin typeface="Agency FB"/>
              </a:rPr>
              <a:t> metastase jauh ( stadium 4 / terminal )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6303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Efusi Pleura TB ( Pleuritis TB 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-  </a:t>
            </a: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 Riwayat kontak TB  +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Mantoux test / PPD test +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BTA dijumpai pada smear cairan efusi (  10 % kasus EF TB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Kultur cairan pleura dijumpai pertumbuhan  BTA  ( 65% kasus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Biopsi pleura  ( 90% kasus EF TB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6fa06"/>
                </a:solidFill>
                <a:latin typeface="Agency FB"/>
              </a:rPr>
              <a:t>ADA test  &gt;</a:t>
            </a:r>
            <a:r>
              <a:rPr b="0" i="1" lang="id-ID" sz="3000" spc="-1" strike="noStrike">
                <a:solidFill>
                  <a:srgbClr val="06fa06"/>
                </a:solidFill>
                <a:latin typeface="Agency FB"/>
              </a:rPr>
              <a:t> </a:t>
            </a:r>
            <a:r>
              <a:rPr b="0" lang="id-ID" sz="3000" spc="-1" strike="noStrike">
                <a:solidFill>
                  <a:srgbClr val="06fa06"/>
                </a:solidFill>
                <a:latin typeface="Agency FB"/>
              </a:rPr>
              <a:t>43</a:t>
            </a:r>
            <a:r>
              <a:rPr b="0" i="1" lang="id-ID" sz="3000" spc="-1" strike="noStrike">
                <a:solidFill>
                  <a:srgbClr val="06fa06"/>
                </a:solidFill>
                <a:latin typeface="Agency FB"/>
              </a:rPr>
              <a:t>  </a:t>
            </a:r>
            <a:r>
              <a:rPr b="0" lang="id-ID" sz="3000" spc="-1" strike="noStrike">
                <a:solidFill>
                  <a:srgbClr val="06fa06"/>
                </a:solidFill>
                <a:latin typeface="Agency FB"/>
              </a:rPr>
              <a:t>( normal </a:t>
            </a:r>
            <a:r>
              <a:rPr b="0" lang="id-ID" sz="3000" spc="-1" strike="noStrike" u="sng">
                <a:solidFill>
                  <a:srgbClr val="06fa06"/>
                </a:solidFill>
                <a:uFillTx/>
                <a:latin typeface="Agency FB"/>
              </a:rPr>
              <a:t>&lt;</a:t>
            </a:r>
            <a:r>
              <a:rPr b="0" lang="id-ID" sz="3000" spc="-1" strike="noStrike">
                <a:solidFill>
                  <a:srgbClr val="06fa06"/>
                </a:solidFill>
                <a:latin typeface="Agency FB"/>
              </a:rPr>
              <a:t> 43 ) pada EF TB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6fa06"/>
                </a:solidFill>
                <a:latin typeface="Agency FB"/>
              </a:rPr>
              <a:t>Interferon gamma  &gt; 140 pg/mL pada EF TB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Terapi EF TB </a:t>
            </a:r>
            <a:r>
              <a:rPr b="0" lang="id-ID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Evacuasi cairan Pleura &amp; terapi dengan OAT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( Obat Anti Tuberkulosa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6303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Efusi Pleura Ganas ( Malignancy 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684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Terjadinya Efusi Pleura Ganas ( Malignancy ) </a:t>
            </a:r>
            <a:r>
              <a:rPr b="0" lang="id-ID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Peningkatan </a:t>
            </a: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permeabilitas pleur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Penurunan drainage cairan limfe akibat </a:t>
            </a: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obstruksi saluran limfe pada pleura oleh sel tum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Gangguan pada </a:t>
            </a: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ductus thoracicu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Obstruksi bronkhus oleh sel tumor </a:t>
            </a:r>
            <a:r>
              <a:rPr b="0" lang="id-ID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atelektas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Hipoproteinemia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akibat sel tumor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Emboli paru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oleh sel tum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Pneumonitis pasca obstruksi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oleh sel tum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Pasca terapi radiasi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pada carcinom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987480" y="291960"/>
            <a:ext cx="7095960" cy="10494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685800" y="1600200"/>
            <a:ext cx="80010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6fa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Akibat keadaan vacum, maka pleura parietalis dan pleu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visceralis selalu berdekat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6fa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Cairan yang jumlahnya konstan dan sedikit (0,13cc/kgBB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merupakan pelumas pada saat bernap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6fa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Jumlah cairan yang konstan di pertahankan oleh 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seimbangan antara 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tekanan hidrostatik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dan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tekan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onkotik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serta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 drainage  cairan limfe pada saluran lim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Gangguan keseimbangan / keadaan ini mengakibatk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   </a:t>
            </a: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penyimpangan / patolog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6303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33cc"/>
                </a:solidFill>
                <a:latin typeface="Agency FB"/>
              </a:rPr>
              <a:t>Efusi Pleura Ganas ( Malignancy 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Ciri EF Ganas ( Malignancy )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Jumlah cairan pleura banyak ( Efusi pleura masive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Produksi cairan pleura cepat dan terus-meneru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ff00"/>
                </a:solidFill>
                <a:latin typeface="Agency FB"/>
              </a:rPr>
              <a:t>Terapi EF Ganas ( Malignancy )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Pasang WSD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 ( Water seald Drainage 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Sitostatika intrapleura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 ( memasukkan obat anti kanker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lewat  pipa/slang WSD )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00"/>
                </a:solidFill>
                <a:latin typeface="Agency FB"/>
              </a:rPr>
              <a:t>Pleurodesis </a:t>
            </a:r>
            <a:r>
              <a:rPr b="0" lang="id-ID" sz="3000" spc="-1" strike="noStrike">
                <a:solidFill>
                  <a:srgbClr val="ffffff"/>
                </a:solidFill>
                <a:latin typeface="Agency FB"/>
              </a:rPr>
              <a:t>( 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melekatkan Pleura 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arietalis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&amp; Pleura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Visceralis</a:t>
            </a:r>
            <a:r>
              <a:rPr b="0" lang="id-ID" sz="2800" spc="-1" strike="noStrike">
                <a:solidFill>
                  <a:srgbClr val="ffffff"/>
                </a:solidFill>
                <a:latin typeface="Agency FB"/>
              </a:rPr>
              <a:t>  dengan  obat yang dimasukkan lewat  pipa/slang WSD )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3" descr=""/>
          <p:cNvPicPr/>
          <p:nvPr/>
        </p:nvPicPr>
        <p:blipFill>
          <a:blip r:embed="rId1"/>
          <a:stretch/>
        </p:blipFill>
        <p:spPr>
          <a:xfrm>
            <a:off x="1706400" y="2097000"/>
            <a:ext cx="57373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238880" cy="60948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PATOFISIOLOGI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PEMBENTUKAN 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CAIRAN PLEURA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62120" y="159984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Volume cairan pleura selalu konstan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, akibat dari 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P.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H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idrostatik : 9 mmHg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P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roduksi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cairan pleura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oleh </a:t>
            </a: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pleura parietali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P. </a:t>
            </a:r>
            <a:r>
              <a:rPr b="0" lang="id-ID" sz="3200" spc="-1" strike="noStrike">
                <a:solidFill>
                  <a:srgbClr val="ff33cc"/>
                </a:solidFill>
                <a:latin typeface="Agency FB"/>
              </a:rPr>
              <a:t>K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oloid osmotik </a:t>
            </a:r>
            <a:r>
              <a:rPr b="0" lang="id-ID" sz="3200" spc="-1" strike="noStrike">
                <a:solidFill>
                  <a:srgbClr val="ff33cc"/>
                </a:solidFill>
                <a:latin typeface="Agency FB"/>
              </a:rPr>
              <a:t>/ onkotik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 : 10 mmHg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33cc"/>
                </a:solidFill>
                <a:latin typeface="Agency FB"/>
              </a:rPr>
              <a:t>A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bsorbsi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cairan pleura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oleh</a:t>
            </a:r>
            <a:r>
              <a:rPr b="0" lang="en-US" sz="3200" spc="-1" strike="noStrike">
                <a:solidFill>
                  <a:srgbClr val="ff33cc"/>
                </a:solidFill>
                <a:latin typeface="Agency FB"/>
              </a:rPr>
              <a:t> pleura viserali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gency FB"/>
              </a:rPr>
              <a:t>Sehingga produksi dan absorbsi </a:t>
            </a:r>
            <a:r>
              <a:rPr b="0" lang="id-ID" sz="3200" spc="-1" strike="noStrike">
                <a:solidFill>
                  <a:srgbClr val="00ff00"/>
                </a:solidFill>
                <a:latin typeface="Agency FB"/>
              </a:rPr>
              <a:t> selalu </a:t>
            </a:r>
            <a:r>
              <a:rPr b="0" lang="id-ID" sz="3200" spc="-1" strike="noStrike">
                <a:solidFill>
                  <a:srgbClr val="ffffff"/>
                </a:solidFill>
                <a:latin typeface="Agency FB"/>
              </a:rPr>
              <a:t>seimbang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7315200" cy="57909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87" name="Rectangle 3"/>
          <p:cNvSpPr/>
          <p:nvPr/>
        </p:nvSpPr>
        <p:spPr>
          <a:xfrm>
            <a:off x="1600200" y="152280"/>
            <a:ext cx="6477120" cy="9471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33cc"/>
                </a:solidFill>
                <a:latin typeface="Agency FB"/>
              </a:rPr>
              <a:t>PATOFISIOLOGI </a:t>
            </a:r>
            <a:r>
              <a:rPr b="0" lang="en-US" sz="2800" spc="-1" strike="noStrike">
                <a:solidFill>
                  <a:srgbClr val="ff33cc"/>
                </a:solidFill>
                <a:latin typeface="Agency FB"/>
              </a:rPr>
              <a:t>PEMBENTUKAN </a:t>
            </a:r>
            <a:r>
              <a:rPr b="0" lang="id-ID" sz="2800" spc="-1" strike="noStrike">
                <a:solidFill>
                  <a:srgbClr val="ff33cc"/>
                </a:solidFill>
                <a:latin typeface="Agency FB"/>
              </a:rPr>
              <a:t>CAIRAN PLE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5946840" cy="6858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Etiologi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A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kumulasi Cairan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P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leura.......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09120" y="15238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  <a:ea typeface="Times New Roman"/>
              </a:rPr>
              <a:t>Peningkatan permeabilitas pleura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 ( mis: Inflamasi, Malignancy, Emboli Paru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  <a:ea typeface="Times New Roman"/>
              </a:rPr>
              <a:t>Penurunan tekanan onkotik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( mis: hipoalbuminemia, Chirosis Hepatis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  <a:ea typeface="Times New Roman"/>
              </a:rPr>
              <a:t>Peningkatan permeablilitas pembuluh darah 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 ( mis: trauma, inflamasi, infark paru, hipersensitivitas obat, uremia, pancreatitis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  <a:ea typeface="Times New Roman"/>
              </a:rPr>
              <a:t>Peningkatan tekanan hidrostatik pembuluh darah sistemik / pulmonal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  <a:ea typeface="Times New Roman"/>
              </a:rPr>
              <a:t> ( mis: Decomp cordis, VCSS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5946840" cy="6858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Etiologi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A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kumulasi Cairan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P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leura.......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0912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  <a:ea typeface="Times New Roman"/>
              </a:rPr>
              <a:t>Penurunan tekanan cavum pleura </a:t>
            </a:r>
            <a:r>
              <a:rPr b="0" lang="id-ID" sz="2800" spc="-1" strike="noStrike">
                <a:solidFill>
                  <a:srgbClr val="ffff00"/>
                </a:solidFill>
                <a:latin typeface="Agency FB"/>
                <a:ea typeface="Times New Roman"/>
              </a:rPr>
              <a:t>untuk menjaga agar paru tetap mengembang ( mis: atelektasis, mesotelioma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  <a:ea typeface="Times New Roman"/>
              </a:rPr>
              <a:t>Penurunan  aliran limfe akibat obstruksi total saluran limfe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00"/>
                </a:solidFill>
                <a:latin typeface="Agency FB"/>
                <a:ea typeface="Times New Roman"/>
              </a:rPr>
              <a:t>	</a:t>
            </a:r>
            <a:r>
              <a:rPr b="0" lang="id-ID" sz="2800" spc="-1" strike="noStrike">
                <a:solidFill>
                  <a:srgbClr val="ffff00"/>
                </a:solidFill>
                <a:latin typeface="Agency FB"/>
                <a:ea typeface="Times New Roman"/>
              </a:rPr>
              <a:t>( mis: malignancy, trauma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  <a:ea typeface="Times New Roman"/>
              </a:rPr>
              <a:t>Peningkatan cairan peritoneal  </a:t>
            </a:r>
            <a:r>
              <a:rPr b="0" lang="id-ID" sz="2800" spc="-1" strike="noStrike">
                <a:solidFill>
                  <a:srgbClr val="ffff00"/>
                </a:solidFill>
                <a:latin typeface="Agency FB"/>
                <a:ea typeface="Times New Roman"/>
              </a:rPr>
              <a:t>akibat  migrasi  cairan limfe lewat saluran limfe yang robek ( mis: Chirosis Hepatis , dialisis peritoneal 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6fa06"/>
                </a:solidFill>
                <a:latin typeface="Agency FB"/>
                <a:ea typeface="Times New Roman"/>
              </a:rPr>
              <a:t>Bocornya cairan edema  paru</a:t>
            </a:r>
            <a:r>
              <a:rPr b="0" lang="id-ID" sz="2800" spc="-1" strike="noStrike">
                <a:solidFill>
                  <a:srgbClr val="ffff00"/>
                </a:solidFill>
                <a:latin typeface="Agency FB"/>
                <a:ea typeface="Times New Roman"/>
              </a:rPr>
              <a:t> menembus pleura visceralis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4648320" cy="60948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Gejala Klinis Efusi Pleura</a:t>
            </a:r>
            <a:r>
              <a:rPr b="0" lang="id-ID" sz="3600" spc="-1" strike="noStrike">
                <a:solidFill>
                  <a:srgbClr val="ff33cc"/>
                </a:solidFill>
                <a:latin typeface="Agency FB"/>
              </a:rPr>
              <a:t>   </a:t>
            </a:r>
            <a:r>
              <a:rPr b="0" lang="en-US" sz="3600" spc="-1" strike="noStrike">
                <a:solidFill>
                  <a:srgbClr val="ff33cc"/>
                </a:solidFill>
                <a:latin typeface="Agency FB"/>
              </a:rPr>
              <a:t>	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837720" y="1839960"/>
            <a:ext cx="81536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6440" indent="-263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S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esak napa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Batuk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gency FB"/>
              </a:rPr>
              <a:t>N</a:t>
            </a: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yeri dada pada sisi yang saki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Edema tungkai, PND,orthopnea ( Decomp cordis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Keringat malam, sumer, napsu makan &amp; BB turun (TB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6fa06"/>
                </a:solidFill>
                <a:latin typeface="Agency FB"/>
              </a:rPr>
              <a:t>Febris,sputum kekuningan, nyeri pleura  (Pneumonia 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00"/>
                </a:solidFill>
                <a:latin typeface="Agency F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16440" indent="-263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gency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00:53:18Z</dcterms:created>
  <dc:creator>USER</dc:creator>
  <dc:description/>
  <dc:language>en-US</dc:language>
  <cp:lastModifiedBy>Toshiba</cp:lastModifiedBy>
  <dcterms:modified xsi:type="dcterms:W3CDTF">2012-11-12T23:56:05Z</dcterms:modified>
  <cp:revision>356</cp:revision>
  <dc:subject/>
  <dc:title>EFUSI  PLEURA</dc:title>
</cp:coreProperties>
</file>