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A08-3A28-4E06-8580-727D9672BD5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FAE-AE1B-496A-9636-B62D47559650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F0D4-4ACF-4B2B-808A-98D098D8DD3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2A2-A2C9-460F-A114-D97C74682FF6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B1BD-4823-411D-B5CD-B052F63691DE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F8C-FEB4-44FE-9524-EDC9E1F3841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1D6-A7E3-4DF0-984E-D065E813F688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991A-FC33-4FEF-A034-A63372680858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7C21-6BCE-47C7-BFEC-A27749FC488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E9AA-EDB6-4FB4-967D-489DCA5EAD83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608-7B7B-4762-886A-53C1D94CEB43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D453-A473-4DFC-A4A8-98576B8C6350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EB4-9285-4901-8A32-9044D66FC71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6491-CC6D-4B7A-9129-5912262DA86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7C1-76F9-4961-BB05-449B3642648F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FC8-D192-4C39-B95B-EC163194C8A0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A672-F73F-428C-AF15-3A8487CE68D0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CBE4-CEEF-4638-8C53-AFE69C019C01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E9A-36D6-4644-9110-DF55E9B59410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67E-20E1-4FAF-AC0A-F275914E97D4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E68-6FEE-49FB-9D1F-2405111C22ED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5F5-D166-46CE-8F5E-E066625D1448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0E70-D510-4BB1-88E1-6815B17B3D0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339-0796-4623-B977-4ADB7597269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E3A1-2B47-4FED-8266-C1066B99CC73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8B0-84D3-4AC8-985C-6118C0019D2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B03-D8E1-43AF-BC87-3686A005C50E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D2A-E28A-4DC9-9E7C-0C83D7D99CC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A04F-6C59-48B6-BAAF-8F2F133E4FF9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C42-A3D8-4528-BD8E-DAA920D4CBB9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300B-937C-4C2F-A9CB-6738ED93F4DA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698-D03D-402C-9E8A-578F94D4CFF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AEC-F31A-46C7-8E9F-F88B4AB081C4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BA2-CA90-45BF-8D4B-379A06BD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FF1-31FF-4930-B13B-A366095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29E-D1CB-43AA-8E95-D14D070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042-705D-4326-86D3-F86BF128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81B-A3E3-46F8-9485-CB37633D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DDC-68EA-4720-851D-6A792CC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D04-05CC-4477-8CB6-AA697E11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B3B-F86E-4BF3-80AF-0E23DE7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09A-A964-46AB-9732-FBFFE9D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F7A-B71A-404B-B63A-473C53E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D41-B681-4877-B99A-8CDABAD7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87F-64CF-4933-B471-5433CB0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0FBE-87C4-4213-BC96-26FF6B7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3480-403E-4D72-8D77-BEC768A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7227-6AF4-4782-9511-D402C4D3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5D1D-F214-4F01-AEB1-78565604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899A-2185-4F79-8F8E-5E3C95BE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E9EA-AB28-43A8-A97C-29765BA2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3641-C0AA-40C5-80E5-C33692AC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4CBB-D993-4609-AC07-D245601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9BE9-8C22-49F9-8B2B-FD9CB9C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91953-6E7E-4FE3-BD0C-DD7AB18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0C5-1914-4234-B427-2114006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9F78-ECB6-4F72-A059-9B0E698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C030-7F59-4F7A-A363-39A73CF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350F-48F3-48CE-AE31-8F7D47A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A88E-0E14-42EC-8429-F167BE5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AA2D-B7DD-4F6B-93E5-4A742147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C10B-AD2B-4135-9094-10245158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F8C7-B534-44D8-8863-39823595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4C4A-63AD-4E80-A7D5-B6675AD6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BB7A-5D7C-4F72-9D47-CB673A3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29BF-D546-43D5-9F56-5AE7D988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337-11DC-4767-BD7B-866A538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817F-EB92-4463-851A-134252AB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7DA8-278C-48B6-A15E-3AAC9636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B0C4-65FC-45AC-A69A-7D883E6A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0A34-D354-4C34-9ED0-8B0504C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00B8-162E-4C60-B241-523CA0DD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B42E-486C-446F-BFCF-5217EF1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D0A4-24F3-4719-A3F6-DB20DB04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1900-E832-4F8A-8BE9-8C1E137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2494-C482-4133-A773-7A1B5DC6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D30F-CFA8-4D3D-B6F2-102324EA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003-2F35-4C61-90FC-1AF008C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9F62D-2A86-450A-9DCA-A2AC079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783A-676E-4668-9F35-22C943D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1700-1BD8-4742-AA9B-DC78BB2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2905-AC46-46B7-B516-479EE99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FC7E-5EA6-4AB0-81A0-89D972E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1029-DA00-4089-B39E-2919F68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334E-D50F-4E07-9452-C02868C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70A6-5831-4829-AEF6-E698873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90C9-C74A-4248-8D0D-F26B879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A62D-E592-44A3-AAFA-C8BBA858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786-0BF8-471A-A48D-942E0E60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07B9-5BBC-4031-8640-764D29C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9CF9-BE7C-4FE8-A0A0-3FA12FA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9CDB-20FC-46D6-81F7-593CAF0C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0808-ECED-4128-A3BB-26BFAFB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38CAA-2432-47A6-825F-85851B4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8C65-DE32-4AC2-96C6-2069AC2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5FFA-39D3-4724-99FE-4E67128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C9DF-1BFF-47A7-9258-ACFDBCA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583A-5D76-47E8-9CC7-B61426C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135EB-D125-43E6-9D8D-786A9F3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4F3-FD5B-479C-A491-3A1DD68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E0A0-A86B-4605-9ED1-850BB51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9CB8-4DC0-410B-9A70-131FF5FA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D018-890B-4FAB-9613-C1088FDE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2A5B-C003-42C9-8B36-AF91C1C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18B7-190A-4021-99E9-0A61301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BB2C-01F6-4972-BDE0-32C6B34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FEDF-8D17-418A-A719-61AFC7E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00D60-C4E4-44FE-8439-9260B6D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AFD42-D9F6-4239-A427-0263011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61CF-3497-4D84-9AE2-350F9BB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7AC-A4F4-45D7-9C31-97C2464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0C31-FE79-4BFC-B389-483797C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E8268-DC5F-469E-B29E-6B510C4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C9F7-8CB1-4268-BF9F-0D3B446E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171D-0CEE-4B7A-9E34-785E370D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324F-0C64-49D1-A9F7-3DD04B45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0B7-E444-4E4B-AC64-92E53F0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744-A7C0-4032-A0B0-3DB2E0C0FB76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1EB-E128-401E-BC86-6D6973529AF6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88DB-EE7D-4D71-A9DB-7686367917E5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FAB1-1812-41B7-9014-A25D3C5D467B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6F9-7C05-430E-9F84-0BFE7244302E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DAF3-5B11-4207-8181-88FB860595AF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96800" y="1217520"/>
              <a:ext cx="48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68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96800" y="1282320"/>
              <a:ext cx="48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49800" y="1370160"/>
              <a:ext cx="48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687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49800" y="1434960"/>
              <a:ext cx="48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401680" y="1473120"/>
              <a:ext cx="48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68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401680" y="1537920"/>
              <a:ext cx="48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705-0E15-4E18-97CD-D251725E24F3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5386320" y="1371600"/>
            <a:ext cx="37101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gency FB"/>
              </a:rPr>
              <a:t>EFUSI</a:t>
            </a:r>
            <a:br>
              <a:rPr sz="7200"/>
            </a:br>
            <a:r>
              <a:rPr b="1" lang="en-US" sz="7200" spc="-1" strike="noStrike">
                <a:solidFill>
                  <a:srgbClr val="00ff00"/>
                </a:solidFill>
                <a:latin typeface="Agency FB"/>
              </a:rPr>
              <a:t>PLEU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Dr. Arimbi,Sp.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Ilmu Penyakit </a:t>
            </a:r>
            <a:r>
              <a:rPr b="1" lang="en-US" sz="2000" spc="-1" strike="noStrike">
                <a:solidFill>
                  <a:srgbClr val="ff33cc"/>
                </a:solidFill>
                <a:latin typeface="Agency FB"/>
              </a:rPr>
              <a:t>P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FK  UW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Surab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afgan_terima kasih cinta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emeriksaan Fisik Efusi Pleura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In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eks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gerak dada sisi sakit tertinggal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dada sisis sakit lebih cembu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Palpasi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gerak dada sisi sakit tertinggal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Fremitus raba sisi sakit turu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Perkus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suara ketok sisi sakit redup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</a:rPr>
              <a:t> di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bawah g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</a:rPr>
              <a:t>rs.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Ellis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Da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moisea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         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Mediastinum di dorong ke sisi sehat ( Cairan </a:t>
            </a:r>
            <a:r>
              <a:rPr b="0" lang="id-ID" sz="2800" spc="-1" strike="noStrike" u="sng">
                <a:solidFill>
                  <a:srgbClr val="ff33cc"/>
                </a:solidFill>
                <a:uFillTx/>
                <a:latin typeface="Agency FB"/>
              </a:rPr>
              <a:t>&gt;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1000cc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71500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emeriksaan Fisik Efusi Pleura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523880"/>
            <a:ext cx="8763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usku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lt </a:t>
            </a:r>
            <a:r>
              <a:rPr b="0" lang="id-ID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00cc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suara napas sisi sakit turun /hila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gophoni positip ( 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ercakapan d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iatas 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b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atas cairan terdengar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 sengau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leural friction rub / sura gesek pleura  +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emeriksaan lain yang sering dijumpai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dema tungkai, JVP meningkat, S3 gallop ( Decomp cordi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Ascites, spider naevi, icterus ( liver disease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Lymphadenopathy  ( TB, malignancy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gency FB"/>
              </a:rPr>
              <a:t>Berdasarkan hasil tes Rivalta ,dibedakan at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1.Transudat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Putih jernih sepert air ( tes Rivalta -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kibat gangguan yang bersifat sistemi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2.Eksudat 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Keruh s/d berwarna ( tes Rivalta +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Sering kita jumpai dengan berbagai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yebab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5560" indent="-21240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066680" y="457200"/>
            <a:ext cx="7162920" cy="658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emeriksaan cairan Pleura ( M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roskopis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TRANSUDAT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447920"/>
            <a:ext cx="838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Terbentuknya Cairan Pleura Transudat, akiba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Ketidak seimbangan tekanan hidrostatik dan tekanan onkotik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erpindahan cairan dari ruang peritoneum ke ruang intrapleur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TRANSUDAT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520" y="1447920"/>
            <a:ext cx="838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Berbagai  contoh penyakit denga efusi pleura Transuda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-   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jantung ( Decompensatio cordi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fungsi ginjal ( Nefrotik sindr, GGK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fungsi hati ( S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 Ascite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kandungan (  Meigs sindr / tumor ovariu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33520" y="2057040"/>
            <a:ext cx="8385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Terbentuknya Cairan Pleura Eksudat , akibat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nflamasi paru atau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aliran limfe  pada cavum pleu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permeabilitas membran cavum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ingkatan permeabilitas pembuluh darah dinding da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33520" y="1752120"/>
            <a:ext cx="838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Berbagai  contoh penyakit  dengan  cairan pleura  Eksudat  </a:t>
            </a:r>
            <a:r>
              <a:rPr b="0" lang="id-ID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Malignancy ( kanker paru / mamae, metastase proses ke paru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Infeksi (  TB, Pneumonia,jamur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Emboli paru , ARD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Abses intra abdom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ancreatit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ricardial disea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Reumatoid pleuristis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Lupus eritrematos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Macam 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3160" y="1371240"/>
            <a:ext cx="83055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Haemorhagic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merah bata dan cair )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, mis: tumor, trauma, infeksi spesifik / non spesifik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C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ylotoraks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Putih seperti susu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t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rauma ductus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oracicus, Limfangit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mpyem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ntal, keruh, bau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,berupa nanah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 infeksi oleh bakteri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anaerob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Malignat mesoteliom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ntal dan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gandung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debris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jaringan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tumor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yang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rapuh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Amoebiasis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uning hijau abu-abu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anchory colour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dan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berba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u)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Infeksi oleh Amoeb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erbedaan Transudat &amp;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ksudat dengan metode LIGH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85800" y="1219320"/>
          <a:ext cx="7924680" cy="5189400"/>
        </p:xfrm>
        <a:graphic>
          <a:graphicData uri="http://schemas.openxmlformats.org/drawingml/2006/table">
            <a:tbl>
              <a:tblPr/>
              <a:tblGrid>
                <a:gridCol w="2449440"/>
                <a:gridCol w="2719440"/>
                <a:gridCol w="275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Keteranga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ransudat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Eksudat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Rival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Berat je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Kadar prot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b880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Protein pleura</a:t>
                      </a:r>
                      <a:r>
                        <a:rPr b="0" lang="id-ID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Protein se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LD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LDH pleura</a:t>
                      </a:r>
                      <a:r>
                        <a:rPr b="0" lang="id-ID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LDH se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Lekos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1,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3 gr / 100 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200 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1000 / m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gency FB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1,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3 gr / 100 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200 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1000 / m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gency FB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B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d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H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aemorhagic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&amp;  H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matotoraks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295280"/>
          <a:ext cx="8512200" cy="5237280"/>
        </p:xfrm>
        <a:graphic>
          <a:graphicData uri="http://schemas.openxmlformats.org/drawingml/2006/table">
            <a:tbl>
              <a:tblPr/>
              <a:tblGrid>
                <a:gridCol w="2666880"/>
                <a:gridCol w="2895840"/>
                <a:gridCol w="29494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Keterangan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Haemorhagic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Hematotorak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880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HB cair pleura </a:t>
                      </a:r>
                      <a:r>
                        <a:rPr b="0" lang="id-ID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HB darah tep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*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Dibiarkan </a:t>
                      </a:r>
                      <a:r>
                        <a:rPr b="0" lang="en-US" sz="3200" spc="-1" strike="noStrike" u="sng">
                          <a:solidFill>
                            <a:srgbClr val="06fa06"/>
                          </a:solidFill>
                          <a:uFillTx/>
                          <a:latin typeface="Agency FB"/>
                        </a:rPr>
                        <a:t>+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10 </a:t>
                      </a: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menit membek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Conto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enangan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&lt; 50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Tidak membek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Keganasan, infeks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asang </a:t>
                      </a: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horacal Dr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5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Membek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rauma dada, infark par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asang </a:t>
                      </a: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Thoracal Dr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584440" y="291960"/>
            <a:ext cx="3908520" cy="10494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914400" y="205740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fa06"/>
                </a:solidFill>
                <a:latin typeface="Agency FB"/>
              </a:rPr>
              <a:t>Terkumpulnya Cairan Pleura di dalam cavum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p</a:t>
            </a:r>
            <a:r>
              <a:rPr b="0" lang="en-US" sz="4000" spc="-1" strike="noStrike">
                <a:solidFill>
                  <a:srgbClr val="06fa06"/>
                </a:solidFill>
                <a:latin typeface="Agency FB"/>
              </a:rPr>
              <a:t>leura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yang merupakan hasil dari </a:t>
            </a:r>
            <a:r>
              <a:rPr b="0" lang="id-ID" sz="4000" spc="-1" strike="noStrike">
                <a:solidFill>
                  <a:srgbClr val="ffff00"/>
                </a:solidFill>
                <a:latin typeface="Agency FB"/>
              </a:rPr>
              <a:t>peningkatan produksi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atau </a:t>
            </a:r>
            <a:r>
              <a:rPr b="0" lang="id-ID" sz="4000" spc="-1" strike="noStrike">
                <a:solidFill>
                  <a:srgbClr val="ffff00"/>
                </a:solidFill>
                <a:latin typeface="Agency FB"/>
              </a:rPr>
              <a:t>penurunan absorbsi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cairan pleur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762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B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d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C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hylotoraks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&amp;  C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hiliform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33240" y="1236600"/>
          <a:ext cx="8053560" cy="4935600"/>
        </p:xfrm>
        <a:graphic>
          <a:graphicData uri="http://schemas.openxmlformats.org/drawingml/2006/table">
            <a:tbl>
              <a:tblPr/>
              <a:tblGrid>
                <a:gridCol w="2686320"/>
                <a:gridCol w="2679480"/>
                <a:gridCol w="2687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Keterangan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Chylotorak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Chiliform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Kadar</a:t>
                      </a: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 neutral f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Cholester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Lechit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Fatty aci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Penyeba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enangan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Me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Me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BC,keganasan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pleurits reumati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asang WS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Men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Obstruksi duct. Torachic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asang WS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85800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Gambaran Radiologi ≈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Pemeriksaan Fisik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9036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&lt; 300 CC : Secara fisik tak ada perubahan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Foto PA: sinus masih nampak lancip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         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Foto Lat: sinus nampak mulai tumpul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&gt; 500 cc  : Gerak dada/ fremitus suara/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               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fremitus raba menurun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     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suara ketok redup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Agency FB"/>
              </a:rPr>
              <a:t>&gt; 1000 cc: dada cembung, egofoni positip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gency FB"/>
              </a:rPr>
              <a:t>2000 cc: mediastinum terdoron</a:t>
            </a:r>
            <a:r>
              <a:rPr b="0" lang="id-ID" sz="3200" spc="-1" strike="noStrike">
                <a:solidFill>
                  <a:srgbClr val="f2f2f2"/>
                </a:solidFill>
                <a:latin typeface="Agency FB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ir-fluid level ( Fluidopneumotorak ) </a:t>
            </a:r>
            <a:r>
              <a:rPr b="0" lang="id-ID" sz="3200" spc="-1" strike="noStrike">
                <a:solidFill>
                  <a:srgbClr val="ffff00"/>
                </a:solidFill>
                <a:latin typeface="Corbel"/>
                <a:ea typeface="Arial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628880" cy="55530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19" name="Picture 2" descr="F:\foto 14.jpeg"/>
          <p:cNvPicPr/>
          <p:nvPr/>
        </p:nvPicPr>
        <p:blipFill>
          <a:blip r:embed="rId2"/>
          <a:stretch/>
        </p:blipFill>
        <p:spPr>
          <a:xfrm>
            <a:off x="4800600" y="685800"/>
            <a:ext cx="426708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495680" cy="556236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4343400" cy="556236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648320" cy="568944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343400" cy="563868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57200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sp>
        <p:nvSpPr>
          <p:cNvPr id="426" name="TextBox 3"/>
          <p:cNvSpPr/>
          <p:nvPr/>
        </p:nvSpPr>
        <p:spPr>
          <a:xfrm>
            <a:off x="5350680" y="511668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"/>
              </a:rPr>
              <a:t>Fluidopneumothora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100160" y="441972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"/>
              </a:rPr>
              <a:t>Efusi Pleura B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0480" y="456840"/>
            <a:ext cx="510840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Gambaran Radiologi ........... 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Minimal Efusi 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sinus nampak tumpul deng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inggi cairan 1 – 2  IC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i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lateral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Pleura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sinus nampak tumpul pad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dua sisi paru )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Decom cordis, Nefrotik sindr,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scites,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LE, Tumor, TBC, Infark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Uni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lateral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 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sinus nampak tumpul pad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atu sisi paru 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Infeksi spe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fik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/ non spe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fi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51814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Gambaran Radiologi .........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0520" y="1599840"/>
            <a:ext cx="8690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hantom tumor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cairan yang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mengantung / seperti tumo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g letaknya di fisura paru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akibat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edema paru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DC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Subfrenik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fusi pleur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mengantung pada basal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ocketed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pleur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membentuk kantung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erpisah – pisah / bersekat - sek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fusi Pleuran yang mengalami organisa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Efusi pleu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ang memadat / sudah tidak cai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natalaksana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E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fus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440" y="18288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60080" indent="-406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T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orakosentesis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vakuasi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ungsi /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engambilan Cairan Pleura secara bertahap, yaitu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volume pengambilan maksimal 1000 cc  setiap kal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ngambilan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, untuk mencegah terjadinya edema pa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kibat  evacuasi yang terlalu cepat dan banyak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Evakuasi / Pungsi / Torakosintesis ( merupakan sara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Diagnostik dan Terapi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natalaksanaan </a:t>
            </a: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E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fusi ......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2. 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Pemasangan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ullau Drainage / Thoracal Drain / WS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di indikasikan pada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fusi Pleura massive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&amp; produtif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fusi Pleura haemorhagic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keganasan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Hematotoraks, Empyem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Chylotoraks, Chili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987480" y="291960"/>
            <a:ext cx="7095960" cy="10494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838080" y="1981080"/>
            <a:ext cx="7696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Cavum Pleura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adalah ruangan diantara pleura parietal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dan pleura visceral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leura parietalis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menyelimuti bagian dalam dari cav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thoraks, termasuk mediastinum, diafragma &amp; tulang  i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leura visceralis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menyelimuti seluruh permukaan par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termasuk fisura inrelobar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2495520" cy="281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590920" cy="27241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7"/>
          <p:cNvSpPr/>
          <p:nvPr/>
        </p:nvSpPr>
        <p:spPr>
          <a:xfrm>
            <a:off x="443160" y="95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3567240" y="2449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3567240" y="2373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6615000" y="389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2113560" y="1066680"/>
            <a:ext cx="70617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1156680" y="533520"/>
            <a:ext cx="73101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1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05320" cy="2895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886200" cy="426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49" name="TextBox 5"/>
          <p:cNvSpPr/>
          <p:nvPr/>
        </p:nvSpPr>
        <p:spPr>
          <a:xfrm>
            <a:off x="3920760" y="4572000"/>
            <a:ext cx="567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vacuasi cairan pleura deng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Memakai alat  “three way sel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anjang 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085040" y="304920"/>
            <a:ext cx="70617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48720" cy="5181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734080" cy="59724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6248520" y="2357280"/>
            <a:ext cx="2743200" cy="35060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emasa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Bullau Drainage / Thoracal Drain / WSD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ada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4114800" cy="6098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natalaksanaan  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leurodesis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, yaitu: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melekatkan Pleura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rietali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Viscerali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dilakukan pada Efusi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rodukstif walau sudah dipasang bullau drainag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Malignancy 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Terapi penyakit dasarny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ntibiotik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Terapi Paliatif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, yaitu: t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erapi untuk mengurangi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keluhan / gejala ) pada Malignancy /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anker Paru, mis: Kemoterapi Intrapleura ( Anti kanker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639040" cy="6098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Komplikasi Pasca Torakosintesis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90360" y="17524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66"/>
                </a:solidFill>
                <a:latin typeface="Agency FB"/>
              </a:rPr>
              <a:t>Pneumotora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dema pa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33cc"/>
                </a:solidFill>
                <a:latin typeface="Agency FB"/>
              </a:rPr>
              <a:t>Kram, kemeng, pusing s/d shock neurogenik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        </a:t>
            </a:r>
            <a:r>
              <a:rPr b="0" lang="id-ID" sz="3300" spc="-1" strike="noStrike">
                <a:solidFill>
                  <a:srgbClr val="ffffff"/>
                </a:solidFill>
                <a:latin typeface="Arial Narrow"/>
              </a:rPr>
              <a:t>↓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Bila terjadi hal – hal diatas maka  hentikan tindak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torakosentesis  untuk sementara dan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dapat dilanjutk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setelah keadaan penderita stabil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 / membai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00200" y="512280"/>
            <a:ext cx="6019920" cy="7066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Diagnose banding  Efusi Pleu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936800"/>
            <a:ext cx="7772400" cy="25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Konsolidasi Paru, akibat: Pneumoni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Neoplasma paru dengan Kolaps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Fibrosis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3880" y="512280"/>
            <a:ext cx="6019920" cy="7066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Prognose Efusi Pleu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7521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rognose tergantung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Penyakit dasar ny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iasa nya sembuh setelah di beri Pengobatan adekwat terhadap Penyakit dasar nya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( pada kasus infeksi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ada efusi Pleura akibat suatu proses keganasan / kanker dalam paru atau di luar paru, bila telah dijumpai Efusi Pleura , maka kanker sudah mengalami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 metastase jauh ( stadium 4 / terminal 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TB ( Pleuritis TB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 Riwayat kontak TB  +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Mantoux test / PPD test +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TA dijumpai pada smear cairan efusi (  10 % kasus EF TB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Kultur cairan pleura dijumpai pertumbuhan  BTA  ( 65% kasu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iopsi pleura  ( 90% kasus EF TB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ADA test  &gt;</a:t>
            </a:r>
            <a:r>
              <a:rPr b="0" i="1" lang="id-ID" sz="30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43</a:t>
            </a:r>
            <a:r>
              <a:rPr b="0" i="1" lang="id-ID" sz="3000" spc="-1" strike="noStrike">
                <a:solidFill>
                  <a:srgbClr val="06fa06"/>
                </a:solidFill>
                <a:latin typeface="Agency FB"/>
              </a:rPr>
              <a:t>  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( normal </a:t>
            </a:r>
            <a:r>
              <a:rPr b="0" lang="id-ID" sz="3000" spc="-1" strike="noStrike" u="sng">
                <a:solidFill>
                  <a:srgbClr val="06fa06"/>
                </a:solidFill>
                <a:uFillTx/>
                <a:latin typeface="Agency FB"/>
              </a:rPr>
              <a:t>&lt;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 43 ) pada EF T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Interferon gamma  &gt; 140 pg/mL pada EF T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erapi EF TB </a:t>
            </a:r>
            <a:r>
              <a:rPr b="0" lang="id-ID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Evacuasi cairan Pleura &amp; terapi dengan OA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( Obat Anti Tuberkulosa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Ganas ( Malignancy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Terjadinya Efusi Pleura Ganas ( Malignancy ) </a:t>
            </a:r>
            <a:r>
              <a:rPr b="0" lang="id-ID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ingkatan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ermeabilitas pleur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urunan drainage cairan limfe akibat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obstruksi saluran limfe pada pleura 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Gangguan pada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ductus thoracicu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Obstruksi bronkhus oleh sel tumor </a:t>
            </a:r>
            <a:r>
              <a:rPr b="0" lang="id-ID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atelekta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Hipoproteinemi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akibat sel tumor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Emboli paru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neumonitis pasca obstruksi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asca terapi radiasi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ada carcino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87480" y="291960"/>
            <a:ext cx="7095960" cy="1049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685800" y="1600200"/>
            <a:ext cx="8001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Akibat keadaan vacum, maka pleura parietalis dan pleu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visceralis selalu berdeka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Cairan yang jumlahnya konstan dan sedikit (0,13cc/kgBB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merupakan pelumas pada saat bernap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Jumlah cairan yang konstan di pertahankan oleh 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seimbangan antara 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tekanan hidrostatik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dan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tekan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onkotik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sert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drainage  cairan limfe pada saluran lim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Gangguan keseimbangan / keadaan ini mengakibatk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penyimpangan / patolog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Ganas ( Malignancy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Ciri EF Ganas ( Malignancy 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Jumlah cairan pleura banyak ( Efusi pleura masive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roduksi cairan pleura cepat dan terus-mener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Terapi EF Ganas ( Malignancy 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asang WSD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( Water seald Drainage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Sitostatika intrapleur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memasukkan obat anti kanker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lewat  pipa/slang WSD 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leurodesis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melekatkan Pleura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rietali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&amp; Pleura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Viscerali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 dengan  obat yang dimasukkan lewat  pipa/slang WSD 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3" descr=""/>
          <p:cNvPicPr/>
          <p:nvPr/>
        </p:nvPicPr>
        <p:blipFill>
          <a:blip r:embed="rId1"/>
          <a:stretch/>
        </p:blipFill>
        <p:spPr>
          <a:xfrm>
            <a:off x="1706400" y="2097000"/>
            <a:ext cx="5737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ATOFIS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EMBENTUKAN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5998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Volume cairan pleura selalu konstan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akibat dari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idrostatik : 9 mmH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roduk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cairan pleura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oleh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leura parietal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.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K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oloid osmotik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onkotik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: 10 mmH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bsorb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cairan pleura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oleh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pleura viseral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gency FB"/>
              </a:rPr>
              <a:t>Sehingga produksi dan absorbsi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 selalu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imb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315200" cy="5790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87" name="Rectangle 3"/>
          <p:cNvSpPr/>
          <p:nvPr/>
        </p:nvSpPr>
        <p:spPr>
          <a:xfrm>
            <a:off x="1600200" y="152280"/>
            <a:ext cx="6477120" cy="9471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PATOFISIOLOGI 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PEMBENTUKAN 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CAIRAN PLE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94684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t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umulasi Cair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......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permeabilitas pleur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Inflamasi, Malignancy, Emboli Paru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tekanan onkotik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( mis: hipoalbuminemia, Chirosis Hepat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permeablilitas pembuluh darah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trauma, inflamasi, infark paru, hipersensitivitas obat, uremia, pancreatit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tekanan hidrostatik pembuluh darah sistemik / pulmonal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Decomp cordis, VCS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94684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t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umulasi Cair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......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tekanan cavum pleura 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untuk menjaga agar paru tetap mengembang ( mis: atelektasis, mesotelioma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 aliran limfe akibat obstruksi total saluran limf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	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( mis: malignancy, trauma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cairan peritoneal  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akibat  migrasi  cairan limfe lewat saluran limfe yang robek ( mis: Chirosis Hepatis , dialisis peritoneal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Bocornya cairan edema  paru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 menembus pleura viscerali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64832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Gejala Klinis Efusi Pleur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 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	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7720" y="1839960"/>
            <a:ext cx="81536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S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sak napa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atu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N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yeri dada pada sisi yang saki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Edema tungkai, PND,orthopnea ( Decomp cord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Keringat malam, sumer, napsu makan &amp; BB turun (TB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Febris,sputum kekuningan, nyeri pleura  (Pneumoni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0:53:18Z</dcterms:created>
  <dc:creator>USER</dc:creator>
  <dc:description/>
  <dc:language>en-US</dc:language>
  <cp:lastModifiedBy>Toshiba</cp:lastModifiedBy>
  <dcterms:modified xsi:type="dcterms:W3CDTF">2012-11-12T23:56:05Z</dcterms:modified>
  <cp:revision>356</cp:revision>
  <dc:subject/>
  <dc:title>EFUSI  PLEURA</dc:title>
</cp:coreProperties>
</file>