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C56B-6BC5-4423-95B7-4BB6E4C254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DE77-D607-4EEE-9906-C9F4F61A681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188-78A8-4DCD-B56D-00662A38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75A-AB9C-4AC5-85F9-661BA7F8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3CD-10FD-4D32-B2F6-1349A765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C48-0E1C-44C0-A0DE-E332A01D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CAF-2553-49FB-A0A4-70FE66AA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467-9914-44C4-BFC7-1A492B48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676-0BF0-4A6A-95E9-E32FC167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830-1A3E-43F9-8C46-C696AFB1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309-AA96-42B8-B57F-F58E9C6A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C3B-73F3-41BC-B8F5-411D9909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F2A-97C5-4A66-84E6-D6EC0E3F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533-9E94-42D1-A392-187D62B6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9581-AC84-4FA0-8C99-27BA3DB393E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-2124000" y="-1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Group work r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924360" y="549360"/>
            <a:ext cx="5040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r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cili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Keeps group on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roup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imekee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sour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llects pens/paper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Quality ch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hecks the work is of goo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eam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ttends any information meetings &amp; Talks for group at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1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611280" y="5373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member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people x time = N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Calibri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hours of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52:02Z</dcterms:created>
  <dc:creator>athistlewood</dc:creator>
  <dc:description/>
  <dc:language>en-US</dc:language>
  <cp:lastModifiedBy>athistlewood</cp:lastModifiedBy>
  <dcterms:modified xsi:type="dcterms:W3CDTF">2010-09-23T06:55:14Z</dcterms:modified>
  <cp:revision>1</cp:revision>
  <dc:subject/>
  <dc:title>Slide 1</dc:title>
</cp:coreProperties>
</file>