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3051-39E1-4DBC-9173-7A79BF3916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4E49-A1C4-411F-8879-16B51312987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CA0-05C3-4FC7-BC96-C792C33E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EA9F-454F-4931-A987-0FD384B3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02EA-C9DC-4752-B61A-C95093A8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7BA-2CC0-4C9E-A9F9-960284A6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ABA6-968F-4789-B803-E44CAFE5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D2D-24DC-4387-B491-8E57E6A5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7066-8485-44C4-B966-E9CF9DE3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4D8-3AC1-48F7-8C9C-D7474119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DAF5-99C8-441F-A603-70399D42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0D8-7EC1-4CFC-88CC-1340574F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AE3-486F-49D5-BE3C-798CA784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8806-E736-4522-9D10-2F9021E8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7141-51C5-4445-B8A9-F23FB22CB55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-2124000" y="-10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Group work r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3924360" y="549360"/>
            <a:ext cx="50403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ro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acilit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Keeps group on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Group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imekee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sourc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llects pens/paper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Quality che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hecks the work is of good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eam 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ttends any information meetings &amp; Talks for group at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1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611280" y="5373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member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f people x time = N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f hours of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6:52:02Z</dcterms:created>
  <dc:creator>athistlewood</dc:creator>
  <dc:description/>
  <dc:language>en-US</dc:language>
  <cp:lastModifiedBy>athistlewood</cp:lastModifiedBy>
  <dcterms:modified xsi:type="dcterms:W3CDTF">2010-09-23T06:55:14Z</dcterms:modified>
  <cp:revision>1</cp:revision>
  <dc:subject/>
  <dc:title>Slide 1</dc:title>
</cp:coreProperties>
</file>