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564-AFB6-49E1-B7C0-7C417980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DFE-23A8-4CE4-847C-577C3B319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E1A-8B3E-47D7-AC4F-65582646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90E-E5D1-48FB-9C76-4AC2B6BA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B42-5281-42AB-940E-F1AA567C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440-026F-4F30-BBCC-9AC1E7838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9F5E-28E1-4891-A28E-43AF3C87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88C-D033-4CF6-BF7D-AF22AB92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362-B9DA-4106-A5EC-543B8B9BA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0472-B8A4-48C3-8447-6A156008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CBB-32BF-4D93-AD68-58D3EB82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FFED-76D1-4029-9C5B-CCEE6A1D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C8D2-536C-4321-B065-B0C3D413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FA0-0C62-4A4C-898A-646DB385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EC2-3610-427D-90C4-AC7D0130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BD6-F493-4577-8EDB-704258BE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D45-A099-4189-BE66-3B34CA3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A68-DF42-4FC8-922E-9058A920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4A37-9A9A-4FCC-BB19-8A8F71B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D9C-5E66-4DE5-AD4B-63C52B4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EAA-2174-405B-A100-A89EBA0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CE0-F702-4CE3-AA64-5689D7CF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EE6-AF5C-4EA9-9994-E9241116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257-5603-4F2D-BDF8-BC38A78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780-AE67-45ED-B600-884BDF5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B11-A4EB-4E3B-8D24-C031954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3F4B-8F15-4B94-B486-EDFA140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0B91-DA12-489F-A275-1D581662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6859-2EA2-48D9-A92D-053EBC04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172F-275F-402C-8BA3-26670D68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C78E7-4652-42AB-9447-95D7746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B3654-9C20-4F7E-BDD6-C3D780F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6928A-F215-4B0C-98E9-D92746B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E6159-4BD7-4495-AAD2-078486C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2425-B819-4F82-BC87-F16F4DFB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947-D1C2-4A95-BFC1-2275141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B0CBB-1B05-4108-B645-264638E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C0A1D-771A-43B6-BE31-C3D5F26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D1E4F-C018-44D9-B3D5-A23E8B3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EF939-5829-4391-B283-1F9D29A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B3F82-3D5B-4AC0-89A5-5245697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FBE30-4F2D-457C-BCE0-951DA54B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55B3F-6183-481F-B3A3-EBA6F28D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4649E-2352-405C-8537-814D81A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4B568-AB3D-4278-956C-80F9B74B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DFB90-BF1D-4C9B-9247-43BAAA7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E51-B09B-4E5B-93D5-BDFA3D3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1C656-741A-473D-9944-0251245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72227-1173-4A53-A3D7-7806676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327F1-B036-476C-B712-8528FF0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1CE6C-637D-41F8-A41F-FE3F792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7139F-8EE4-4A6A-96B3-F2B5D7F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01F3B-36F7-41A7-A1D6-EAA443A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0CB45-3328-4152-A04F-C50BD5DF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96194-57B0-43F8-A308-4F68853E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1B91A-5E5D-4B3F-A623-ED0F4037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A5337-60D9-4739-B621-39925134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19C-4222-4FA1-B98F-6F07EAC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1C3FE-55E3-4743-8C7F-25E2256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C0622-4CB1-4862-8162-708F490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1227D-1FF8-4DA5-879A-797EA4F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0F7B1-F59E-461B-B350-F6C404B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71A35-F8F9-4522-A82C-6A92F0D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6EA64-B989-4B49-8B51-C3B4F3E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3D00F-0879-49C3-B666-D110A42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F78DD-09CF-44C6-850D-ACEFAE0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D5FEB-0CC1-44DC-A3DA-9E3357A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71361-B4C1-407D-8426-BFB220FD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D74-3FEE-4CB4-AC02-A643CE5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59582-99E6-406B-80EC-ACE5031D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CE7A-EE2B-4C5C-BB38-ED709D18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C903-3B55-43D1-9F67-F1A85C45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06EE-80C7-4E15-9D6B-AE9107C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EC57-F203-4060-BFDD-014A84B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6ACC-8103-4215-9C0A-CF8A9603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3DDB-9FD4-434F-B821-F80DDF8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706A-674E-4B3A-A1DD-8652C3A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CB9D-1266-4A05-A611-E52188E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B7DB-DED3-4B6D-A27C-7B5D347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E84-3338-4AC7-A339-D9F100B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9C58-BD65-4263-9032-40CD4FD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EE31-A94D-4B4E-B296-4A3E698A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A200-66EC-44D8-BBDB-3DFBFBF7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6CF42-7722-4079-8749-41346B7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11CFD-CF5C-4FA2-A332-5D6AFDD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B30CB-71CF-4BE3-903A-FD9F828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6A972-0F61-4646-A006-863C998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0FA66-AA7E-41E1-A961-99B156D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19561-0E3F-499B-8BAD-29ED733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91742-0A54-41DA-BC97-741E1AC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D72-88FA-43C5-9A9D-D1E68B2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0078D-B687-48D6-82CB-3CDA233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6B2EA-308C-4DA0-B9A1-E2FFF36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90334-AB41-4512-BF7E-88312BC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2545F-1B9A-4F2E-A5A0-B064CA29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C7CA0-5A5E-40EE-8A4F-E2613FE0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EC8E-8BD3-4FDC-A05E-AD205DE8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D3F8-9C47-4EDE-952C-A3E33D2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9C2BA-1295-491B-8812-093ECA7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8A59-6650-4D5D-8831-303645F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05DC-FAFB-4779-9FB9-D714BD9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5A2-2018-437C-9887-1C80E83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8CBB-B704-45C4-A5AE-B1900A7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1F309-26D7-4FF7-9207-C95BB67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024A-C225-4920-9C0C-E1091E8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FC418-CA62-4A99-9318-5AB4BB5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337E-5704-4B98-92BA-9671F7A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834E-A8DA-4494-A001-62C42D63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003A-A16B-421E-8A3B-FB4412C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BA2-361B-415F-9F83-6C5E6DA4EFF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FD1-DD4F-4107-B4C1-2579C925503E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218-9032-45E0-9EEC-503DB5961F4F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8C9-BF4C-43BC-894D-43A4C6DFEA8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27E-8FAC-4E5B-BA38-41327A26AA4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85A-AC3E-4A45-A862-37BF7111BA4E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460-8504-42DB-8C12-84FD3AE993EC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D69F-AF4C-4138-864F-7E726CE8CC5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900" spc="-1" strike="noStrike">
                <a:solidFill>
                  <a:srgbClr val="ff0000"/>
                </a:solidFill>
                <a:latin typeface="Tw Cen MT"/>
              </a:rPr>
              <a:t> الهمزة المتطرفة 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                         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نجمة مكونة من 7 نقاط 3"/>
          <p:cNvSpPr/>
          <p:nvPr/>
        </p:nvSpPr>
        <p:spPr>
          <a:xfrm>
            <a:off x="6429240" y="3143160"/>
            <a:ext cx="2143440" cy="264312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ل الكل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نجمة مكونة من 7 نقاط 4"/>
          <p:cNvSpPr/>
          <p:nvPr/>
        </p:nvSpPr>
        <p:spPr>
          <a:xfrm>
            <a:off x="3286080" y="3500280"/>
            <a:ext cx="1928880" cy="207180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سط الكل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نجمة مكونة من 6 نقاط 5"/>
          <p:cNvSpPr/>
          <p:nvPr/>
        </p:nvSpPr>
        <p:spPr>
          <a:xfrm>
            <a:off x="642960" y="3929040"/>
            <a:ext cx="1785960" cy="221472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آخر الكل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مخطط انسيابي: قرار 6"/>
          <p:cNvSpPr/>
          <p:nvPr/>
        </p:nvSpPr>
        <p:spPr>
          <a:xfrm>
            <a:off x="3714840" y="2000160"/>
            <a:ext cx="2714400" cy="135756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َّ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مستطيل مخدوش من كلا الطرفين 7"/>
          <p:cNvSpPr/>
          <p:nvPr/>
        </p:nvSpPr>
        <p:spPr>
          <a:xfrm>
            <a:off x="1143000" y="2071800"/>
            <a:ext cx="1928880" cy="100008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همزة تأت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دبوس زينة 1"/>
          <p:cNvSpPr/>
          <p:nvPr/>
        </p:nvSpPr>
        <p:spPr>
          <a:xfrm>
            <a:off x="324000" y="115920"/>
            <a:ext cx="8569080" cy="1081080"/>
          </a:xfrm>
          <a:custGeom>
            <a:avLst/>
            <a:gdLst>
              <a:gd name="textAreaLeft" fmla="*/ 127440 w 8569080"/>
              <a:gd name="textAreaRight" fmla="*/ 8441640 w 8569080"/>
              <a:gd name="textAreaTop" fmla="*/ 127440 h 1081080"/>
              <a:gd name="textAreaBottom" fmla="*/ 953640 h 1081080"/>
            </a:gdLst>
            <a:ahLst/>
            <a:rect l="textAreaLeft" t="textAreaTop" r="textAreaRight" b="textAreaBottom"/>
            <a:pathLst>
              <a:path w="1711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7561" y="21600"/>
                </a:lnTo>
                <a:arcTo wR="3600" hR="3600" stAng="10800000" swAng="5400000"/>
                <a:lnTo>
                  <a:pt x="171161" y="3600"/>
                </a:lnTo>
                <a:arcTo wR="3600" hR="3600" stAng="5400000" swAng="5400000"/>
                <a:close/>
              </a:path>
            </a:pathLst>
          </a:cu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Tw Cen MT"/>
              </a:rPr>
              <a:t>بَدْؤ إضْرابٍ عن الطعام يقوم به الأسرى الفلسطينيو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دبوس زينة 2"/>
          <p:cNvSpPr/>
          <p:nvPr/>
        </p:nvSpPr>
        <p:spPr>
          <a:xfrm>
            <a:off x="326880" y="2924280"/>
            <a:ext cx="8569440" cy="1728720"/>
          </a:xfrm>
          <a:custGeom>
            <a:avLst/>
            <a:gdLst>
              <a:gd name="textAreaLeft" fmla="*/ 203760 w 8569440"/>
              <a:gd name="textAreaRight" fmla="*/ 8365680 w 8569440"/>
              <a:gd name="textAreaTop" fmla="*/ 203760 h 1728720"/>
              <a:gd name="textAreaBottom" fmla="*/ 1524960 h 1728720"/>
            </a:gdLst>
            <a:ahLst/>
            <a:rect l="textAreaLeft" t="textAreaTop" r="textAreaRight" b="textAreaBottom"/>
            <a:pathLst>
              <a:path w="1070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3456" y="21600"/>
                </a:lnTo>
                <a:arcTo wR="3600" hR="3600" stAng="10800000" swAng="5400000"/>
                <a:lnTo>
                  <a:pt x="107056" y="3600"/>
                </a:lnTo>
                <a:arcTo wR="3600" hR="3600" stAng="5400000" swAng="5400000"/>
                <a:close/>
              </a:path>
            </a:pathLst>
          </a:cu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احتواؤ المعرض على عدد من الصور الحائزة على جوائز عربية وعالمية , تخفي وراءها قصصاً تُضيئ للمتأمل مصباح الأم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انفجار 1 3"/>
          <p:cNvSpPr/>
          <p:nvPr/>
        </p:nvSpPr>
        <p:spPr>
          <a:xfrm>
            <a:off x="6156360" y="1341360"/>
            <a:ext cx="2232000" cy="107964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بَدْ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انفجار 1 4"/>
          <p:cNvSpPr/>
          <p:nvPr/>
        </p:nvSpPr>
        <p:spPr>
          <a:xfrm>
            <a:off x="6330960" y="4653000"/>
            <a:ext cx="2232000" cy="107964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احتوا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انفجار 1 5"/>
          <p:cNvSpPr/>
          <p:nvPr/>
        </p:nvSpPr>
        <p:spPr>
          <a:xfrm>
            <a:off x="6516720" y="5732640"/>
            <a:ext cx="2232000" cy="108108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تُض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سهم إلى اليسار 6"/>
          <p:cNvSpPr/>
          <p:nvPr/>
        </p:nvSpPr>
        <p:spPr>
          <a:xfrm>
            <a:off x="4211640" y="4869000"/>
            <a:ext cx="1944720" cy="8636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7b3d1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سهم إلى اليسار 7"/>
          <p:cNvSpPr/>
          <p:nvPr/>
        </p:nvSpPr>
        <p:spPr>
          <a:xfrm>
            <a:off x="4251240" y="5884920"/>
            <a:ext cx="1943280" cy="86508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7b3d1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سهم إلى اليسار 8"/>
          <p:cNvSpPr/>
          <p:nvPr/>
        </p:nvSpPr>
        <p:spPr>
          <a:xfrm>
            <a:off x="4219560" y="1365120"/>
            <a:ext cx="1944720" cy="8654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مخطط انسيابي: معالجة متعاقبة 9"/>
          <p:cNvSpPr/>
          <p:nvPr/>
        </p:nvSpPr>
        <p:spPr>
          <a:xfrm>
            <a:off x="1476360" y="1341360"/>
            <a:ext cx="2448000" cy="88920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70c0"/>
                </a:solidFill>
                <a:latin typeface="Tw Cen MT"/>
              </a:rPr>
              <a:t>بدْ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مخطط انسيابي: معالجة متعاقبة 10"/>
          <p:cNvSpPr/>
          <p:nvPr/>
        </p:nvSpPr>
        <p:spPr>
          <a:xfrm>
            <a:off x="1476360" y="4869000"/>
            <a:ext cx="2448000" cy="88884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احتو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مخطط انسيابي: معالجة متعاقبة 11"/>
          <p:cNvSpPr/>
          <p:nvPr/>
        </p:nvSpPr>
        <p:spPr>
          <a:xfrm>
            <a:off x="1476360" y="5873760"/>
            <a:ext cx="2448000" cy="88884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ea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70c0"/>
                </a:solidFill>
                <a:latin typeface="Tw Cen MT"/>
              </a:rPr>
              <a:t>تضيء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تمرير عمودي 1"/>
          <p:cNvSpPr/>
          <p:nvPr/>
        </p:nvSpPr>
        <p:spPr>
          <a:xfrm>
            <a:off x="0" y="0"/>
            <a:ext cx="9036000" cy="1341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تدريب الثاني : نستخرج الكلمة المنتهية بهمزة متطرفة , معللين رسمها على تلك الصورة  فيما يأت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مستطيل مخدوش من كلا الطرفين 2"/>
          <p:cNvSpPr/>
          <p:nvPr/>
        </p:nvSpPr>
        <p:spPr>
          <a:xfrm>
            <a:off x="179280" y="1419120"/>
            <a:ext cx="8713800" cy="1368360"/>
          </a:xfrm>
          <a:prstGeom prst="pie">
            <a:avLst/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f0"/>
                </a:solidFill>
                <a:latin typeface="Tw Cen MT"/>
              </a:rPr>
              <a:t>1</a:t>
            </a:r>
            <a:r>
              <a:rPr b="1" lang="ar-SA" sz="3200" spc="-1" strike="noStrike">
                <a:solidFill>
                  <a:srgbClr val="00b0f0"/>
                </a:solidFill>
                <a:latin typeface="Tw Cen MT"/>
              </a:rPr>
              <a:t>- تبدَأ الرماية بالأضواء , وبجميع أنواع الكشافات .. الأضواء الباحثة عن اللّا شىء .. العمياء المحملة في جسد الليل المم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مخطط انسيابي: قرص ممغنط 8"/>
          <p:cNvSpPr/>
          <p:nvPr/>
        </p:nvSpPr>
        <p:spPr>
          <a:xfrm>
            <a:off x="6948360" y="3068640"/>
            <a:ext cx="1584360" cy="865080"/>
          </a:xfrm>
          <a:prstGeom prst="flowChartMagneticDisk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b050"/>
                </a:solidFill>
                <a:latin typeface="Tw Cen MT"/>
              </a:rPr>
              <a:t>تبدَ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مخطط انسيابي: قرص ممغنط 9"/>
          <p:cNvSpPr/>
          <p:nvPr/>
        </p:nvSpPr>
        <p:spPr>
          <a:xfrm>
            <a:off x="7039080" y="3997440"/>
            <a:ext cx="1584360" cy="86364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الأضوا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مخطط انسيابي: قرص ممغنط 10"/>
          <p:cNvSpPr/>
          <p:nvPr/>
        </p:nvSpPr>
        <p:spPr>
          <a:xfrm>
            <a:off x="7039080" y="4878360"/>
            <a:ext cx="1584360" cy="86364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شيْء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مخطط انسيابي: قرص ممغنط 11"/>
          <p:cNvSpPr/>
          <p:nvPr/>
        </p:nvSpPr>
        <p:spPr>
          <a:xfrm>
            <a:off x="7086600" y="5796000"/>
            <a:ext cx="1584360" cy="86508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b050"/>
                </a:solidFill>
                <a:latin typeface="Tw Cen MT"/>
              </a:rPr>
              <a:t>العميا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مجسم مشطوف الحواف 12"/>
          <p:cNvSpPr/>
          <p:nvPr/>
        </p:nvSpPr>
        <p:spPr>
          <a:xfrm>
            <a:off x="611280" y="2924280"/>
            <a:ext cx="5976720" cy="10731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55d7e"/>
                </a:solidFill>
                <a:latin typeface="Tw Cen MT"/>
              </a:rPr>
              <a:t>لأن ما قبلها مفتو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مجسم مشطوف الحواف 13"/>
          <p:cNvSpPr/>
          <p:nvPr/>
        </p:nvSpPr>
        <p:spPr>
          <a:xfrm>
            <a:off x="611280" y="4008600"/>
            <a:ext cx="5976720" cy="9284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مجسم مشطوف الحواف 14"/>
          <p:cNvSpPr/>
          <p:nvPr/>
        </p:nvSpPr>
        <p:spPr>
          <a:xfrm>
            <a:off x="611280" y="4960800"/>
            <a:ext cx="5976720" cy="930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ساك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مجسم مشطوف الحواف 15"/>
          <p:cNvSpPr/>
          <p:nvPr/>
        </p:nvSpPr>
        <p:spPr>
          <a:xfrm>
            <a:off x="611280" y="5950080"/>
            <a:ext cx="5976720" cy="8636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مخطط انسيابي: معالجة متعاقبة 1"/>
          <p:cNvSpPr/>
          <p:nvPr/>
        </p:nvSpPr>
        <p:spPr>
          <a:xfrm>
            <a:off x="0" y="189000"/>
            <a:ext cx="8964720" cy="2448000"/>
          </a:xfrm>
          <a:prstGeom prst="flowChartAlternateProcess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- تصعد التلة فتواجهك بئر تاريخية , يزيد عمقها عن عشرة أمتار , حفرت بالصخر على شكل إجاصة , تمتلِئُ بالماء , تمشي عبر ممر جوانبه من حجارة مهذبة لتصل أعلى التلة , حيث يتربع مسجد سوسية الذي لا يزال يحرس المكان بجدران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مخطط انسيابي: تخزين بالوصول المباشر 2"/>
          <p:cNvSpPr/>
          <p:nvPr/>
        </p:nvSpPr>
        <p:spPr>
          <a:xfrm>
            <a:off x="6084720" y="2924280"/>
            <a:ext cx="2519640" cy="1152360"/>
          </a:xfrm>
          <a:prstGeom prst="flowChartMagneticDrum">
            <a:avLst/>
          </a:prstGeom>
          <a:solidFill>
            <a:srgbClr val="f2f2f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تمتلِئُ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مخطط انسيابي: تخزين بالوصول المباشر 3"/>
          <p:cNvSpPr/>
          <p:nvPr/>
        </p:nvSpPr>
        <p:spPr>
          <a:xfrm>
            <a:off x="6097680" y="4581360"/>
            <a:ext cx="2520720" cy="1151280"/>
          </a:xfrm>
          <a:prstGeom prst="flowChartMagneticDrum">
            <a:avLst/>
          </a:prstGeom>
          <a:solidFill>
            <a:srgbClr val="f2f2f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بالماءِ</a:t>
            </a:r>
            <a:r>
              <a:rPr b="1" lang="ar-SA" sz="4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مخطط انسيابي: عرض 4"/>
          <p:cNvSpPr/>
          <p:nvPr/>
        </p:nvSpPr>
        <p:spPr>
          <a:xfrm>
            <a:off x="0" y="2744640"/>
            <a:ext cx="5948280" cy="1692360"/>
          </a:xfrm>
          <a:prstGeom prst="flowChartDisplay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Tw Cen MT"/>
              </a:rPr>
              <a:t>لأن ما قبلها حرف مكس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مخطط انسيابي: عرض 5"/>
          <p:cNvSpPr/>
          <p:nvPr/>
        </p:nvSpPr>
        <p:spPr>
          <a:xfrm>
            <a:off x="108000" y="4619520"/>
            <a:ext cx="5840280" cy="1511280"/>
          </a:xfrm>
          <a:prstGeom prst="flowChartDisplay">
            <a:avLst/>
          </a:prstGeom>
          <a:solidFill>
            <a:srgbClr val="e5dedb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لأن ما قبلها حرف م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انفجار 2 1"/>
          <p:cNvSpPr/>
          <p:nvPr/>
        </p:nvSpPr>
        <p:spPr>
          <a:xfrm>
            <a:off x="6000840" y="214200"/>
            <a:ext cx="2857320" cy="1428840"/>
          </a:xfrm>
          <a:prstGeom prst="irregularSeal2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w Cen MT"/>
              </a:rPr>
              <a:t>تذكَّر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مخطط انسيابي: محطة طرفية 2"/>
          <p:cNvSpPr/>
          <p:nvPr/>
        </p:nvSpPr>
        <p:spPr>
          <a:xfrm>
            <a:off x="428760" y="642960"/>
            <a:ext cx="5072040" cy="1357200"/>
          </a:xfrm>
          <a:prstGeom prst="flowChartTerminator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الحركات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حسب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قوتها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مخطط انسيابي: شريط مثقب 3"/>
          <p:cNvSpPr/>
          <p:nvPr/>
        </p:nvSpPr>
        <p:spPr>
          <a:xfrm>
            <a:off x="6858000" y="1928880"/>
            <a:ext cx="1643040" cy="121428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الكسرة</a:t>
            </a:r>
            <a:r>
              <a:rPr b="1" lang="ar-SA" sz="4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مخطط انسيابي: شريط مثقب 4"/>
          <p:cNvSpPr/>
          <p:nvPr/>
        </p:nvSpPr>
        <p:spPr>
          <a:xfrm>
            <a:off x="5072040" y="2714760"/>
            <a:ext cx="1571760" cy="142848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الضم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مخطط انسيابي: شريط مثقب 5"/>
          <p:cNvSpPr/>
          <p:nvPr/>
        </p:nvSpPr>
        <p:spPr>
          <a:xfrm>
            <a:off x="2928960" y="3429000"/>
            <a:ext cx="1643040" cy="150012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الفتح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مخطط انسيابي: شريط مثقب 6"/>
          <p:cNvSpPr/>
          <p:nvPr/>
        </p:nvSpPr>
        <p:spPr>
          <a:xfrm>
            <a:off x="428760" y="4214880"/>
            <a:ext cx="1928520" cy="164304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السكون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تمرير أفقي 1"/>
          <p:cNvSpPr/>
          <p:nvPr/>
        </p:nvSpPr>
        <p:spPr>
          <a:xfrm>
            <a:off x="714240" y="714240"/>
            <a:ext cx="7715520" cy="1428840"/>
          </a:xfrm>
          <a:prstGeom prst="horizontalScroll">
            <a:avLst>
              <a:gd name="adj" fmla="val 125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نتأمل الكلمات الآتية :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مخطط انسيابي: معالجة متعاقبة 2"/>
          <p:cNvSpPr/>
          <p:nvPr/>
        </p:nvSpPr>
        <p:spPr>
          <a:xfrm>
            <a:off x="6940440" y="2357280"/>
            <a:ext cx="1857600" cy="6429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البَريء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سهم إلى اليسار 5"/>
          <p:cNvSpPr/>
          <p:nvPr/>
        </p:nvSpPr>
        <p:spPr>
          <a:xfrm>
            <a:off x="6226200" y="2571840"/>
            <a:ext cx="714240" cy="2142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مستطيل مستدير الزوايا 6"/>
          <p:cNvSpPr/>
          <p:nvPr/>
        </p:nvSpPr>
        <p:spPr>
          <a:xfrm>
            <a:off x="250920" y="2357280"/>
            <a:ext cx="5821200" cy="7858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َرِّفَةٌ و قبلَها ياءٌ ساكن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مخطط انسيابي: معالجة متعاقبة 7"/>
          <p:cNvSpPr/>
          <p:nvPr/>
        </p:nvSpPr>
        <p:spPr>
          <a:xfrm>
            <a:off x="6940440" y="3286080"/>
            <a:ext cx="1774800" cy="71460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بِهدوءٍ</a:t>
            </a:r>
            <a:r>
              <a:rPr b="1" lang="ar-SA" sz="4000" spc="-1" strike="noStrike">
                <a:solidFill>
                  <a:srgbClr val="0d0d0d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مخطط انسيابي: معالجة متعاقبة 9"/>
          <p:cNvSpPr/>
          <p:nvPr/>
        </p:nvSpPr>
        <p:spPr>
          <a:xfrm>
            <a:off x="6929280" y="4500720"/>
            <a:ext cx="1857600" cy="6429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دِفْء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سهم إلى اليسار 10"/>
          <p:cNvSpPr/>
          <p:nvPr/>
        </p:nvSpPr>
        <p:spPr>
          <a:xfrm>
            <a:off x="6215040" y="3578400"/>
            <a:ext cx="714240" cy="2142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سهم إلى اليسار 12"/>
          <p:cNvSpPr/>
          <p:nvPr/>
        </p:nvSpPr>
        <p:spPr>
          <a:xfrm>
            <a:off x="6215040" y="4786200"/>
            <a:ext cx="71424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مستطيل مستدير الزوايا 13"/>
          <p:cNvSpPr/>
          <p:nvPr/>
        </p:nvSpPr>
        <p:spPr>
          <a:xfrm>
            <a:off x="250920" y="3357720"/>
            <a:ext cx="5821200" cy="7855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َرِّفَةٌ  و قبلَها واوٌ ساكن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مستطيل مستدير الزوايا 15"/>
          <p:cNvSpPr/>
          <p:nvPr/>
        </p:nvSpPr>
        <p:spPr>
          <a:xfrm>
            <a:off x="250920" y="4500720"/>
            <a:ext cx="5821200" cy="7855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رِّفةٌ  وقبلَها فاءٌ ساك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مستطيل مستدير الزوايا 3"/>
          <p:cNvSpPr/>
          <p:nvPr/>
        </p:nvSpPr>
        <p:spPr>
          <a:xfrm>
            <a:off x="7021440" y="5589720"/>
            <a:ext cx="1695600" cy="792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أجْواْ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سهم إلى اليسار 4"/>
          <p:cNvSpPr/>
          <p:nvPr/>
        </p:nvSpPr>
        <p:spPr>
          <a:xfrm>
            <a:off x="6226200" y="5985000"/>
            <a:ext cx="744480" cy="180720"/>
          </a:xfrm>
          <a:prstGeom prst="leftArrow">
            <a:avLst>
              <a:gd name="adj1" fmla="val 50000"/>
              <a:gd name="adj2" fmla="val 5006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مستطيل مستدير الزوايا 14"/>
          <p:cNvSpPr/>
          <p:nvPr/>
        </p:nvSpPr>
        <p:spPr>
          <a:xfrm>
            <a:off x="250920" y="5681520"/>
            <a:ext cx="5821200" cy="7858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رِّفَةٌ  و قبلَها ألفٌ ساك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مخطط انسيابي: شريط مثقب 1"/>
          <p:cNvSpPr/>
          <p:nvPr/>
        </p:nvSpPr>
        <p:spPr>
          <a:xfrm>
            <a:off x="285840" y="285840"/>
            <a:ext cx="8215200" cy="114300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عند كتابة الهمزة المتطرفة  : ننظر إلى حركة  الحرف السابق ل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مخطط انسيابي: معالجة متعاقبة 2"/>
          <p:cNvSpPr/>
          <p:nvPr/>
        </p:nvSpPr>
        <p:spPr>
          <a:xfrm>
            <a:off x="6929280" y="1785960"/>
            <a:ext cx="1857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b050"/>
                </a:solidFill>
                <a:latin typeface="Tw Cen MT"/>
              </a:rPr>
              <a:t>نَبَ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مخطط انسيابي: معالجة متعاقبة 4"/>
          <p:cNvSpPr/>
          <p:nvPr/>
        </p:nvSpPr>
        <p:spPr>
          <a:xfrm>
            <a:off x="4143240" y="1785960"/>
            <a:ext cx="1857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w Cen MT"/>
              </a:rPr>
              <a:t>كُفُؤ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مخطط انسيابي: معالجة متعاقبة 5"/>
          <p:cNvSpPr/>
          <p:nvPr/>
        </p:nvSpPr>
        <p:spPr>
          <a:xfrm>
            <a:off x="712800" y="1785960"/>
            <a:ext cx="2244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w Cen MT"/>
              </a:rPr>
              <a:t>شواطِ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سهم للأسفل 12"/>
          <p:cNvSpPr/>
          <p:nvPr/>
        </p:nvSpPr>
        <p:spPr>
          <a:xfrm>
            <a:off x="7215120" y="2924280"/>
            <a:ext cx="1500120" cy="1441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سهم للأسفل 13"/>
          <p:cNvSpPr/>
          <p:nvPr/>
        </p:nvSpPr>
        <p:spPr>
          <a:xfrm>
            <a:off x="4286160" y="2898720"/>
            <a:ext cx="1571760" cy="1467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سهم للأسفل 14"/>
          <p:cNvSpPr/>
          <p:nvPr/>
        </p:nvSpPr>
        <p:spPr>
          <a:xfrm>
            <a:off x="1012680" y="2886120"/>
            <a:ext cx="1643040" cy="1479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مستطيل مخدوش من كلا الطرفين 15"/>
          <p:cNvSpPr/>
          <p:nvPr/>
        </p:nvSpPr>
        <p:spPr>
          <a:xfrm>
            <a:off x="6859440" y="4537080"/>
            <a:ext cx="2143440" cy="50004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w Cen MT"/>
              </a:rPr>
              <a:t>ـبَ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مستطيل مخدوش من كلا الطرفين 16"/>
          <p:cNvSpPr/>
          <p:nvPr/>
        </p:nvSpPr>
        <p:spPr>
          <a:xfrm>
            <a:off x="4143240" y="4537080"/>
            <a:ext cx="2143440" cy="57132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w Cen MT"/>
              </a:rPr>
              <a:t>ـفُ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مستطيل مخدوش من كلا الطرفين 17"/>
          <p:cNvSpPr/>
          <p:nvPr/>
        </p:nvSpPr>
        <p:spPr>
          <a:xfrm>
            <a:off x="806400" y="4659480"/>
            <a:ext cx="2143080" cy="50004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w Cen MT"/>
              </a:rPr>
              <a:t>ط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شمس 1"/>
          <p:cNvSpPr/>
          <p:nvPr/>
        </p:nvSpPr>
        <p:spPr>
          <a:xfrm>
            <a:off x="539640" y="765000"/>
            <a:ext cx="7488360" cy="5400720"/>
          </a:xfrm>
          <a:prstGeom prst="sun">
            <a:avLst>
              <a:gd name="adj" fmla="val 25000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Tw Cen MT"/>
              </a:rPr>
              <a:t>نستنتج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شكل بيضاوي 1"/>
          <p:cNvSpPr/>
          <p:nvPr/>
        </p:nvSpPr>
        <p:spPr>
          <a:xfrm>
            <a:off x="1835280" y="260280"/>
            <a:ext cx="5976720" cy="2305080"/>
          </a:xfrm>
          <a:prstGeom prst="ellipse">
            <a:avLst/>
          </a:prstGeom>
          <a:solidFill>
            <a:srgbClr val="bfd3e4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w Cen MT"/>
              </a:rPr>
              <a:t>الهمزة المتطرفة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مخطط انسيابي: متعدد المستندات 2"/>
          <p:cNvSpPr/>
          <p:nvPr/>
        </p:nvSpPr>
        <p:spPr>
          <a:xfrm>
            <a:off x="179280" y="2997360"/>
            <a:ext cx="8856720" cy="3384360"/>
          </a:xfrm>
          <a:prstGeom prst="flowChartMultidocument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060"/>
                </a:solidFill>
                <a:latin typeface="Tw Cen MT"/>
              </a:rPr>
              <a:t>يرتبط رسمها  بضبط الحرف السابق ل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مستطيل ذو زاوية واحدة مستديرة 1"/>
          <p:cNvSpPr/>
          <p:nvPr/>
        </p:nvSpPr>
        <p:spPr>
          <a:xfrm>
            <a:off x="6012000" y="333360"/>
            <a:ext cx="2736720" cy="1079640"/>
          </a:xfrm>
          <a:prstGeom prst="pie">
            <a:avLst/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b3d17"/>
                </a:solidFill>
                <a:latin typeface="Tw Cen MT"/>
              </a:rPr>
              <a:t>تكتب على السط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مستطيل ذو زاوية واحدة مستديرة 2"/>
          <p:cNvSpPr/>
          <p:nvPr/>
        </p:nvSpPr>
        <p:spPr>
          <a:xfrm>
            <a:off x="6012000" y="1916280"/>
            <a:ext cx="2779560" cy="1081080"/>
          </a:xfrm>
          <a:prstGeom prst="pie">
            <a:avLst/>
          </a:prstGeom>
          <a:solidFill>
            <a:srgbClr val="f8e6d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وا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ذو زاوية واحدة مستديرة 3"/>
          <p:cNvSpPr/>
          <p:nvPr/>
        </p:nvSpPr>
        <p:spPr>
          <a:xfrm>
            <a:off x="6012000" y="3357720"/>
            <a:ext cx="2736720" cy="1079280"/>
          </a:xfrm>
          <a:prstGeom prst="pie">
            <a:avLst/>
          </a:prstGeom>
          <a:solidFill>
            <a:srgbClr val="f8e6d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أل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ذو زاوية واحدة مستديرة 4"/>
          <p:cNvSpPr/>
          <p:nvPr/>
        </p:nvSpPr>
        <p:spPr>
          <a:xfrm>
            <a:off x="6012000" y="4869000"/>
            <a:ext cx="2808000" cy="158436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ياء غير منقوط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سهم إلى اليسار 7"/>
          <p:cNvSpPr/>
          <p:nvPr/>
        </p:nvSpPr>
        <p:spPr>
          <a:xfrm>
            <a:off x="4932360" y="46368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سهم إلى اليسار 8"/>
          <p:cNvSpPr/>
          <p:nvPr/>
        </p:nvSpPr>
        <p:spPr>
          <a:xfrm>
            <a:off x="4932360" y="1959120"/>
            <a:ext cx="1008000" cy="934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سهم إلى اليسار 9"/>
          <p:cNvSpPr/>
          <p:nvPr/>
        </p:nvSpPr>
        <p:spPr>
          <a:xfrm>
            <a:off x="4902120" y="350208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سهم إلى اليسار 10"/>
          <p:cNvSpPr/>
          <p:nvPr/>
        </p:nvSpPr>
        <p:spPr>
          <a:xfrm>
            <a:off x="4944960" y="5180040"/>
            <a:ext cx="1008000" cy="934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مستطيل ذو زاوية واحدة مستديرة 11"/>
          <p:cNvSpPr/>
          <p:nvPr/>
        </p:nvSpPr>
        <p:spPr>
          <a:xfrm>
            <a:off x="2208240" y="463680"/>
            <a:ext cx="2736720" cy="10792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سبقت بحرف ساك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مستطيل ذو زاوية واحدة مستديرة 12"/>
          <p:cNvSpPr/>
          <p:nvPr/>
        </p:nvSpPr>
        <p:spPr>
          <a:xfrm>
            <a:off x="2179800" y="1959120"/>
            <a:ext cx="2736720" cy="10792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سبقت بحرف مضمو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مستطيل ذو زاوية واحدة مستديرة 13"/>
          <p:cNvSpPr/>
          <p:nvPr/>
        </p:nvSpPr>
        <p:spPr>
          <a:xfrm>
            <a:off x="2131920" y="3502080"/>
            <a:ext cx="2737080" cy="10810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سبقت بحرف مفتو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مستطيل ذو زاوية واحدة مستديرة 14"/>
          <p:cNvSpPr/>
          <p:nvPr/>
        </p:nvSpPr>
        <p:spPr>
          <a:xfrm>
            <a:off x="2195640" y="5205240"/>
            <a:ext cx="2736720" cy="108144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سبقت بحرف مكسو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سهم إلى اليسار 15"/>
          <p:cNvSpPr/>
          <p:nvPr/>
        </p:nvSpPr>
        <p:spPr>
          <a:xfrm>
            <a:off x="1123920" y="53496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سهم إلى اليسار 16"/>
          <p:cNvSpPr/>
          <p:nvPr/>
        </p:nvSpPr>
        <p:spPr>
          <a:xfrm>
            <a:off x="1096920" y="191628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سهم إلى اليسار 17"/>
          <p:cNvSpPr/>
          <p:nvPr/>
        </p:nvSpPr>
        <p:spPr>
          <a:xfrm>
            <a:off x="1071720" y="364644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سهم إلى اليسار 18"/>
          <p:cNvSpPr/>
          <p:nvPr/>
        </p:nvSpPr>
        <p:spPr>
          <a:xfrm>
            <a:off x="1096920" y="536904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مستطيل مستدير الزوايا 19"/>
          <p:cNvSpPr/>
          <p:nvPr/>
        </p:nvSpPr>
        <p:spPr>
          <a:xfrm>
            <a:off x="108000" y="4636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عبْ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مستطيل مستدير الزوايا 20"/>
          <p:cNvSpPr/>
          <p:nvPr/>
        </p:nvSpPr>
        <p:spPr>
          <a:xfrm>
            <a:off x="82440" y="19162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مرُ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مستطيل مستدير الزوايا 21"/>
          <p:cNvSpPr/>
          <p:nvPr/>
        </p:nvSpPr>
        <p:spPr>
          <a:xfrm>
            <a:off x="82440" y="3646440"/>
            <a:ext cx="963720" cy="93672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مبتدَ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مستطيل مستدير الزوايا 22"/>
          <p:cNvSpPr/>
          <p:nvPr/>
        </p:nvSpPr>
        <p:spPr>
          <a:xfrm>
            <a:off x="82440" y="53722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ينبِ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شريط منحني إلى الأسفل 1"/>
          <p:cNvSpPr/>
          <p:nvPr/>
        </p:nvSpPr>
        <p:spPr>
          <a:xfrm>
            <a:off x="1428840" y="1143000"/>
            <a:ext cx="6429240" cy="4071960"/>
          </a:xfrm>
          <a:custGeom>
            <a:avLst/>
            <a:gdLst>
              <a:gd name="textAreaLeft" fmla="*/ 1607400 w 6429240"/>
              <a:gd name="textAreaRight" fmla="*/ 4822200 w 6429240"/>
              <a:gd name="textAreaTop" fmla="*/ 1018080 h 4071960"/>
              <a:gd name="textAreaBottom" fmla="*/ 395136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Tw Cen MT"/>
              </a:rPr>
              <a:t>التدريبات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تمرير أفقي 1"/>
          <p:cNvSpPr/>
          <p:nvPr/>
        </p:nvSpPr>
        <p:spPr>
          <a:xfrm>
            <a:off x="539640" y="115920"/>
            <a:ext cx="8353440" cy="16574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التدريب الأول : نصوّبُ أخطاء الهمزة المتطرفة فيما يأ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مخطط انسيابي: معالجة متعاقبة 2"/>
          <p:cNvSpPr/>
          <p:nvPr/>
        </p:nvSpPr>
        <p:spPr>
          <a:xfrm>
            <a:off x="539640" y="1773360"/>
            <a:ext cx="8353440" cy="1079280"/>
          </a:xfrm>
          <a:prstGeom prst="flowChartAlternateProcess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1</a:t>
            </a: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- كان للحكومة اجتماعٌ طارِء لبحث الوضع الاقتصاديّ في غزّ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نجمة مكونة من 12 نقطة 4"/>
          <p:cNvSpPr/>
          <p:nvPr/>
        </p:nvSpPr>
        <p:spPr>
          <a:xfrm>
            <a:off x="6443640" y="2997360"/>
            <a:ext cx="2305080" cy="100800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Tw Cen MT"/>
              </a:rPr>
              <a:t>طارِ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سهم إلى اليسار 5"/>
          <p:cNvSpPr/>
          <p:nvPr/>
        </p:nvSpPr>
        <p:spPr>
          <a:xfrm>
            <a:off x="4788000" y="2997360"/>
            <a:ext cx="1512720" cy="11523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d8b25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زاوية مطوية 6"/>
          <p:cNvSpPr/>
          <p:nvPr/>
        </p:nvSpPr>
        <p:spPr>
          <a:xfrm>
            <a:off x="2124000" y="2997360"/>
            <a:ext cx="2303640" cy="1008000"/>
          </a:xfrm>
          <a:prstGeom prst="foldedCorner">
            <a:avLst>
              <a:gd name="adj" fmla="val 16666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20190b"/>
                </a:solidFill>
                <a:latin typeface="Tw Cen MT"/>
              </a:rPr>
              <a:t>طارِ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مخطط انسيابي: معالجة متعاقبة 7"/>
          <p:cNvSpPr/>
          <p:nvPr/>
        </p:nvSpPr>
        <p:spPr>
          <a:xfrm>
            <a:off x="611280" y="4292640"/>
            <a:ext cx="8353440" cy="108108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w Cen MT"/>
              </a:rPr>
              <a:t>- حملة التضامن مع قضيَّة اللاجئين في دول العالم تُنْبِأ بتعاطف دولي مع قضيت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نجمة مكونة من 12 نقطة 8"/>
          <p:cNvSpPr/>
          <p:nvPr/>
        </p:nvSpPr>
        <p:spPr>
          <a:xfrm>
            <a:off x="6443640" y="5589720"/>
            <a:ext cx="2305080" cy="100800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تُنْبِأ</a:t>
            </a:r>
            <a:r>
              <a:rPr b="1" lang="ar-SA" sz="20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سهم إلى اليسار 9"/>
          <p:cNvSpPr/>
          <p:nvPr/>
        </p:nvSpPr>
        <p:spPr>
          <a:xfrm>
            <a:off x="4788000" y="5483160"/>
            <a:ext cx="1512720" cy="1152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d8b25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زاوية مطوية 10"/>
          <p:cNvSpPr/>
          <p:nvPr/>
        </p:nvSpPr>
        <p:spPr>
          <a:xfrm>
            <a:off x="2124000" y="5483160"/>
            <a:ext cx="2303640" cy="1009800"/>
          </a:xfrm>
          <a:prstGeom prst="foldedCorner">
            <a:avLst>
              <a:gd name="adj" fmla="val 16666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0190b"/>
                </a:solidFill>
                <a:latin typeface="Tw Cen MT"/>
              </a:rPr>
              <a:t>تُنْبِ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10:06:55Z</dcterms:created>
  <dc:creator/>
  <dc:description/>
  <dc:language>en-US</dc:language>
  <cp:lastModifiedBy/>
  <dcterms:modified xsi:type="dcterms:W3CDTF">2017-11-02T21:09:10Z</dcterms:modified>
  <cp:revision>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