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58E7-EDCA-4C31-AE96-5384A755F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الهمزة المتطرفة      الصف التاسع   الفصل الأول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A85C-B887-4498-A5BE-EEDBAEAF2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23B1-3D18-4E18-8BA5-C9B28A10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DEE2-130D-4B9B-B8B7-855FB0914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20CF-3BB4-49FC-8754-321B83DA2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D204-04F3-4B37-9A8D-FD5D6AD0C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الهمزة المتطرفة      الصف التاسع   الفصل الأول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750A-9F51-46A7-8F9B-C744367B7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95A5-755F-421F-94F5-61BFA2AB9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E239-FE99-4426-8471-8E32B583C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22B-EB09-4E60-9E93-7A79151F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3DF6-99BB-4711-A071-CF5E9A8B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الهمزة المتطرفة      الصف التاسع   الفصل الأول 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BBAB-0DD6-49F8-815D-AB785E4CC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الهمزة المتطرفة      الصف التاسع   الفصل الأول 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2017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</a:rPr>
              <a:t>            مدرسة ذكور بيت عمرة الثانوية          إعداد المعلم : محمد حامد العقيل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DB86-23F1-4D45-8CCC-3C2C9E85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C8F-19EB-41CD-BACD-EFB9C418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586-C83F-4F7F-901B-1B27567B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380-5EE9-408F-810E-205DEA4C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D33-55EF-4336-AF2B-ED0F1D3B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5527-6C33-498D-9C1E-9D2C3DB7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8705-A2DE-4F65-B268-9F2AF7B9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FD06-2D4C-4112-9B7A-68994C55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6055-C19E-43C4-BC5B-E4317A51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BE14-56C9-4388-8C94-99C83618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5491-D0B2-406F-824D-9567D2FD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B94F-79AC-4C8F-93E7-8B6312F6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C9D-0555-446B-AC0D-12CA75F9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D739-EFF0-447E-BBB7-3F38051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8B54-3615-492C-AE52-A75BBA3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5784-C431-4E51-9006-724B9C18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1C4F-0E46-4E45-BF5B-EF9526CD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124A-BCAD-48CB-BCDD-5B0A49D8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B65A0-68CE-4746-91C0-5561A05D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DCBE3-F47B-4E6C-A074-9462AA80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D2495-3F2F-4223-A0C5-A4777B96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EC75E-9721-4C0D-B421-E48A0FBF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EB041-B6E0-4998-878B-C7CDF04C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98F-1529-48ED-866C-49FF50CB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90612-2CBE-400C-8F62-374E3249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3146C-5E02-4BCC-85EE-69F090E9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3F5F6-B9B7-4DC5-A3EF-E6604165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4D298-F5CC-40F4-9B01-8E376736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527B9-7A8A-4E29-B322-53427EE7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7807A-5ED9-447D-8F0F-A165D63F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3C347-17C3-4EC8-9D4F-561852FD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BF2DB-2504-4F00-9B4C-88A5346F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38CFB-C7D1-4419-9E95-DA36772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3A97F-289F-4EEE-A751-24950EDD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469-0FDC-40DD-8D08-F9016A71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3B9FE-FF49-4CB4-B818-AF6DB44B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F056D-5E56-49F3-9CFE-40881D93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5D8C7-C729-43A5-A771-03C9245D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A91C2-0C35-4DF1-B413-C0F729D5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5C515-4AC1-423B-8575-C160EBDB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94819-8CC9-4584-997F-25A5746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F1A43-5B3D-45A2-9F24-754F4863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46CF4-104F-4BAB-8E54-3B757EA7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1E4AE2-B389-45A7-9D37-544F44CF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51DD1-32B7-4DF2-BCE7-D4DB4EF2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0AB-E5E0-48EE-8922-7274DD10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7F314-1E71-4C73-B40B-FD9A537F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90D78-1294-485A-B3F1-B198E16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0A9C9-4F4E-4458-8193-B0ED3CA8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B10E5-085E-4192-B339-CC4C9B24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1D239-2BE7-47F7-BB70-4DD413CF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00CB3-A8B1-43F2-BC84-1F8625B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F30D6-94AE-438A-9AAE-27B0EAA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D12EF-4AC4-4AFE-A661-163B6961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2F3AA-BCD1-456D-A6E9-9D13C0D3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B913A-A38E-4EFE-A0EB-2DA48426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C31-4EDE-430A-82DA-A7FC7A5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00CEF-3E5C-47B3-82CC-01292B2D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E2BB-751D-49FA-AD10-7C119EA7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603A1-15D9-49BD-BB1B-C5F73A33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2D165-73EC-4DE1-8FB1-8825C6C7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2195-E052-4CA1-BD8C-511FD769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F6B44-82E7-45D5-B388-4856686A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B808F-A569-4903-8C5F-0B9C09A3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72656-E15A-40C1-90C5-6DBDBD9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98F0-364F-45BB-92AC-4611C3B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1A98C-D297-40FF-A17E-9564833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1BC-BF3B-42B9-AEC9-3DAF5C1F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746C2-B1DE-4807-A4B1-86D2924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E506-2FAB-4D56-A863-801BB9DB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77839-F35C-405C-952B-1CBCA814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6726C-0BE5-4E00-9956-472C03D6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7459F-9FDE-4068-8F83-24C30F2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EF67A-ED59-45B7-8903-DEEF50D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FCE2F-2D88-431A-B4C6-5781D8ED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E0AAC-DFDA-43D5-A54F-638C93FD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0C81E-2CC7-4722-B32A-5C281382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3DA43-D51B-4C7B-BD68-DE95299F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1B0-78A1-4F6C-A165-CE1B7EF2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583AC-237A-47FE-B471-77B3CE7B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5870B-E9EB-439E-A4F1-69563133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6EA11-1673-4EAF-86DC-F43D02DE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245C3-11C2-41FA-86F7-24999A5F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BDD42-D721-4178-8697-ACC0AFB6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1AD1C-1E02-44CA-B0F2-9D157D0B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2AA2-FA65-4F42-8093-13038BF1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1962C-2177-462C-AFF5-28C77790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1A1A8-06CE-494C-99A7-435F18FA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AC65C-A03F-4AF7-B0E4-3482125B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C7F-529B-4729-861E-AE2ADB19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7D1BE-885E-4F1D-8FC3-CE211DE3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46632-679C-4DC0-8479-3D4B2F47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7B439-D303-4E4C-AC0D-74B5AFE6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89CF9-78E9-43FD-9B34-80166962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B55E1-A6D0-40B1-A2C3-EC77334B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0E61-80D1-4E0A-9090-DA9E62E1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A26D2-16AF-46FC-A851-96866902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25C6-2803-4B13-A3C9-137B97791F6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F607-E8DA-4F3C-9253-FC93F2152FC1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0718-41FA-42AC-A707-FFAA7999C605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1F30-B422-4867-A056-556FC475B43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F64A-E02E-4C6A-A5E8-F0513DF878B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370A-2DBF-402C-8A77-6027F85F215D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A99B-121C-4ED0-B3E1-9D75D9FB4CD5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8AB6-73FC-449A-897D-193D1BD1359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900" spc="-1" strike="noStrike">
                <a:solidFill>
                  <a:srgbClr val="ff0000"/>
                </a:solidFill>
                <a:latin typeface="Tw Cen MT"/>
              </a:rPr>
              <a:t> الهمزة المتطرفة 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                          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نجمة مكونة من 7 نقاط 3"/>
          <p:cNvSpPr/>
          <p:nvPr/>
        </p:nvSpPr>
        <p:spPr>
          <a:xfrm>
            <a:off x="6429240" y="3143160"/>
            <a:ext cx="2143440" cy="2643120"/>
          </a:xfrm>
          <a:prstGeom prst="pie">
            <a:avLst/>
          </a:pr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ول الكل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نجمة مكونة من 7 نقاط 4"/>
          <p:cNvSpPr/>
          <p:nvPr/>
        </p:nvSpPr>
        <p:spPr>
          <a:xfrm>
            <a:off x="3286080" y="3500280"/>
            <a:ext cx="1928880" cy="2071800"/>
          </a:xfrm>
          <a:prstGeom prst="pie">
            <a:avLst/>
          </a:pr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سط الكلم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نجمة مكونة من 6 نقاط 5"/>
          <p:cNvSpPr/>
          <p:nvPr/>
        </p:nvSpPr>
        <p:spPr>
          <a:xfrm>
            <a:off x="642960" y="3929040"/>
            <a:ext cx="1785960" cy="2214720"/>
          </a:xfrm>
          <a:prstGeom prst="pie">
            <a:avLst/>
          </a:pr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آخر الكل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مخطط انسيابي: قرار 6"/>
          <p:cNvSpPr/>
          <p:nvPr/>
        </p:nvSpPr>
        <p:spPr>
          <a:xfrm>
            <a:off x="3714840" y="2000160"/>
            <a:ext cx="2714400" cy="135756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ذكَّ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مستطيل مخدوش من كلا الطرفين 7"/>
          <p:cNvSpPr/>
          <p:nvPr/>
        </p:nvSpPr>
        <p:spPr>
          <a:xfrm>
            <a:off x="1143000" y="2071800"/>
            <a:ext cx="1928880" cy="1000080"/>
          </a:xfrm>
          <a:prstGeom prst="pie">
            <a:avLst/>
          </a:pr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همزة تأت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دبوس زينة 1"/>
          <p:cNvSpPr/>
          <p:nvPr/>
        </p:nvSpPr>
        <p:spPr>
          <a:xfrm>
            <a:off x="324000" y="115920"/>
            <a:ext cx="8569080" cy="1081080"/>
          </a:xfrm>
          <a:custGeom>
            <a:avLst/>
            <a:gdLst>
              <a:gd name="textAreaLeft" fmla="*/ 127440 w 8569080"/>
              <a:gd name="textAreaRight" fmla="*/ 8441640 w 8569080"/>
              <a:gd name="textAreaTop" fmla="*/ 127440 h 1081080"/>
              <a:gd name="textAreaBottom" fmla="*/ 953640 h 1081080"/>
            </a:gdLst>
            <a:ahLst/>
            <a:rect l="textAreaLeft" t="textAreaTop" r="textAreaRight" b="textAreaBottom"/>
            <a:pathLst>
              <a:path w="17116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7561" y="21600"/>
                </a:lnTo>
                <a:arcTo wR="3600" hR="3600" stAng="10800000" swAng="5400000"/>
                <a:lnTo>
                  <a:pt x="171161" y="3600"/>
                </a:lnTo>
                <a:arcTo wR="3600" hR="3600" stAng="5400000" swAng="5400000"/>
                <a:close/>
              </a:path>
            </a:pathLst>
          </a:cu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030a0"/>
                </a:solidFill>
                <a:latin typeface="Tw Cen MT"/>
              </a:rPr>
              <a:t>بَدْؤ إضْرابٍ عن الطعام يقوم به الأسرى الفلسطينيو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دبوس زينة 2"/>
          <p:cNvSpPr/>
          <p:nvPr/>
        </p:nvSpPr>
        <p:spPr>
          <a:xfrm>
            <a:off x="326880" y="2924280"/>
            <a:ext cx="8569440" cy="1728720"/>
          </a:xfrm>
          <a:custGeom>
            <a:avLst/>
            <a:gdLst>
              <a:gd name="textAreaLeft" fmla="*/ 203760 w 8569440"/>
              <a:gd name="textAreaRight" fmla="*/ 8365680 w 8569440"/>
              <a:gd name="textAreaTop" fmla="*/ 203760 h 1728720"/>
              <a:gd name="textAreaBottom" fmla="*/ 1524960 h 1728720"/>
            </a:gdLst>
            <a:ahLst/>
            <a:rect l="textAreaLeft" t="textAreaTop" r="textAreaRight" b="textAreaBottom"/>
            <a:pathLst>
              <a:path w="1070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3456" y="21600"/>
                </a:lnTo>
                <a:arcTo wR="3600" hR="3600" stAng="10800000" swAng="5400000"/>
                <a:lnTo>
                  <a:pt x="107056" y="3600"/>
                </a:lnTo>
                <a:arcTo wR="3600" hR="3600" stAng="5400000" swAng="5400000"/>
                <a:close/>
              </a:path>
            </a:pathLst>
          </a:cu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Tw Cen MT"/>
              </a:rPr>
              <a:t>احتواؤ المعرض على عدد من الصور الحائزة على جوائز عربية وعالمية , تخفي وراءها قصصاً تُضيئ للمتأمل مصباح الأم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انفجار 1 3"/>
          <p:cNvSpPr/>
          <p:nvPr/>
        </p:nvSpPr>
        <p:spPr>
          <a:xfrm>
            <a:off x="6156360" y="1341360"/>
            <a:ext cx="2232000" cy="1079640"/>
          </a:xfrm>
          <a:prstGeom prst="irregularSeal1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50"/>
                </a:solidFill>
                <a:latin typeface="Tw Cen MT"/>
              </a:rPr>
              <a:t>بَدْ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انفجار 1 4"/>
          <p:cNvSpPr/>
          <p:nvPr/>
        </p:nvSpPr>
        <p:spPr>
          <a:xfrm>
            <a:off x="6330960" y="4653000"/>
            <a:ext cx="2232000" cy="1079640"/>
          </a:xfrm>
          <a:prstGeom prst="irregularSeal1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50"/>
                </a:solidFill>
                <a:latin typeface="Tw Cen MT"/>
              </a:rPr>
              <a:t>احتوا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انفجار 1 5"/>
          <p:cNvSpPr/>
          <p:nvPr/>
        </p:nvSpPr>
        <p:spPr>
          <a:xfrm>
            <a:off x="6516720" y="5732640"/>
            <a:ext cx="2232000" cy="1081080"/>
          </a:xfrm>
          <a:prstGeom prst="irregularSeal1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b050"/>
                </a:solidFill>
                <a:latin typeface="Tw Cen MT"/>
              </a:rPr>
              <a:t>تُض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سهم إلى اليسار 6"/>
          <p:cNvSpPr/>
          <p:nvPr/>
        </p:nvSpPr>
        <p:spPr>
          <a:xfrm>
            <a:off x="4211640" y="4869000"/>
            <a:ext cx="1944720" cy="8636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7b3d17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سهم إلى اليسار 7"/>
          <p:cNvSpPr/>
          <p:nvPr/>
        </p:nvSpPr>
        <p:spPr>
          <a:xfrm>
            <a:off x="4251240" y="5884920"/>
            <a:ext cx="1943280" cy="86508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7b3d17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سهم إلى اليسار 8"/>
          <p:cNvSpPr/>
          <p:nvPr/>
        </p:nvSpPr>
        <p:spPr>
          <a:xfrm>
            <a:off x="4219560" y="1365120"/>
            <a:ext cx="1944720" cy="8654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مخطط انسيابي: معالجة متعاقبة 9"/>
          <p:cNvSpPr/>
          <p:nvPr/>
        </p:nvSpPr>
        <p:spPr>
          <a:xfrm>
            <a:off x="1476360" y="1341360"/>
            <a:ext cx="2448000" cy="889200"/>
          </a:xfrm>
          <a:prstGeom prst="flowChartAlternateProcess">
            <a:avLst/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70c0"/>
                </a:solidFill>
                <a:latin typeface="Tw Cen MT"/>
              </a:rPr>
              <a:t>بدْ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مخطط انسيابي: معالجة متعاقبة 10"/>
          <p:cNvSpPr/>
          <p:nvPr/>
        </p:nvSpPr>
        <p:spPr>
          <a:xfrm>
            <a:off x="1476360" y="4869000"/>
            <a:ext cx="2448000" cy="888840"/>
          </a:xfrm>
          <a:prstGeom prst="flowChartAlternateProcess">
            <a:avLst/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Tw Cen MT"/>
              </a:rPr>
              <a:t>احتو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مخطط انسيابي: معالجة متعاقبة 11"/>
          <p:cNvSpPr/>
          <p:nvPr/>
        </p:nvSpPr>
        <p:spPr>
          <a:xfrm>
            <a:off x="1476360" y="5873760"/>
            <a:ext cx="2448000" cy="888840"/>
          </a:xfrm>
          <a:prstGeom prst="flowChartAlternateProcess">
            <a:avLst/>
          </a:prstGeom>
          <a:solidFill>
            <a:srgbClr val="eae8e8"/>
          </a:solidFill>
          <a:ln w="19080">
            <a:solidFill>
              <a:srgbClr val="ea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70c0"/>
                </a:solidFill>
                <a:latin typeface="Tw Cen MT"/>
              </a:rPr>
              <a:t>تضيء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تمرير عمودي 1"/>
          <p:cNvSpPr/>
          <p:nvPr/>
        </p:nvSpPr>
        <p:spPr>
          <a:xfrm>
            <a:off x="0" y="0"/>
            <a:ext cx="9036000" cy="1341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تدريب الثاني : نستخرج الكلمة المنتهية بهمزة متطرفة , معللين رسمها على تلك الصورة  فيما يأت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مستطيل مخدوش من كلا الطرفين 2"/>
          <p:cNvSpPr/>
          <p:nvPr/>
        </p:nvSpPr>
        <p:spPr>
          <a:xfrm>
            <a:off x="179280" y="1419120"/>
            <a:ext cx="8713800" cy="1368360"/>
          </a:xfrm>
          <a:prstGeom prst="pie">
            <a:avLst/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f0"/>
                </a:solidFill>
                <a:latin typeface="Tw Cen MT"/>
              </a:rPr>
              <a:t>1</a:t>
            </a:r>
            <a:r>
              <a:rPr b="1" lang="ar-SA" sz="3200" spc="-1" strike="noStrike">
                <a:solidFill>
                  <a:srgbClr val="00b0f0"/>
                </a:solidFill>
                <a:latin typeface="Tw Cen MT"/>
              </a:rPr>
              <a:t>- تبدَأ الرماية بالأضواء , وبجميع أنواع الكشافات .. الأضواء الباحثة عن اللّا شىء .. العمياء المحملة في جسد الليل الممد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مخطط انسيابي: قرص ممغنط 8"/>
          <p:cNvSpPr/>
          <p:nvPr/>
        </p:nvSpPr>
        <p:spPr>
          <a:xfrm>
            <a:off x="6948360" y="3068640"/>
            <a:ext cx="1584360" cy="865080"/>
          </a:xfrm>
          <a:prstGeom prst="flowChartMagneticDisk">
            <a:avLst/>
          </a:prstGeom>
          <a:solidFill>
            <a:srgbClr val="edeee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b050"/>
                </a:solidFill>
                <a:latin typeface="Tw Cen MT"/>
              </a:rPr>
              <a:t>تبدَ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مخطط انسيابي: قرص ممغنط 9"/>
          <p:cNvSpPr/>
          <p:nvPr/>
        </p:nvSpPr>
        <p:spPr>
          <a:xfrm>
            <a:off x="7039080" y="3997440"/>
            <a:ext cx="1584360" cy="863640"/>
          </a:xfrm>
          <a:prstGeom prst="flowChartMagneticDisk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b050"/>
                </a:solidFill>
                <a:latin typeface="Tw Cen MT"/>
              </a:rPr>
              <a:t>الأضواء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مخطط انسيابي: قرص ممغنط 10"/>
          <p:cNvSpPr/>
          <p:nvPr/>
        </p:nvSpPr>
        <p:spPr>
          <a:xfrm>
            <a:off x="7039080" y="4878360"/>
            <a:ext cx="1584360" cy="863640"/>
          </a:xfrm>
          <a:prstGeom prst="flowChartMagneticDisk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b050"/>
                </a:solidFill>
                <a:latin typeface="Tw Cen MT"/>
              </a:rPr>
              <a:t>شيْء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مخطط انسيابي: قرص ممغنط 11"/>
          <p:cNvSpPr/>
          <p:nvPr/>
        </p:nvSpPr>
        <p:spPr>
          <a:xfrm>
            <a:off x="7086600" y="5796000"/>
            <a:ext cx="1584360" cy="865080"/>
          </a:xfrm>
          <a:prstGeom prst="flowChartMagneticDisk">
            <a:avLst/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b050"/>
                </a:solidFill>
                <a:latin typeface="Tw Cen MT"/>
              </a:rPr>
              <a:t>العمياء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مجسم مشطوف الحواف 12"/>
          <p:cNvSpPr/>
          <p:nvPr/>
        </p:nvSpPr>
        <p:spPr>
          <a:xfrm>
            <a:off x="611280" y="2924280"/>
            <a:ext cx="5976720" cy="10731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55d7e"/>
                </a:solidFill>
                <a:latin typeface="Tw Cen MT"/>
              </a:rPr>
              <a:t>لأن ما قبلها مفتو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مجسم مشطوف الحواف 13"/>
          <p:cNvSpPr/>
          <p:nvPr/>
        </p:nvSpPr>
        <p:spPr>
          <a:xfrm>
            <a:off x="611280" y="4008600"/>
            <a:ext cx="5976720" cy="9284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55d7e"/>
                </a:solidFill>
                <a:latin typeface="Tw Cen MT"/>
              </a:rPr>
              <a:t>لأن ما قبلها حرف 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مجسم مشطوف الحواف 14"/>
          <p:cNvSpPr/>
          <p:nvPr/>
        </p:nvSpPr>
        <p:spPr>
          <a:xfrm>
            <a:off x="611280" y="4960800"/>
            <a:ext cx="5976720" cy="930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55d7e"/>
                </a:solidFill>
                <a:latin typeface="Tw Cen MT"/>
              </a:rPr>
              <a:t>لأن ما قبلها حرف ساك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مجسم مشطوف الحواف 15"/>
          <p:cNvSpPr/>
          <p:nvPr/>
        </p:nvSpPr>
        <p:spPr>
          <a:xfrm>
            <a:off x="611280" y="5950080"/>
            <a:ext cx="5976720" cy="8636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55d7e"/>
                </a:solidFill>
                <a:latin typeface="Tw Cen MT"/>
              </a:rPr>
              <a:t>لأن ما قبلها حرف 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مخطط انسيابي: معالجة متعاقبة 1"/>
          <p:cNvSpPr/>
          <p:nvPr/>
        </p:nvSpPr>
        <p:spPr>
          <a:xfrm>
            <a:off x="0" y="189000"/>
            <a:ext cx="8964720" cy="2448000"/>
          </a:xfrm>
          <a:prstGeom prst="flowChartAlternateProcess">
            <a:avLst/>
          </a:prstGeom>
          <a:solidFill>
            <a:srgbClr val="00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w Cen MT"/>
              </a:rPr>
              <a:t>2</a:t>
            </a:r>
            <a:r>
              <a:rPr b="1" lang="ar-SA" sz="3200" spc="-1" strike="noStrike">
                <a:solidFill>
                  <a:srgbClr val="ffff00"/>
                </a:solidFill>
                <a:latin typeface="Tw Cen MT"/>
              </a:rPr>
              <a:t>- تصعد التلة فتواجهك بئر تاريخية , يزيد عمقها عن عشرة أمتار , حفرت بالصخر على شكل إجاصة , تمتلِئُ بالماء , تمشي عبر ممر جوانبه من حجارة مهذبة لتصل أعلى التلة , حيث يتربع مسجد سوسية الذي لا يزال يحرس المكان بجدرانه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مخطط انسيابي: تخزين بالوصول المباشر 2"/>
          <p:cNvSpPr/>
          <p:nvPr/>
        </p:nvSpPr>
        <p:spPr>
          <a:xfrm>
            <a:off x="6084720" y="2924280"/>
            <a:ext cx="2519640" cy="1152360"/>
          </a:xfrm>
          <a:prstGeom prst="flowChartMagneticDrum">
            <a:avLst/>
          </a:prstGeom>
          <a:solidFill>
            <a:srgbClr val="f2f2f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w Cen MT"/>
              </a:rPr>
              <a:t>تمتلِئُ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مخطط انسيابي: تخزين بالوصول المباشر 3"/>
          <p:cNvSpPr/>
          <p:nvPr/>
        </p:nvSpPr>
        <p:spPr>
          <a:xfrm>
            <a:off x="6097680" y="4581360"/>
            <a:ext cx="2520720" cy="1151280"/>
          </a:xfrm>
          <a:prstGeom prst="flowChartMagneticDrum">
            <a:avLst/>
          </a:prstGeom>
          <a:solidFill>
            <a:srgbClr val="f2f2f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w Cen MT"/>
              </a:rPr>
              <a:t>بالماءِ</a:t>
            </a:r>
            <a:r>
              <a:rPr b="1" lang="ar-SA" sz="44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مخطط انسيابي: عرض 4"/>
          <p:cNvSpPr/>
          <p:nvPr/>
        </p:nvSpPr>
        <p:spPr>
          <a:xfrm>
            <a:off x="0" y="2744640"/>
            <a:ext cx="5948280" cy="1692360"/>
          </a:xfrm>
          <a:prstGeom prst="flowChartDisplay">
            <a:avLst/>
          </a:prstGeom>
          <a:solidFill>
            <a:srgbClr val="edeee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Tw Cen MT"/>
              </a:rPr>
              <a:t>لأن ما قبلها حرف مكس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مخطط انسيابي: عرض 5"/>
          <p:cNvSpPr/>
          <p:nvPr/>
        </p:nvSpPr>
        <p:spPr>
          <a:xfrm>
            <a:off x="108000" y="4619520"/>
            <a:ext cx="5840280" cy="1511280"/>
          </a:xfrm>
          <a:prstGeom prst="flowChartDisplay">
            <a:avLst/>
          </a:prstGeom>
          <a:solidFill>
            <a:srgbClr val="e5dedb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Tw Cen MT"/>
              </a:rPr>
              <a:t>لأن ما قبلها حرف م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انفجار 2 1"/>
          <p:cNvSpPr/>
          <p:nvPr/>
        </p:nvSpPr>
        <p:spPr>
          <a:xfrm>
            <a:off x="6000840" y="214200"/>
            <a:ext cx="2857320" cy="1428840"/>
          </a:xfrm>
          <a:prstGeom prst="irregularSeal2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Tw Cen MT"/>
              </a:rPr>
              <a:t>تذكَّر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مخطط انسيابي: محطة طرفية 2"/>
          <p:cNvSpPr/>
          <p:nvPr/>
        </p:nvSpPr>
        <p:spPr>
          <a:xfrm>
            <a:off x="428760" y="642960"/>
            <a:ext cx="5072040" cy="1357200"/>
          </a:xfrm>
          <a:prstGeom prst="flowChartTerminator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w Cen MT"/>
              </a:rPr>
              <a:t>الحركات</a:t>
            </a:r>
            <a:r>
              <a:rPr b="1" lang="ar-SA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w Cen MT"/>
              </a:rPr>
              <a:t>حسب</a:t>
            </a:r>
            <a:r>
              <a:rPr b="1" lang="ar-SA" sz="4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w Cen MT"/>
              </a:rPr>
              <a:t>قوتها</a:t>
            </a:r>
            <a:r>
              <a:rPr b="1" lang="ar-SA" sz="4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مخطط انسيابي: شريط مثقب 3"/>
          <p:cNvSpPr/>
          <p:nvPr/>
        </p:nvSpPr>
        <p:spPr>
          <a:xfrm>
            <a:off x="6858000" y="1928880"/>
            <a:ext cx="1643040" cy="121428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w Cen MT"/>
              </a:rPr>
              <a:t>الكسرة</a:t>
            </a:r>
            <a:r>
              <a:rPr b="1" lang="ar-SA" sz="44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مخطط انسيابي: شريط مثقب 4"/>
          <p:cNvSpPr/>
          <p:nvPr/>
        </p:nvSpPr>
        <p:spPr>
          <a:xfrm>
            <a:off x="5072040" y="2714760"/>
            <a:ext cx="1571760" cy="142848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w Cen MT"/>
              </a:rPr>
              <a:t>الضمة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مخطط انسيابي: شريط مثقب 5"/>
          <p:cNvSpPr/>
          <p:nvPr/>
        </p:nvSpPr>
        <p:spPr>
          <a:xfrm>
            <a:off x="2928960" y="3429000"/>
            <a:ext cx="1643040" cy="150012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w Cen MT"/>
              </a:rPr>
              <a:t>الفتحة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مخطط انسيابي: شريط مثقب 6"/>
          <p:cNvSpPr/>
          <p:nvPr/>
        </p:nvSpPr>
        <p:spPr>
          <a:xfrm>
            <a:off x="428760" y="4214880"/>
            <a:ext cx="1928520" cy="164304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w Cen MT"/>
              </a:rPr>
              <a:t>السكون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تمرير أفقي 1"/>
          <p:cNvSpPr/>
          <p:nvPr/>
        </p:nvSpPr>
        <p:spPr>
          <a:xfrm>
            <a:off x="714240" y="714240"/>
            <a:ext cx="7715520" cy="1428840"/>
          </a:xfrm>
          <a:prstGeom prst="horizontalScroll">
            <a:avLst>
              <a:gd name="adj" fmla="val 125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w Cen MT"/>
              </a:rPr>
              <a:t>نتأمل الكلمات الآتية :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مخطط انسيابي: معالجة متعاقبة 2"/>
          <p:cNvSpPr/>
          <p:nvPr/>
        </p:nvSpPr>
        <p:spPr>
          <a:xfrm>
            <a:off x="6940440" y="2357280"/>
            <a:ext cx="1857600" cy="6429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d0d0d"/>
                </a:solidFill>
                <a:latin typeface="Tw Cen MT"/>
              </a:rPr>
              <a:t>البَريء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سهم إلى اليسار 5"/>
          <p:cNvSpPr/>
          <p:nvPr/>
        </p:nvSpPr>
        <p:spPr>
          <a:xfrm>
            <a:off x="6226200" y="2571840"/>
            <a:ext cx="714240" cy="2142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مستطيل مستدير الزوايا 6"/>
          <p:cNvSpPr/>
          <p:nvPr/>
        </p:nvSpPr>
        <p:spPr>
          <a:xfrm>
            <a:off x="250920" y="2357280"/>
            <a:ext cx="5821200" cy="78588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همزةُ مُتَطَرِّفَةٌ و قبلَها ياءٌ ساكن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مخطط انسيابي: معالجة متعاقبة 7"/>
          <p:cNvSpPr/>
          <p:nvPr/>
        </p:nvSpPr>
        <p:spPr>
          <a:xfrm>
            <a:off x="6940440" y="3286080"/>
            <a:ext cx="1774800" cy="71460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d0d0d"/>
                </a:solidFill>
                <a:latin typeface="Tw Cen MT"/>
              </a:rPr>
              <a:t>بِهدوءٍ</a:t>
            </a:r>
            <a:r>
              <a:rPr b="1" lang="ar-SA" sz="4000" spc="-1" strike="noStrike">
                <a:solidFill>
                  <a:srgbClr val="0d0d0d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مخطط انسيابي: معالجة متعاقبة 9"/>
          <p:cNvSpPr/>
          <p:nvPr/>
        </p:nvSpPr>
        <p:spPr>
          <a:xfrm>
            <a:off x="6929280" y="4500720"/>
            <a:ext cx="1857600" cy="6429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d0d0d"/>
                </a:solidFill>
                <a:latin typeface="Tw Cen MT"/>
              </a:rPr>
              <a:t>دِفْء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سهم إلى اليسار 10"/>
          <p:cNvSpPr/>
          <p:nvPr/>
        </p:nvSpPr>
        <p:spPr>
          <a:xfrm>
            <a:off x="6215040" y="3578400"/>
            <a:ext cx="714240" cy="2142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سهم إلى اليسار 12"/>
          <p:cNvSpPr/>
          <p:nvPr/>
        </p:nvSpPr>
        <p:spPr>
          <a:xfrm>
            <a:off x="6215040" y="4786200"/>
            <a:ext cx="714240" cy="214560"/>
          </a:xfrm>
          <a:prstGeom prst="lef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مستطيل مستدير الزوايا 13"/>
          <p:cNvSpPr/>
          <p:nvPr/>
        </p:nvSpPr>
        <p:spPr>
          <a:xfrm>
            <a:off x="250920" y="3357720"/>
            <a:ext cx="5821200" cy="78552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همزةُ مُتَطَرِّفَةٌ  و قبلَها واوٌ ساكن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مستطيل مستدير الزوايا 15"/>
          <p:cNvSpPr/>
          <p:nvPr/>
        </p:nvSpPr>
        <p:spPr>
          <a:xfrm>
            <a:off x="250920" y="4500720"/>
            <a:ext cx="5821200" cy="78552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همزةُ مُتَطرِّفةٌ  وقبلَها فاءٌ ساك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مستطيل مستدير الزوايا 3"/>
          <p:cNvSpPr/>
          <p:nvPr/>
        </p:nvSpPr>
        <p:spPr>
          <a:xfrm>
            <a:off x="7021440" y="5589720"/>
            <a:ext cx="1695600" cy="792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w Cen MT"/>
              </a:rPr>
              <a:t>أجْواْء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سهم إلى اليسار 4"/>
          <p:cNvSpPr/>
          <p:nvPr/>
        </p:nvSpPr>
        <p:spPr>
          <a:xfrm>
            <a:off x="6226200" y="5985000"/>
            <a:ext cx="744480" cy="180720"/>
          </a:xfrm>
          <a:prstGeom prst="leftArrow">
            <a:avLst>
              <a:gd name="adj1" fmla="val 50000"/>
              <a:gd name="adj2" fmla="val 5006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مستطيل مستدير الزوايا 14"/>
          <p:cNvSpPr/>
          <p:nvPr/>
        </p:nvSpPr>
        <p:spPr>
          <a:xfrm>
            <a:off x="250920" y="5681520"/>
            <a:ext cx="5821200" cy="78588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w Cen MT"/>
              </a:rPr>
              <a:t>الهمزةُ مُتَطرِّفَةٌ  و قبلَها ألفٌ ساك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مخطط انسيابي: شريط مثقب 1"/>
          <p:cNvSpPr/>
          <p:nvPr/>
        </p:nvSpPr>
        <p:spPr>
          <a:xfrm>
            <a:off x="285840" y="285840"/>
            <a:ext cx="8215200" cy="1143000"/>
          </a:xfrm>
          <a:prstGeom prst="flowChartPunchedTap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w Cen MT"/>
              </a:rPr>
              <a:t>عند كتابة الهمزة المتطرفة  : ننظر إلى حركة  الحرف السابق ل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مخطط انسيابي: معالجة متعاقبة 2"/>
          <p:cNvSpPr/>
          <p:nvPr/>
        </p:nvSpPr>
        <p:spPr>
          <a:xfrm>
            <a:off x="6929280" y="1785960"/>
            <a:ext cx="1857600" cy="8571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b050"/>
                </a:solidFill>
                <a:latin typeface="Tw Cen MT"/>
              </a:rPr>
              <a:t>نَبَ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مخطط انسيابي: معالجة متعاقبة 4"/>
          <p:cNvSpPr/>
          <p:nvPr/>
        </p:nvSpPr>
        <p:spPr>
          <a:xfrm>
            <a:off x="4143240" y="1785960"/>
            <a:ext cx="1857600" cy="8571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w Cen MT"/>
              </a:rPr>
              <a:t>كُفُؤ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مخطط انسيابي: معالجة متعاقبة 5"/>
          <p:cNvSpPr/>
          <p:nvPr/>
        </p:nvSpPr>
        <p:spPr>
          <a:xfrm>
            <a:off x="712800" y="1785960"/>
            <a:ext cx="2244600" cy="85716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w Cen MT"/>
              </a:rPr>
              <a:t>شواطِ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سهم للأسفل 12"/>
          <p:cNvSpPr/>
          <p:nvPr/>
        </p:nvSpPr>
        <p:spPr>
          <a:xfrm>
            <a:off x="7215120" y="2924280"/>
            <a:ext cx="1500120" cy="1441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w Cen MT"/>
              </a:rPr>
              <a:t>حركة الحرف الساب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سهم للأسفل 13"/>
          <p:cNvSpPr/>
          <p:nvPr/>
        </p:nvSpPr>
        <p:spPr>
          <a:xfrm>
            <a:off x="4286160" y="2898720"/>
            <a:ext cx="1571760" cy="1467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b050"/>
                </a:solidFill>
                <a:latin typeface="Tw Cen MT"/>
              </a:rPr>
              <a:t>حركة الحرف الساب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سهم للأسفل 14"/>
          <p:cNvSpPr/>
          <p:nvPr/>
        </p:nvSpPr>
        <p:spPr>
          <a:xfrm>
            <a:off x="1012680" y="2886120"/>
            <a:ext cx="1643040" cy="1479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b050"/>
                </a:solidFill>
                <a:latin typeface="Tw Cen MT"/>
              </a:rPr>
              <a:t>حركة الحرف الساب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مستطيل مخدوش من كلا الطرفين 15"/>
          <p:cNvSpPr/>
          <p:nvPr/>
        </p:nvSpPr>
        <p:spPr>
          <a:xfrm>
            <a:off x="6859440" y="4537080"/>
            <a:ext cx="2143440" cy="50004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w Cen MT"/>
              </a:rPr>
              <a:t>ـبَـ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مستطيل مخدوش من كلا الطرفين 16"/>
          <p:cNvSpPr/>
          <p:nvPr/>
        </p:nvSpPr>
        <p:spPr>
          <a:xfrm>
            <a:off x="4143240" y="4537080"/>
            <a:ext cx="2143440" cy="57132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w Cen MT"/>
              </a:rPr>
              <a:t>ـفُـ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مستطيل مخدوش من كلا الطرفين 17"/>
          <p:cNvSpPr/>
          <p:nvPr/>
        </p:nvSpPr>
        <p:spPr>
          <a:xfrm>
            <a:off x="806400" y="4659480"/>
            <a:ext cx="2143080" cy="50004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w Cen MT"/>
              </a:rPr>
              <a:t>ط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شمس 1"/>
          <p:cNvSpPr/>
          <p:nvPr/>
        </p:nvSpPr>
        <p:spPr>
          <a:xfrm>
            <a:off x="539640" y="765000"/>
            <a:ext cx="7488360" cy="5400720"/>
          </a:xfrm>
          <a:prstGeom prst="sun">
            <a:avLst>
              <a:gd name="adj" fmla="val 25000"/>
            </a:avLst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0000"/>
                </a:solidFill>
                <a:latin typeface="Tw Cen MT"/>
              </a:rPr>
              <a:t>نستنتج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شكل بيضاوي 1"/>
          <p:cNvSpPr/>
          <p:nvPr/>
        </p:nvSpPr>
        <p:spPr>
          <a:xfrm>
            <a:off x="1835280" y="260280"/>
            <a:ext cx="5976720" cy="2305080"/>
          </a:xfrm>
          <a:prstGeom prst="ellipse">
            <a:avLst/>
          </a:prstGeom>
          <a:solidFill>
            <a:srgbClr val="bfd3e4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w Cen MT"/>
              </a:rPr>
              <a:t>الهمزة المتطرفة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مخطط انسيابي: متعدد المستندات 2"/>
          <p:cNvSpPr/>
          <p:nvPr/>
        </p:nvSpPr>
        <p:spPr>
          <a:xfrm>
            <a:off x="179280" y="2997360"/>
            <a:ext cx="8856720" cy="3384360"/>
          </a:xfrm>
          <a:prstGeom prst="flowChartMultidocument">
            <a:avLst/>
          </a:prstGeom>
          <a:solidFill>
            <a:srgbClr val="edeee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060"/>
                </a:solidFill>
                <a:latin typeface="Tw Cen MT"/>
              </a:rPr>
              <a:t>يرتبط رسمها  بضبط الحرف السابق ل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مستطيل ذو زاوية واحدة مستديرة 1"/>
          <p:cNvSpPr/>
          <p:nvPr/>
        </p:nvSpPr>
        <p:spPr>
          <a:xfrm>
            <a:off x="6012000" y="333360"/>
            <a:ext cx="2736720" cy="1079640"/>
          </a:xfrm>
          <a:prstGeom prst="pie">
            <a:avLst/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b3d17"/>
                </a:solidFill>
                <a:latin typeface="Tw Cen MT"/>
              </a:rPr>
              <a:t>تكتب على السط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مستطيل ذو زاوية واحدة مستديرة 2"/>
          <p:cNvSpPr/>
          <p:nvPr/>
        </p:nvSpPr>
        <p:spPr>
          <a:xfrm>
            <a:off x="6012000" y="1916280"/>
            <a:ext cx="2779560" cy="1081080"/>
          </a:xfrm>
          <a:prstGeom prst="pie">
            <a:avLst/>
          </a:prstGeom>
          <a:solidFill>
            <a:srgbClr val="f8e6d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b3d17"/>
                </a:solidFill>
                <a:latin typeface="Tw Cen MT"/>
              </a:rPr>
              <a:t>تكتب على واو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مستطيل ذو زاوية واحدة مستديرة 3"/>
          <p:cNvSpPr/>
          <p:nvPr/>
        </p:nvSpPr>
        <p:spPr>
          <a:xfrm>
            <a:off x="6012000" y="3357720"/>
            <a:ext cx="2736720" cy="1079280"/>
          </a:xfrm>
          <a:prstGeom prst="pie">
            <a:avLst/>
          </a:prstGeom>
          <a:solidFill>
            <a:srgbClr val="f8e6d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b3d17"/>
                </a:solidFill>
                <a:latin typeface="Tw Cen MT"/>
              </a:rPr>
              <a:t>تكتب على أل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مستطيل ذو زاوية واحدة مستديرة 4"/>
          <p:cNvSpPr/>
          <p:nvPr/>
        </p:nvSpPr>
        <p:spPr>
          <a:xfrm>
            <a:off x="6012000" y="4869000"/>
            <a:ext cx="2808000" cy="1584360"/>
          </a:xfrm>
          <a:prstGeom prst="pie">
            <a:avLst/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b3d17"/>
                </a:solidFill>
                <a:latin typeface="Tw Cen MT"/>
              </a:rPr>
              <a:t>تكتب على ياء غير منقوط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سهم إلى اليسار 7"/>
          <p:cNvSpPr/>
          <p:nvPr/>
        </p:nvSpPr>
        <p:spPr>
          <a:xfrm>
            <a:off x="4932360" y="463680"/>
            <a:ext cx="1008000" cy="93636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w Cen MT"/>
              </a:rPr>
              <a:t>إذ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سهم إلى اليسار 8"/>
          <p:cNvSpPr/>
          <p:nvPr/>
        </p:nvSpPr>
        <p:spPr>
          <a:xfrm>
            <a:off x="4932360" y="1959120"/>
            <a:ext cx="1008000" cy="934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w Cen MT"/>
              </a:rPr>
              <a:t>إذا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سهم إلى اليسار 9"/>
          <p:cNvSpPr/>
          <p:nvPr/>
        </p:nvSpPr>
        <p:spPr>
          <a:xfrm>
            <a:off x="4902120" y="3502080"/>
            <a:ext cx="1008000" cy="9367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w Cen MT"/>
              </a:rPr>
              <a:t>إذا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سهم إلى اليسار 10"/>
          <p:cNvSpPr/>
          <p:nvPr/>
        </p:nvSpPr>
        <p:spPr>
          <a:xfrm>
            <a:off x="4944960" y="5180040"/>
            <a:ext cx="1008000" cy="934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ae8e8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w Cen MT"/>
              </a:rPr>
              <a:t>إذا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مستطيل ذو زاوية واحدة مستديرة 11"/>
          <p:cNvSpPr/>
          <p:nvPr/>
        </p:nvSpPr>
        <p:spPr>
          <a:xfrm>
            <a:off x="2208240" y="463680"/>
            <a:ext cx="2736720" cy="1079280"/>
          </a:xfrm>
          <a:prstGeom prst="pie">
            <a:avLst/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سبقت بحرف ساك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مستطيل ذو زاوية واحدة مستديرة 12"/>
          <p:cNvSpPr/>
          <p:nvPr/>
        </p:nvSpPr>
        <p:spPr>
          <a:xfrm>
            <a:off x="2179800" y="1959120"/>
            <a:ext cx="2736720" cy="1079280"/>
          </a:xfrm>
          <a:prstGeom prst="pie">
            <a:avLst/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50"/>
                </a:solidFill>
                <a:latin typeface="Tw Cen MT"/>
              </a:rPr>
              <a:t>سبقت بحرف مضموم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مستطيل ذو زاوية واحدة مستديرة 13"/>
          <p:cNvSpPr/>
          <p:nvPr/>
        </p:nvSpPr>
        <p:spPr>
          <a:xfrm>
            <a:off x="2131920" y="3502080"/>
            <a:ext cx="2737080" cy="1081080"/>
          </a:xfrm>
          <a:prstGeom prst="pie">
            <a:avLst/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50"/>
                </a:solidFill>
                <a:latin typeface="Tw Cen MT"/>
              </a:rPr>
              <a:t>سبقت بحرف مفتو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مستطيل ذو زاوية واحدة مستديرة 14"/>
          <p:cNvSpPr/>
          <p:nvPr/>
        </p:nvSpPr>
        <p:spPr>
          <a:xfrm>
            <a:off x="2195640" y="5205240"/>
            <a:ext cx="2736720" cy="1081440"/>
          </a:xfrm>
          <a:prstGeom prst="pie">
            <a:avLst/>
          </a:prstGeom>
          <a:solidFill>
            <a:srgbClr val="ffffff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سبقت بحرف مكسور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سهم إلى اليسار 15"/>
          <p:cNvSpPr/>
          <p:nvPr/>
        </p:nvSpPr>
        <p:spPr>
          <a:xfrm>
            <a:off x="1123920" y="534960"/>
            <a:ext cx="1008000" cy="9367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ثل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سهم إلى اليسار 16"/>
          <p:cNvSpPr/>
          <p:nvPr/>
        </p:nvSpPr>
        <p:spPr>
          <a:xfrm>
            <a:off x="1096920" y="1916280"/>
            <a:ext cx="1008000" cy="93636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ثل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سهم إلى اليسار 17"/>
          <p:cNvSpPr/>
          <p:nvPr/>
        </p:nvSpPr>
        <p:spPr>
          <a:xfrm>
            <a:off x="1071720" y="3646440"/>
            <a:ext cx="1008000" cy="9367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ثل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سهم إلى اليسار 18"/>
          <p:cNvSpPr/>
          <p:nvPr/>
        </p:nvSpPr>
        <p:spPr>
          <a:xfrm>
            <a:off x="1096920" y="5369040"/>
            <a:ext cx="1008000" cy="93636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eaf0f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ثل</a:t>
            </a:r>
            <a:r>
              <a:rPr b="1" lang="ar-SA" sz="40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مستطيل مستدير الزوايا 19"/>
          <p:cNvSpPr/>
          <p:nvPr/>
        </p:nvSpPr>
        <p:spPr>
          <a:xfrm>
            <a:off x="108000" y="463680"/>
            <a:ext cx="963720" cy="936360"/>
          </a:xfrm>
          <a:prstGeom prst="roundRect">
            <a:avLst>
              <a:gd name="adj" fmla="val 16667"/>
            </a:avLst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عبْ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مستطيل مستدير الزوايا 20"/>
          <p:cNvSpPr/>
          <p:nvPr/>
        </p:nvSpPr>
        <p:spPr>
          <a:xfrm>
            <a:off x="82440" y="1916280"/>
            <a:ext cx="963720" cy="936360"/>
          </a:xfrm>
          <a:prstGeom prst="roundRect">
            <a:avLst>
              <a:gd name="adj" fmla="val 16667"/>
            </a:avLst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مرُ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مستطيل مستدير الزوايا 21"/>
          <p:cNvSpPr/>
          <p:nvPr/>
        </p:nvSpPr>
        <p:spPr>
          <a:xfrm>
            <a:off x="82440" y="3646440"/>
            <a:ext cx="963720" cy="936720"/>
          </a:xfrm>
          <a:prstGeom prst="roundRect">
            <a:avLst>
              <a:gd name="adj" fmla="val 16667"/>
            </a:avLst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مبتدَ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مستطيل مستدير الزوايا 22"/>
          <p:cNvSpPr/>
          <p:nvPr/>
        </p:nvSpPr>
        <p:spPr>
          <a:xfrm>
            <a:off x="82440" y="5372280"/>
            <a:ext cx="963720" cy="936360"/>
          </a:xfrm>
          <a:prstGeom prst="roundRect">
            <a:avLst>
              <a:gd name="adj" fmla="val 16667"/>
            </a:avLst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</a:rPr>
              <a:t>ينبِ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شريط منحني إلى الأسفل 1"/>
          <p:cNvSpPr/>
          <p:nvPr/>
        </p:nvSpPr>
        <p:spPr>
          <a:xfrm>
            <a:off x="1428840" y="1143000"/>
            <a:ext cx="6429240" cy="4071960"/>
          </a:xfrm>
          <a:custGeom>
            <a:avLst/>
            <a:gdLst>
              <a:gd name="textAreaLeft" fmla="*/ 1607400 w 6429240"/>
              <a:gd name="textAreaRight" fmla="*/ 4822200 w 6429240"/>
              <a:gd name="textAreaTop" fmla="*/ 1018080 h 4071960"/>
              <a:gd name="textAreaBottom" fmla="*/ 3951360 h 40719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0000"/>
                </a:solidFill>
                <a:latin typeface="Tw Cen MT"/>
              </a:rPr>
              <a:t>التدريبات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تمرير أفقي 1"/>
          <p:cNvSpPr/>
          <p:nvPr/>
        </p:nvSpPr>
        <p:spPr>
          <a:xfrm>
            <a:off x="539640" y="115920"/>
            <a:ext cx="8353440" cy="165744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w Cen MT"/>
              </a:rPr>
              <a:t>التدريب الأول : نصوّبُ أخطاء الهمزة المتطرفة فيما يأت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مخطط انسيابي: معالجة متعاقبة 2"/>
          <p:cNvSpPr/>
          <p:nvPr/>
        </p:nvSpPr>
        <p:spPr>
          <a:xfrm>
            <a:off x="539640" y="1773360"/>
            <a:ext cx="8353440" cy="1079280"/>
          </a:xfrm>
          <a:prstGeom prst="flowChartAlternateProcess">
            <a:avLst/>
          </a:prstGeom>
          <a:solidFill>
            <a:srgbClr val="edeee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w Cen MT"/>
              </a:rPr>
              <a:t>1</a:t>
            </a:r>
            <a:r>
              <a:rPr b="1" lang="ar-SA" sz="2800" spc="-1" strike="noStrike">
                <a:solidFill>
                  <a:srgbClr val="ff0000"/>
                </a:solidFill>
                <a:latin typeface="Tw Cen MT"/>
              </a:rPr>
              <a:t>- كان للحكومة اجتماعٌ طارِء لبحث الوضع الاقتصاديّ في غزّ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نجمة مكونة من 12 نقطة 4"/>
          <p:cNvSpPr/>
          <p:nvPr/>
        </p:nvSpPr>
        <p:spPr>
          <a:xfrm>
            <a:off x="6443640" y="2997360"/>
            <a:ext cx="2305080" cy="1008000"/>
          </a:xfrm>
          <a:prstGeom prst="pie">
            <a:avLst/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Tw Cen MT"/>
              </a:rPr>
              <a:t>طارِ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سهم إلى اليسار 5"/>
          <p:cNvSpPr/>
          <p:nvPr/>
        </p:nvSpPr>
        <p:spPr>
          <a:xfrm>
            <a:off x="4788000" y="2997360"/>
            <a:ext cx="1512720" cy="11523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d8b25c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زاوية مطوية 6"/>
          <p:cNvSpPr/>
          <p:nvPr/>
        </p:nvSpPr>
        <p:spPr>
          <a:xfrm>
            <a:off x="2124000" y="2997360"/>
            <a:ext cx="2303640" cy="1008000"/>
          </a:xfrm>
          <a:prstGeom prst="foldedCorner">
            <a:avLst>
              <a:gd name="adj" fmla="val 16666"/>
            </a:avLst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20190b"/>
                </a:solidFill>
                <a:latin typeface="Tw Cen MT"/>
              </a:rPr>
              <a:t>طارِ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مخطط انسيابي: معالجة متعاقبة 7"/>
          <p:cNvSpPr/>
          <p:nvPr/>
        </p:nvSpPr>
        <p:spPr>
          <a:xfrm>
            <a:off x="611280" y="4292640"/>
            <a:ext cx="8353440" cy="1081080"/>
          </a:xfrm>
          <a:prstGeom prst="flowChartAlternateProcess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w Cen MT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w Cen MT"/>
              </a:rPr>
              <a:t>- حملة التضامن مع قضيَّة اللاجئين في دول العالم تُنْبِأ بتعاطف دولي مع قضيته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نجمة مكونة من 12 نقطة 8"/>
          <p:cNvSpPr/>
          <p:nvPr/>
        </p:nvSpPr>
        <p:spPr>
          <a:xfrm>
            <a:off x="6443640" y="5589720"/>
            <a:ext cx="2305080" cy="1008000"/>
          </a:xfrm>
          <a:prstGeom prst="pie">
            <a:avLst/>
          </a:prstGeom>
          <a:solidFill>
            <a:srgbClr val="ebddc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Tw Cen MT"/>
              </a:rPr>
              <a:t>تُنْبِأ</a:t>
            </a:r>
            <a:r>
              <a:rPr b="1" lang="ar-SA" sz="20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سهم إلى اليسار 9"/>
          <p:cNvSpPr/>
          <p:nvPr/>
        </p:nvSpPr>
        <p:spPr>
          <a:xfrm>
            <a:off x="4788000" y="5483160"/>
            <a:ext cx="1512720" cy="11527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d8b25c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</a:rPr>
              <a:t>الصّواب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زاوية مطوية 10"/>
          <p:cNvSpPr/>
          <p:nvPr/>
        </p:nvSpPr>
        <p:spPr>
          <a:xfrm>
            <a:off x="2124000" y="5483160"/>
            <a:ext cx="2303640" cy="1009800"/>
          </a:xfrm>
          <a:prstGeom prst="foldedCorner">
            <a:avLst>
              <a:gd name="adj" fmla="val 16666"/>
            </a:avLst>
          </a:prstGeom>
          <a:solidFill>
            <a:srgbClr val="f7f0d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0190b"/>
                </a:solidFill>
                <a:latin typeface="Tw Cen MT"/>
              </a:rPr>
              <a:t>تُنْبِ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3T10:06:55Z</dcterms:created>
  <dc:creator/>
  <dc:description/>
  <dc:language>en-US</dc:language>
  <cp:lastModifiedBy/>
  <dcterms:modified xsi:type="dcterms:W3CDTF">2017-11-02T21:09:10Z</dcterms:modified>
  <cp:revision>0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