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38E-DA7A-42DB-A491-C99A210D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A3A-9EF5-4187-9E79-B6C22C72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7C4-FD2A-42C1-B88C-CB132E1B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B83-2E72-4577-A53F-C316C081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26D-4548-42DD-BD96-A88A0E95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EF5-A7D2-4D22-A0EB-B9D9AA5C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351-DE84-4E60-B0D1-157E5FF3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AA1-0ACA-4627-A279-83C7BCAD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845-631D-45F5-8202-E0122403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50E-DD91-4FF9-8318-86B74DE6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253-B5BD-4523-9DF7-B3DEF2F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93E-EDF1-4949-A6AF-146548DE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2D42F-AA2A-4F27-9667-FE540B1E7C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94331-D8CF-4847-BC29-CD16AA43AFB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142-1-1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142-1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142-2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142-2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142-3-1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142-3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10-01T02:42:18Z</dcterms:modified>
  <cp:revision>5</cp:revision>
  <dc:subject/>
  <dc:title>슬라이드 1</dc:title>
</cp:coreProperties>
</file>