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014-7C4A-4A6E-8AFD-3654FF20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3CA-3E2D-4FFE-970C-D62BD87B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D66-6161-4212-854A-2D83CDAE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D7C-97EB-44BB-9319-4C288C6C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B60-FC79-4F66-819A-853AB825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707-A718-457C-873E-5FB20009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90E-5E51-4DCB-8542-E088FA84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E98-7A8C-4F9B-B468-A3A1680C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4F6-9202-4EDE-B862-C0E7F46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B9E-83D8-4072-A9C7-A7575FBC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211-0D42-45ED-80D4-6D4509AE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546-F415-413D-BCDE-4ACC4881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04CEC-DE1B-4E64-BA97-8B21A7CDF79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6ACCD-37BE-4B8F-A109-3DB21E7C780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142-1-1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142-1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142-2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142-2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142-3-1 copy"/>
          <p:cNvPicPr/>
          <p:nvPr/>
        </p:nvPicPr>
        <p:blipFill>
          <a:blip r:embed="rId6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142-3-2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10-01T02:42:18Z</dcterms:modified>
  <cp:revision>5</cp:revision>
  <dc:subject/>
  <dc:title>슬라이드 1</dc:title>
</cp:coreProperties>
</file>