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7C5-3842-41DB-8A63-E3963B37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E0D-3C89-4637-BB4F-AF4F567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B11-6DFE-4F3B-A4A9-10711C48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58E-F416-4AB2-AE35-B72821D5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C0F-EACA-4932-80F7-3EC0DCA5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A2B-31FE-4144-9B4D-3C3C4E49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56D-D232-46E8-817C-83EAC95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0CE-EE0D-4738-B930-8FA5342E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624-CC19-409C-AA28-BA27F26B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F03-FEBD-4DE3-852F-6E85C4A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88E-22EA-417E-9C7F-5CFBEA06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2F9-51B7-4CE5-9013-B61432B0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53B-17B2-44F5-9DA9-DF27B966FC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9T16:58:04Z</dcterms:created>
  <dc:creator>Lipsio  Carvalho Chaves</dc:creator>
  <dc:description/>
  <dc:language>en-US</dc:language>
  <cp:lastModifiedBy>Smets</cp:lastModifiedBy>
  <dcterms:modified xsi:type="dcterms:W3CDTF">2009-02-03T18:38:03Z</dcterms:modified>
  <cp:revision>4</cp:revision>
  <dc:subject/>
  <dc:title> ESPETACULAR !!!</dc:title>
</cp:coreProperties>
</file>