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F76C-1464-42FE-9557-59E8982D58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547-7EA4-405F-8D3D-97203253B5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C903-7CEF-46BE-8687-1830984851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554-1C57-4ACE-A34E-633A661F1C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725-BF6A-41E7-AEF0-6598F80F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CDE-408D-4109-A5A2-8EAC4A87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867-C56F-4B96-BBD1-172F2710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980-4D22-4CFA-9FFD-698B807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496-BE0E-431F-A859-8E24559D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1F7-A284-4BDD-9554-E8EBE361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209-44FE-439E-8757-1475647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DE97-6947-477C-B664-0C66E81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5707-8D85-4394-A629-8F3814E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0C3-FD10-4A96-9F3B-4C80542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9667-5666-4523-8B03-54DD72F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DD2-F80D-4ADF-9A1B-B7E52A4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0E58-AF39-4CE9-BAE8-A24FB66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9A8-DBE5-4BA8-81EB-9FA6AC9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6D5-8D78-40C8-9A35-A2D101A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47A5-D5EB-4282-B3D6-B68A7255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373-B9AD-4922-8389-3738CF17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8E4-DC2C-466B-A322-9BF31A2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C37-678B-4AF2-985B-2BE37BC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211-8694-45E4-858E-C49A0214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A1D-122F-4C4B-8D79-DA065C16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B3F-1586-4E7D-BBC4-6825F9B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E80-4326-4717-9A3D-AFD4A9A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4B5-D80B-4B3E-93F2-87A89C7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BF0-A76C-4BC4-AABD-AA21F770CF4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5246-8394-4619-9A0C-A3690C9F5AC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773360"/>
            <a:ext cx="8281800" cy="1726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7848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LOS CONTRATOS Y LA ADMINISTRACION PÚBL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63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Profesor: Mg. Miguel Rodríguez Alb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Trujillo, 26 de Marz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016000" cy="9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870160" y="6206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FC4E-7490-43E3-B1E5-7CF9F7A280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921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ey Nº 26850 – Ley de Contrataciones y Adquisiciones del Estado y sus modif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71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eriormente, el 3 de julio de 2004 se publicó la Ley Nº 28267 – Ley  que modificó a la Ley Nº 26850 – Ley de Contrataciones y Adquisiciones del Estado (LCAE). Con fecha 29 de noviembre de 2004, se publicaron los Decretos Supremos Nº 083-2004-PCM y Nº 084-2004-PCM, que aprobaron el Texto Único Ordenado de la Ley de Contrataciones y adquisiciones del Estado (TUO de la LCAE) y su nuevo Reglamento, respectivamen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10D-C7B5-4CE4-9871-FC86AB63C0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S CONTRATOS Y LA LEY DE CONTRA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contratos que celebra el Estado como resultado del desarrollo de los procesos de selec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adquisición de bi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suministro de bi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ejecución de ob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arrendamiento de bienes a favor del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tos de servicios (en general o de consultorí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E0D-E673-4F61-9216-000D2AC6B1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C3D-1B37-4BB1-8368-2D64E1DC20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453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330066"/>
                </a:solidFill>
                <a:latin typeface="Arial"/>
              </a:rPr>
              <a:t>CONTRATACIONES DEL ES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Estado está constituido por un conjunto de Entidades, cada una de las cuales desarrolla determinadas actividades para cumplir las funciones asignadas de acuerdo a l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 ello, las Entidades del Estado necesitan vincularse con los particulares para que las provean de los bienes,  servicios y ejecución de obras que requieren para satisfacer sus necesidades y las necesidades públ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83528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802-6870-4006-899E-1E14654C4D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22400"/>
            <a:ext cx="659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330066"/>
                </a:solidFill>
                <a:latin typeface="Arial"/>
              </a:rPr>
              <a:t>CONTRATACIONES DEL ES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Estado se vincula con los particulares mediante la figura jurídica del contrato. De acuerdo con el artículo 1361º del Código Civil, el contrato es el acuerdo de dos o más partes para crear, regular, modificar o extinguir una relación jurídica patrimon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hora, cuando una Entidad Pública interviene en un contrato, estamos en presencia de un contrato del Estado, es decir, una  de las partes es una Entidad del Estado y la otra parte es un particular. Este contrato es el instrumento para que la Entidad del Estado alcance sus objetivos tra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B3B-3641-4695-AF24-5EACD5071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0"/>
            <a:ext cx="8064360" cy="1341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2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669999"/>
                </a:solidFill>
                <a:latin typeface="Arial"/>
              </a:rPr>
              <a:t>Contratos de la Administración Pública (*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 el punto de partida es que el Estado tiene dos personalidades, una pública y una privada, se debe utilizar las siguientes denomin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Contratos administrativos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, a los contratos celebrados en ejercicio de la personalidad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Contratos privados de la Administración Pública (o del Estado)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, cuando ejerce su personalidad priv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Administración Pú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Ricardo Salazar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code – PEACE, Junio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4941720"/>
          <a:ext cx="97164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41720"/>
                    <a:ext cx="97164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5FC-8216-4FEE-9EEB-1B556DBDB3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6699"/>
                </a:solidFill>
                <a:latin typeface="Arial"/>
              </a:rPr>
              <a:t>Función Administ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99"/>
                </a:solidFill>
                <a:latin typeface="Arial"/>
              </a:rPr>
              <a:t>La Función Administrativa se manifiesta a través de varias formas juríd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Regla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Acto Administ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Acto de Administración (o Acto de Administración Intern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Contrato de la Administración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Hecho Administ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47640" y="4508640"/>
          <a:ext cx="1981440" cy="12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508640"/>
                    <a:ext cx="198144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0FA-0115-426B-BC3A-FEBF9BECAA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Normas Constitucionales </a:t>
            </a:r>
            <a:br>
              <a:rPr sz="3500"/>
            </a:b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sobre Contrat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782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s-ES_tradnl" sz="2600" spc="-1" strike="noStrike">
                <a:solidFill>
                  <a:srgbClr val="336699"/>
                </a:solidFill>
                <a:latin typeface="Arial"/>
              </a:rPr>
              <a:t>La Constitución Política contiene  artículos directamente destinados a establecer los principios de la contratación en el Per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19640" y="2276640"/>
            <a:ext cx="35956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2º, inciso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62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63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336699"/>
                </a:solidFill>
                <a:latin typeface="Arial"/>
              </a:rPr>
              <a:t>Artículo 76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016360" cy="1033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E4F-3FD5-468F-8C0D-D2370C29ED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tratación del Estado en la Constitución Perua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l Artículo 76º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de la Constitución establece que: “Las obras y la adquisición de suministros con utilización de fondos o recursos públicos se ejecutan obligatoriamente por contrata y licitación pública, así como también la adquisición o la enajenación de bienes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l Tribunal Constitucional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al respecto, expresa que la norma en mención tiene la función de garantizar “que las contrataciones estatales se efectúen necesariamente mediante un procedimiento peculiar que asegure que los bienes,  servicios u obras se obtengan de manera oportuna, con la mejor oferta económica y técnica, y respetando principios tales como la transparencia en las operaciones, la imparcialidad, la libre competencia y el trato justo e igualitario a los potenciales proveedores (...) su objeto es lograr el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mayor grado de eficienci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en las adquisiciones o enajenaciones efectuadas por el Estado (...) para evitar la corrupción y malversación de fondos públicos</a:t>
            </a: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ntencia del Tribunal Constitucional de fecha 17 de mayo del 2004 recaída en el Expediente Nº 020-2003-AI/TC. Fundamento 1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719-7AA6-4EC4-893F-A0D6DD424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Normativo de las Contra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71900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ey Nº 26850 – Ley de Contrataciones y Adquisiciones del Estado (LCAE) y su Reg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dquisiciones y contrataciones a cargo de los organismos y entidades del Estado</a:t>
            </a:r>
            <a:r>
              <a:rPr b="0" lang="es-ES" sz="21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2]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hasta el 28 de septiembre de 1998, se regían con normatividad diferenciada según sean para bienes y servicios no personales (RUA), ejecución de obras (RULCOP) o servicios de consultoría (REGAC). A partir del 29 de septiembre de 1998 todas las contrataciones y adquisiciones del Sector Público, tanto para bienes y servicios no personales como para  la ejecución de obras  y servicios de consultoría, se rigen sólo por la normativa de la Ley de Contrataciones y Adquisiciones del Estado –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ey Nº 26850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su Reglamento y sus Modificato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2]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CASTILLO CHÁVEZ, José. Sistema de Abastecimiento: Contrataciones y Adquisiciones del Estado. 2da Edición. Editora y Distribuidora Real SRL. Lima. 2006. p. 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96E-82A2-4CC9-BFA7-CFDE45F955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50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Ley Nº 26850 – Ley de Contrataciones y Adquisiciones del Estado y sus modif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3 de agosto de 1997 se publicó la Ley Nº 26850 – Ley de Contrataciones y Adquisiciones del Estado y entró en vigencia el 29 de septiembre de 1998, con su Reglamento aprobado por Decreto Supremo Nº 039-98-PCM  y publicado el 28 de septiembre de 19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y Nº 26850</a:t>
            </a:r>
            <a:r>
              <a:rPr b="0" lang="es-ES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[3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rogó el Reglamento Único para el Suministro de Bienes y Prestación de Servicios No Personales para el Sector Público – RUA, aprobado por Decreto Supremo Nº 065-85-PCM; el Reglamento Único de Licitaciones y Contratos de Obras Públicas – RULCOP, aprobad por Decreto Supremo Nº 034-80-VC y el reglamento General de Actividades de Consultoría – REGAC, aprobado por Decreto Supremo Nº 208-87-EF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fectuaron modificaciones a la Ley Nº 26850 mediante las leyes: Nº 27070 (18 de marzo de 1999); Nº 27148 (25 de junio de 1999) y Nº 27330 (25 de julio de 2000). Estas modificaciones determinaron la promulgación del Decreto Supremo Nº 012-2001-PCM que aprobó el Texto Único Ordenado de la Ley de Contrataciones y Adquisiciones del Estado y del Decreto Supremo Nº 013-2001-PCM que aprobó el Reglamento de la Ley de Contrataciones y Adquisiciones del Estado; estas normas entraron en vigencia el 15 de marzo de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[3]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CASTILLO CHÁVEZ, José. Op. cit. p. 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C2E-4541-4320-846A-B1C171FE73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3:56:22Z</dcterms:created>
  <dc:creator>Usuario</dc:creator>
  <dc:description/>
  <dc:language>en-US</dc:language>
  <cp:lastModifiedBy>Usuario</cp:lastModifiedBy>
  <dcterms:modified xsi:type="dcterms:W3CDTF">2008-03-26T15:21:33Z</dcterms:modified>
  <cp:revision>3</cp:revision>
  <dc:subject/>
  <dc:title>LA CONTRATACION DEL ESTADO</dc:title>
</cp:coreProperties>
</file>