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79C3-145D-4300-ACA7-B5EBC9F792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2DA-8FAF-47AE-BB9C-F47B9BD3B2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1E1-7B4C-4045-84A4-2BBE8B4D6D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0862-D75C-4385-BE11-76363AABF2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C2A-BC2B-4AE4-9694-E92CBAAD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CA7-1491-49BA-AB77-F39CAF56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904-7EBB-4166-A881-39C12E9C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E85-5081-4BD5-873E-26008226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F673-F2EC-44A7-AAB7-62EFAC0A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6D9-189A-4AB5-AB4A-65DFC07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8422-D4F5-4E3A-BCE2-835A18C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02B-AC77-4642-8B83-C74E879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927D-7519-443D-A28B-88A35A1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970C-54B5-4844-B8AE-DB1268D8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2F6B-8200-4B11-B8AA-2BF3631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925-FA6D-4E0E-9ED9-20C4F56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649E-46ED-4FAF-AD3A-872752F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185D-1C3D-40F4-B548-7BBD6B1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427F-4529-4805-AA39-F88D4D62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0787-E05B-46A6-A0CE-6EF2F528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3446-4532-4300-BD27-EBF3590D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8BB-2393-42ED-A849-38ED736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52B-0C4F-4297-BA0A-6BC0C9B8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2B8-2C1E-4375-BEE6-E0771C5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978-C6FF-4299-9038-1D089B2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1EF-C383-41AC-ACAF-FE5D9E9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61C-CFA1-4251-B093-0D27CB1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40C-1159-43B2-AA12-74155EF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9E8-AB57-402F-B2F3-A778B6C657C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395-60CE-4BF0-97E5-8CF3F9A607E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773360"/>
            <a:ext cx="8281800" cy="1726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7848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LOS CONTRATOS Y LA ADMINISTRACION PÚBL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633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Profesor: Mg. Miguel Rodríguez Alb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Trujillo, 26 de Marz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016000" cy="98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870160" y="6206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1BD-C9EF-4D8F-9489-52B541839E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921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Ley Nº 26850 – Ley de Contrataciones y Adquisiciones del Estado y sus modif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19360"/>
            <a:ext cx="871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eriormente, el 3 de julio de 2004 se publicó la Ley Nº 28267 – Ley  que modificó a la Ley Nº 26850 – Ley de Contrataciones y Adquisiciones del Estado (LCAE). Con fecha 29 de noviembre de 2004, se publicaron los Decretos Supremos Nº 083-2004-PCM y Nº 084-2004-PCM, que aprobaron el Texto Único Ordenado de la Ley de Contrataciones y adquisiciones del Estado (TUO de la LCAE) y su nuevo Reglamento, respectivamen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A65-A2BC-4DF8-AF62-2ABFBD7738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S CONTRATOS Y LA LEY DE CONTRA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contratos que celebra el Estado como resultado del desarrollo de los procesos de selec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adquisición de bi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suministro de bi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ejecución de ob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arrendamiento de bienes a favor del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servicios (en general o de consultorí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4D4-3D33-49F5-8ABF-77767D86A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DEB-FF60-458D-84DB-E80A564C77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6453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330066"/>
                </a:solidFill>
                <a:latin typeface="Arial"/>
              </a:rPr>
              <a:t>CONTRATACIONES DEL ESTA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9647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Estado está constituido por un conjunto de Entidades, cada una de las cuales desarrolla determinadas actividades para cumplir las funciones asignadas de acuerdo a l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 ello, las Entidades del Estado necesitan vincularse con los particulares para que las provean de los bienes,  servicios y ejecución de obras que requieren para satisfacer sus necesidades y las necesidades públ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83528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11E-C9A5-47DC-9DCB-CC9B1790F7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22400"/>
            <a:ext cx="659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330066"/>
                </a:solidFill>
                <a:latin typeface="Arial"/>
              </a:rPr>
              <a:t>CONTRATACIONES DEL ESTA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Estado se vincula con los particulares mediante la figura jurídica del contrato. De acuerdo con el artículo 1361º del Código Civil, el contrato es el acuerdo de dos o más partes para crear, regular, modificar o extinguir una relación jurídica patrimon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hora, cuando una Entidad Pública interviene en un contrato, estamos en presencia de un contrato del Estado, es decir, una  de las partes es una Entidad del Estado y la otra parte es un particular. Este contrato es el instrumento para que la Entidad del Estado alcance sus objetivos tra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A75-D46A-407C-93A4-341509E468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0"/>
            <a:ext cx="8064360" cy="1341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2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669999"/>
                </a:solidFill>
                <a:latin typeface="Arial"/>
              </a:rPr>
              <a:t>Contratos de la Administración Pública (*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i el punto de partida es que el Estado tiene dos personalidades, una pública y una privada, se debe utilizar las siguientes denomin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Contratos administrativos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, a los contratos celebrados en ejercicio de la personalidad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Contratos privados de la Administración Pública (o del Estado)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, cuando ejerce su personalidad priv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Administración Pú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Ricardo Salazar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ucode – PEACE, Junio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4941720"/>
          <a:ext cx="97164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41720"/>
                    <a:ext cx="97164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C4F-3B17-4F00-9560-A13426B71B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6699"/>
                </a:solidFill>
                <a:latin typeface="Arial"/>
              </a:rPr>
              <a:t>Función Administ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99"/>
                </a:solidFill>
                <a:latin typeface="Arial"/>
              </a:rPr>
              <a:t>La Función Administrativa se manifiesta a través de varias formas juríd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Regla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Acto Administ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Acto de Administración (o Acto de Administración Intern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Contrato de la Administración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Hecho Administ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47640" y="4508640"/>
          <a:ext cx="1981440" cy="12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508640"/>
                    <a:ext cx="198144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C8C-B8C4-4179-9C3F-15FAFBEED4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Normas Constitucionales </a:t>
            </a:r>
            <a:br>
              <a:rPr sz="3500"/>
            </a:b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sobre Contrat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782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La Constitución Política contiene  artículos directamente destinados a establecer los principios de la contratación en el Per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19640" y="2276640"/>
            <a:ext cx="359568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2º, inciso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62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63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76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016360" cy="1033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35F-0BA9-4BB6-A134-4D106F7023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tratación del Estado en la Constitución Perua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l Artículo 76º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de la Constitución establece que: “Las obras y la adquisición de suministros con utilización de fondos o recursos públicos se ejecutan obligatoriamente por contrata y licitación pública, así como también la adquisición o la enajenación de bienes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l Tribunal Constitucional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al respecto, expresa que la norma en mención tiene la función de garantizar “que las contrataciones estatales se efectúen necesariamente mediante un procedimiento peculiar que asegure que los bienes,  servicios u obras se obtengan de manera oportuna, con la mejor oferta económica y técnica, y respetando principios tales como la transparencia en las operaciones, la imparcialidad, la libre competencia y el trato justo e igualitario a los potenciales proveedores (...) su objeto es lograr el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mayor grado de eficienci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en las adquisiciones o enajenaciones efectuadas por el Estado (...) para evitar la corrupción y malversación de fondos públicos</a:t>
            </a:r>
            <a:r>
              <a:rPr b="0" lang="es-ES_tradnl" sz="21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_tradnl" sz="21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ntencia del Tribunal Constitucional de fecha 17 de mayo del 2004 recaída en el Expediente Nº 020-2003-AI/TC. Fundamento 1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1A4-82A3-48EE-A5ED-4720B6E26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Normativo de las Contra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71900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ey Nº 26850 – Ley de Contrataciones y Adquisiciones del Estado (LCAE) y su Reg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dquisiciones y contrataciones a cargo de los organismos y entidades del Estado</a:t>
            </a:r>
            <a:r>
              <a:rPr b="0" lang="es-ES" sz="21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[2]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hasta el 28 de septiembre de 1998, se regían con normatividad diferenciada según sean para bienes y servicios no personales (RUA), ejecución de obras (RULCOP) o servicios de consultoría (REGAC). A partir del 29 de septiembre de 1998 todas las contrataciones y adquisiciones del Sector Público, tanto para bienes y servicios no personales como para  la ejecución de obras  y servicios de consultoría, se rigen sólo por la normativa de la Ley de Contrataciones y Adquisiciones del Estado –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ey Nº 26850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su Reglamento y sus Modificato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[2]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CASTILLO CHÁVEZ, José. Sistema de Abastecimiento: Contrataciones y Adquisiciones del Estado. 2da Edición. Editora y Distribuidora Real SRL. Lima. 2006. p. 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279-6F0A-42C5-AE21-D7BE7AE0E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50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Ley Nº 26850 – Ley de Contrataciones y Adquisiciones del Estado y sus modif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3 de agosto de 1997 se publicó la Ley Nº 26850 – Ley de Contrataciones y Adquisiciones del Estado y entró en vigencia el 29 de septiembre de 1998, con su Reglamento aprobado por Decreto Supremo Nº 039-98-PCM  y publicado el 28 de septiembre de 19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ey Nº 26850</a:t>
            </a:r>
            <a:r>
              <a:rPr b="0" lang="es-ES" sz="18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[3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rogó el Reglamento Único para el Suministro de Bienes y Prestación de Servicios No Personales para el Sector Público – RUA, aprobado por Decreto Supremo Nº 065-85-PCM; el Reglamento Único de Licitaciones y Contratos de Obras Públicas – RULCOP, aprobad por Decreto Supremo Nº 034-80-VC y el reglamento General de Actividades de Consultoría – REGAC, aprobado por Decreto Supremo Nº 208-87-EF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fectuaron modificaciones a la Ley Nº 26850 mediante las leyes: Nº 27070 (18 de marzo de 1999); Nº 27148 (25 de junio de 1999) y Nº 27330 (25 de julio de 2000). Estas modificaciones determinaron la promulgación del Decreto Supremo Nº 012-2001-PCM que aprobó el Texto Único Ordenado de la Ley de Contrataciones y Adquisiciones del Estado y del Decreto Supremo Nº 013-2001-PCM que aprobó el Reglamento de la Ley de Contrataciones y Adquisiciones del Estado; estas normas entraron en vigencia el 15 de marzo de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[3]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CASTILLO CHÁVEZ, José. Op. cit. p. 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05C-7868-4D07-9EA2-ED210BCE3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3:56:22Z</dcterms:created>
  <dc:creator>Usuario</dc:creator>
  <dc:description/>
  <dc:language>en-US</dc:language>
  <cp:lastModifiedBy>Usuario</cp:lastModifiedBy>
  <dcterms:modified xsi:type="dcterms:W3CDTF">2008-03-26T15:21:33Z</dcterms:modified>
  <cp:revision>3</cp:revision>
  <dc:subject/>
  <dc:title>LA CONTRATACION DEL ESTADO</dc:title>
</cp:coreProperties>
</file>