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542-6E80-4452-BB77-553356F8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40F-1A02-463A-A618-E4C4411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723-F802-4D08-9FD5-B0D1B26D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B57-129C-41D8-8A67-0633509B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755-1B30-4F2E-B640-7EFDE8B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BA2-FF7E-4A2F-8674-2ED80EB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2EB-E2E6-4752-9B84-C8E3EB3D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AD0-8574-4C24-A083-92AA4F8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3B4-6645-4E51-95E9-6BF6D9A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55C-98C6-4069-841E-88589338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C1A-3E21-4AD5-BF89-EDAA393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2C5-90EC-432E-9E34-4D22115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BC2FE-3D8B-45AD-9838-456D35B9AE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A865F-D46A-4EFD-97A6-B70B09D4098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4-09-24T07:55:42Z</dcterms:modified>
  <cp:revision>3</cp:revision>
  <dc:subject/>
  <dc:title>슬라이드 1</dc:title>
</cp:coreProperties>
</file>