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879-EC22-411E-8CF2-C199A3F4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04D-0E2A-434F-B310-EF1A2C2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10A-1CB3-47D0-9906-8C3F9570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2E8-C6B7-4017-BA66-BFF2CB6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A1F-C8A9-42F0-99CC-F82AAC7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6B9-B422-44A2-81FA-FA5B4557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99D-332F-434F-9ED0-1FEE3080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B63-059D-4A30-B92C-87BC6F8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5C9-B467-4663-8B9A-D1C556C9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2C6-D78D-4313-B114-AFEA5ED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27C-0471-43CB-97B7-F361C8E4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4D1-19EE-4ACF-A730-DB7C537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783EE-FDD1-4A1A-B14C-E11864945C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3AC6C-14D3-4B9B-AA53-A11AAB0FCE9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4-09-24T07:55:42Z</dcterms:modified>
  <cp:revision>3</cp:revision>
  <dc:subject/>
  <dc:title>슬라이드 1</dc:title>
</cp:coreProperties>
</file>